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9E6-248F-4324-9FF4-6413B0C0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155-C9B5-4BDD-8301-1EBAC9C0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FC1-4A42-4733-8292-D0A63B49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111-7CC3-42AC-A7BD-F8C6A6A7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F2AA-23DE-4C1D-B271-64F5C2EA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5A29-2564-4FF6-9827-D48D458C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D08D-6B9C-436C-961C-87F67E26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927A-95CE-4F3B-AF0B-2B53C23C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12A1-9CB2-4AD0-ADF6-3CDC3A88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5DB6-3B68-4DDE-AA0D-47B9241A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790-ED98-4CCD-BA62-E0F2D73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AF4-8356-4679-8DF2-2E15CEA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397-70EA-48B9-B393-C4121B5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AE4E-FA3F-4A5D-9773-FD7D3DE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8235-DF62-4F07-AACB-D02ABA4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9F63-74B7-494F-9564-35366FBB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C3D8-C293-4843-98F0-D9AEDE07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6F5-B6F3-4453-A775-8A856B02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0E7-F935-407F-B0C2-6CF79F43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8B8-3BBB-403F-8422-17FC004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6AD-4828-4AA9-8DD1-5894BA47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625-649B-458C-928B-2AF6B9B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ECA-C6A0-4E39-B2F4-A8A55F0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A14-2C38-464C-8999-8D7DC1C4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00000" y="623736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92000" y="6237360"/>
            <a:ext cx="53406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E44B-30FC-4923-BFBE-B4D3A32EC1B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87F8-B8A8-4FE7-A574-CE51C3B689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ience.am/ca/policy" TargetMode="External"/><Relationship Id="rId2" Type="http://schemas.openxmlformats.org/officeDocument/2006/relationships/hyperlink" Target="http://www.escience.am/ca/policy" TargetMode="External"/><Relationship Id="rId3" Type="http://schemas.openxmlformats.org/officeDocument/2006/relationships/hyperlink" Target="http://www.escience.am/ca/policy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rmeSFo CA update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including self-audit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5080" y="4149360"/>
            <a:ext cx="3959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menian e-Science Foundatio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sen Hayrapetyan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93080" y="504720"/>
            <a:ext cx="13906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RAs to the list of entities who can request revocati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ing CA encrypted private key from the pass phras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s were issued in v1 format. V2 format was recommended by Audito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ing the role of RA in proper section of the CP/CP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↑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lDistributionPoints extension points to PEM-formatted certifica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F0C-3C55-4DA6-A37B-D416726FF8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s rated differently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842472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ving the safe with CA machine to the room where the physical access is restricted to CA personnel solely (access to the safe itsel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restricted to CA personnel solel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tructuring CP/CPS according to RFC 364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lf-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  <a:ea typeface="Arial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external audi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P/CPS does not include the CA obligation to maintain the archive of records collected by RA, but it is included in ArmeSFo CA agreement with its R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202-A842-4D6A-9640-75DB876F27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2362320"/>
            <a:ext cx="769284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s related to physical securit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CA machine safe to more protected area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 (we will probably move it in sp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ng encrypted key from its password (D or C):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ending, will be fixed together with previous iss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/CPS-related issues –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t fixed yet (planned for March-Apri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 policy approval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s are not specified as entities who can request rev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 or 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 operation is nor described in sufficient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28B-9442-44D7-A840-FF80E75744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 on identified issu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omise and disaster recover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 document detailing the procedure for CA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forma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lDistributionPoints extension in EE certificates points to PEM-formatted CRL. Should be DER-forma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L version (D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we issue v2 CRL 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ation of SHA1 and MD5 sums of CA root certificate in the CA repository along with instructions how to verify them (C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ixed, the info is published in CA reposi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7D2-B580-4211-9039-D648130C34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tus since January 2008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42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presented at 1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UGridPMA meeting, January 2008, Amsterdam, Netherlan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n…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new versions of CP/CPS issu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profile harmonised with Grid Certificate Profile v0.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 of issued EE certificates discontinued: LDAP repository is no longer maintain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d to CRL v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ed by external auditor - Jens Jensen, UK e-Science 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3C4-26F4-4633-A01D-4EA3E2282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/CPS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ly certificate profile changes - GCP v0.25 is implemented for EE certificat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 root certificate had been accorded with GCP v0.25 prior to January 2008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B5D-B0E7-43C0-B51B-176A19907A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rtificate profile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34440" y="2361960"/>
            <a:ext cx="834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removed from EE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ertType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Base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aCaPolicy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omment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nsCaRevocationUrl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subject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issuerAlt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add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s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extendedKeyUsage: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clientAuth, serverA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un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U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/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s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nonRepudiation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keyAgre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se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endedKeyUs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rtificate: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emailProt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can be traced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ion His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P/CPSes (vv 0.5, 0.6, 0.7)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science.am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ca/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FFC-4ED7-45BC-BCED-B06F024B54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L 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7920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CRL v2 is recommended b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IETF PKI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F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28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to CRL v2 was rated as high-priority issue by the Auditor (mark D) during external aud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starting with CP/CPS v0.7 (came into effect on 12 June 2009), we are issuing CRL v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CRL extensions are set: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cRLNumber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authorityKeyIdentif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2B2-C254-4759-8F6B-B5ED78560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f and external aud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audit performed in December 200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sent to EUGridP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or appointed by PMA: David O’Callagha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ted by Jens Jensen during his visit to Armenia (to work on NATO Collaborative Linkage Grant “Improved Cybersecurity for NATO Partner Countries”), 04-07 June 2009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audit issues fix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789-B06F-483B-86BA-7B7FF0B354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self-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s were rated on the sc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it is OK”),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inor recommendation”, would be nice to change)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major recommendation”, this really ought to be changed)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Advice”, MUST be actually changed), X (“not applicable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 issues of type 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10 issues of type 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5 issues of type 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F5B-D401-4C6C-AEAE-E43EFD088C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f the external aud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dentified by external Auditor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 issues of type 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 issues of type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 issues of type 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8E7-061F-4470-B38F-BE21440BAE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ison of the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2424240"/>
          <a:ext cx="6397560" cy="3697200"/>
        </p:xfrm>
        <a:graphic>
          <a:graphicData uri="http://schemas.openxmlformats.org/drawingml/2006/table">
            <a:tbl>
              <a:tblPr/>
              <a:tblGrid>
                <a:gridCol w="4094280"/>
                <a:gridCol w="2303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em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↓ external aud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ite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th EuGridPMA meeting, Dublin, Ireland, 18-20 Jan 20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3E7-CA27-43E0-969D-9F183EC4F0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5:26:32Z</dcterms:created>
  <dc:creator>User</dc:creator>
  <dc:description/>
  <dc:language>en-US</dc:language>
  <cp:lastModifiedBy>User</cp:lastModifiedBy>
  <dcterms:modified xsi:type="dcterms:W3CDTF">2010-01-16T19:22:09Z</dcterms:modified>
  <cp:revision>11</cp:revision>
  <dc:subject/>
  <dc:title>ArmeSFo CA update (including self-audit)</dc:title>
</cp:coreProperties>
</file>