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491E-002B-48A4-AFE1-AD3B06BF6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7724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4197960"/>
            <a:ext cx="77724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1D47-A91A-4302-9B78-00343B3A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419796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040" y="419796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2C9C-78FA-4D88-9D4F-C45F805E1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220464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0000" y="220464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419796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419796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0000" y="419796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23AB-6373-439E-ADA6-23A020486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F3F4-61FD-4EEC-BA1E-EDB79BA6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806D-2DF8-44DB-B577-21B4D4FC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F8DF-8E1C-47AE-9CDB-8BB72B06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2943-7203-4EE7-A421-9C1501DC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98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7123-F73F-45BD-B76F-BD6BE96F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419796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86BE-B0EB-487F-96F8-A485E239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040" y="419796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A834-1F96-410B-9736-675A63FC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4197960"/>
            <a:ext cx="77724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8356-68B6-4406-B1AD-3C6BBDCE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FD28-57C5-4650-9E95-C57ECD254E9B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" name="Picture 7" descr="SCI_PPT_templ4"/>
          <p:cNvPicPr/>
          <p:nvPr/>
        </p:nvPicPr>
        <p:blipFill>
          <a:blip r:embed="rId2"/>
          <a:stretch/>
        </p:blipFill>
        <p:spPr>
          <a:xfrm>
            <a:off x="0" y="0"/>
            <a:ext cx="7162920" cy="15177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gridpp2_logo"/>
          <p:cNvPicPr/>
          <p:nvPr/>
        </p:nvPicPr>
        <p:blipFill>
          <a:blip r:embed="rId3"/>
          <a:stretch/>
        </p:blipFill>
        <p:spPr>
          <a:xfrm>
            <a:off x="7020000" y="115920"/>
            <a:ext cx="1979640" cy="55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grid.ie/eugridpma/wiki/InterWiki" TargetMode="External"/><Relationship Id="rId2" Type="http://schemas.openxmlformats.org/officeDocument/2006/relationships/hyperlink" Target="https://grid.ie/eugridpma/wiki/InterWiki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grid.ie/eugridpma/wiki/AA_Profile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Authorization W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Updat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avid Kelse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EU Grid PMA, Dubl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19 Jan 2010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5" name="Picture 4" descr="egee"/>
          <p:cNvPicPr/>
          <p:nvPr/>
        </p:nvPicPr>
        <p:blipFill>
          <a:blip r:embed="rId1"/>
          <a:stretch/>
        </p:blipFill>
        <p:spPr>
          <a:xfrm>
            <a:off x="324000" y="5373720"/>
            <a:ext cx="201924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LCGlogo"/>
          <p:cNvPicPr/>
          <p:nvPr/>
        </p:nvPicPr>
        <p:blipFill>
          <a:blip r:embed="rId2"/>
          <a:stretch/>
        </p:blipFill>
        <p:spPr>
          <a:xfrm>
            <a:off x="7524720" y="530064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Definition of “attribute”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An attribute is a string, a named property which may be associated with an entity... </a:t>
            </a:r>
            <a:r>
              <a:rPr b="0" i="1" lang="en-GB" sz="2800" spc="-1" strike="noStrike">
                <a:solidFill>
                  <a:srgbClr val="000000"/>
                </a:solidFill>
                <a:latin typeface="Lucida Grande"/>
              </a:rPr>
              <a:t>expand this definition</a:t>
            </a: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An attribute assertion is a statement that a subject is a holder of a specific attribute.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For VOMS, an attribute is a group, role or generalised attribute.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579B-B10F-47EB-8FF6-3E5B702EB610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ttributes (2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Lucida Grande"/>
              </a:rPr>
              <a:t>Explain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 Relying party requirements on lifetime of attributes, schema etc.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The attribute assertion must link the attribute to one and only one explicitly named entity.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The lifetime of the assertion should take into account the dynamic nature. Not more than 24 hours. (MS)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Dynamic updating of the attribute schema by the VO is required ...</a:t>
            </a:r>
            <a:r>
              <a:rPr b="0" i="1" lang="en-GB" sz="2400" spc="-1" strike="noStrike">
                <a:solidFill>
                  <a:srgbClr val="000000"/>
                </a:solidFill>
                <a:latin typeface="Lucida Grande"/>
              </a:rPr>
              <a:t>why?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23CB-74AB-453C-A2D9-A0CFA3CC58F3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P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Every AA must have an Attribute Practice Statement (APS Document) and assign it a globally unique object identifier (OID).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E6CA-12FE-493C-8726-B591A4A3617F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PS (2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This should at least contain: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persistent contact details for the AASP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document their operational environmen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state compliance with this polic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maintain accurate VO contact information for all the AAs they host and a link to the VO AUP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86A7-55B8-4D2A-BB76-3C999CA5C84E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PS (3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This APS should be public and made available, except for the operational environment which must be disclosed to the accrediting body.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APS document should be structured as defined in a templ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3F46-2FE4-4D15-8AF4-B7152AFE4183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ASP naming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The registered name is needed to ensure that different accreditation bodies do not accredit different AASPs with the same name inside the realm of one CA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AASP accrediting body should act as registrar for repository of AASPs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Naming ... AA:&lt;reasonable representation of name of aasp &gt; - &lt;arbitrary non-null string identify the server or VO set by CA or requested by AASP&gt;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Example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Lucida Grande"/>
                <a:hlinkClick r:id="rId1"/>
              </a:rPr>
              <a:t>cern</a:t>
            </a: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 - wlcg-voms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Or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Lucida Grande"/>
                <a:hlinkClick r:id="rId2"/>
              </a:rPr>
              <a:t>cern</a:t>
            </a: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 - voms411.cern.ch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76B0-B7BC-4782-9CDC-27F19F7B6717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ccreditation proces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Should be one AASP per organisation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Person requesting should be appropriately authorised by the organisation.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343F-9A34-4A30-AC28-183C65534729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ccreditation (2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These guidelines are intended to facilitate accreditation of </a:t>
            </a:r>
            <a:r>
              <a:rPr b="0" i="1" lang="en-GB" sz="1800" spc="-1" strike="noStrike">
                <a:solidFill>
                  <a:srgbClr val="000000"/>
                </a:solidFill>
                <a:latin typeface="Lucida Grande"/>
              </a:rPr>
              <a:t>Attribute Authority Service Providers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 rather than an individual Attribute Authority (a hardware/software installation) or Virtual Organization (a collaborative organisation). An </a:t>
            </a:r>
            <a:r>
              <a:rPr b="0" i="1" lang="en-GB" sz="1800" spc="-1" strike="noStrike">
                <a:solidFill>
                  <a:srgbClr val="000000"/>
                </a:solidFill>
                <a:latin typeface="Lucida Grande"/>
              </a:rPr>
              <a:t>Attribute Authority Service Provider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 is an organization (or group within an organization) that runs Attribute Authority Services, including one or more Attribute Authorities, for one or more Virtual Organizations. To achieve sustainability, an AASP </a:t>
            </a:r>
            <a:r>
              <a:rPr b="1" lang="en-GB" sz="1800" spc="-1" strike="noStrike">
                <a:solidFill>
                  <a:srgbClr val="000000"/>
                </a:solidFill>
                <a:latin typeface="Lucida Grande"/>
              </a:rPr>
              <a:t>should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 operate AA services as a long-term commitment.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A VO </a:t>
            </a:r>
            <a:r>
              <a:rPr b="1" lang="en-GB" sz="1800" spc="-1" strike="noStrike">
                <a:solidFill>
                  <a:srgbClr val="000000"/>
                </a:solidFill>
                <a:latin typeface="Lucida Grande"/>
              </a:rPr>
              <a:t>should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 have an AA operated by a single AASP. If the AA service is replicated for reasons of performance and/or fault tolerance then there </a:t>
            </a:r>
            <a:r>
              <a:rPr b="1" lang="en-GB" sz="1800" spc="-1" strike="noStrike">
                <a:solidFill>
                  <a:srgbClr val="000000"/>
                </a:solidFill>
                <a:latin typeface="Lucida Grande"/>
              </a:rPr>
              <a:t>must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 be means of ensuring consistency. If a VO wishes to have a distributed AA operated by multiple AASPs then these AASPs </a:t>
            </a:r>
            <a:r>
              <a:rPr b="1" lang="en-GB" sz="1800" spc="-1" strike="noStrike">
                <a:solidFill>
                  <a:srgbClr val="000000"/>
                </a:solidFill>
                <a:latin typeface="Lucida Grande"/>
              </a:rPr>
              <a:t>must</a:t>
            </a: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 be accredited individually.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B1E0-A811-4904-B347-750D39F1226F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ccreditation (3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The AA service should be operated in accordance with the requirements of the VO Membership Management Policy (ref) and this document.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Which body does the accreditation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Scaling problems!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7F3A-4FAC-4537-94F0-A83E87BE23E4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0012-EC65-4C04-9C03-387CB9E742FF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Grande"/>
              </a:rPr>
              <a:t>Mandate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Lucida Grande"/>
              </a:rPr>
              <a:t>EUGridPMA Working Group on Policy Management for Grid Authorisa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Lucida Grande"/>
              </a:rPr>
              <a:t>Mandate and aim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To prepare recommendations on policy and global trust issues related to Grid Authorisation (AuthZ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The initial list of issues will include: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Minimum requirements and best practice for the operation of a Grid AuthZ attribute authority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Etc etc etc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Progress since Jan 2009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Very little!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But, would now be useful to establish best practice as we move into the EGI era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So…To kick-start the activit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I propose to go through some of the issu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See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Lucida Grande"/>
                <a:hlinkClick r:id="rId1"/>
              </a:rPr>
              <a:t>https://grid.ie/eugridpma/wiki/AA_Profil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A82D-C5CC-4D4C-80AB-E7431C7C4759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A key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The AA signing key must have a minimum length of 2048 bits and should be dedicated to attribute signing functions and tied to the AASP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FED4-C190-49F2-B35B-054498CBD4BA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Key protec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Software-based private keys of the AA must be suitably protected by the operating system and must only be accessible by the service, trained personnel with procedural controls.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E6A5-4EC0-484E-8E4F-9EE06C4A02F9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Key protection (2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AAs are encouraged to consider using an HSM which must adopt a similar or better level of security.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Copies of the private key must be encrypted or must only be available in clear-text in a system which is at least as well protected as the original system.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28EB-7729-4D88-BED2-2739433C35CC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Key protection (3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Under “Site Security”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Lucida Grande"/>
              </a:rPr>
              <a:t>CA profile said...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The pass phrase of the encrypted private key must be kept also on an offline medium, separated from the encrypted keys and guarded in a safe place where only the authorized personnel of the Authority have access. Alternatively, another documented procedure that is equally secure may be used.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8C45-1C08-4FFE-94B0-0253724A3E9A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ssertion revoc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There is no revocation.... </a:t>
            </a:r>
            <a:r>
              <a:rPr b="0" i="1" lang="en-GB" sz="2000" spc="-1" strike="noStrike">
                <a:solidFill>
                  <a:srgbClr val="000000"/>
                </a:solidFill>
                <a:latin typeface="Lucida Grande"/>
              </a:rPr>
              <a:t>But RFC3281 has provision for a CRL.</a:t>
            </a: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The entire PKC certification path must be verified. Revocation of the AA certificate will kill all assertions signed by the AA. The AC is bound to a specific serial number of the end entity. Revocation of the end entity certificate must stop the issue of ACs. Also RP checks the validity of the identity certificate.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Revoking a specific AC makes no sense as there are many other issued ACs containing the same attributes.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There is no case for revoking ACs.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6A32-5BCD-4C9A-80E1-AC81118F2AAD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ssertion lifetim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Maximum lifetime of the assertion should be 24 hours... </a:t>
            </a:r>
            <a:r>
              <a:rPr b="0" i="1" lang="en-GB" sz="3200" spc="-1" strike="noStrike">
                <a:solidFill>
                  <a:srgbClr val="000000"/>
                </a:solidFill>
                <a:latin typeface="Lucida Grande"/>
              </a:rPr>
              <a:t>expand</a:t>
            </a: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Because there is no revocation mechanism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19 Jan 10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45E5-44B6-4E5F-AF3C-3E8531493214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4:19:45Z</dcterms:created>
  <dc:creator>D Kelsey</dc:creator>
  <dc:description/>
  <dc:language>en-US</dc:language>
  <cp:lastModifiedBy>Kelsey</cp:lastModifiedBy>
  <dcterms:modified xsi:type="dcterms:W3CDTF">2010-01-18T17:35:02Z</dcterms:modified>
  <cp:revision>75</cp:revision>
  <dc:subject/>
  <dc:title>Grid Security</dc:title>
</cp:coreProperties>
</file>