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8A2A68A-C7BA-4E4C-8BA6-AA6B10B1AF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B8C83D1-07E9-435F-BEBC-1E3A4E21FF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C271AE88-5E72-4085-BF64-996491A3629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CA5EE7B1-56A0-4F76-9B3F-5632C814DE9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14EE4D2E-5FF4-4768-BBA1-3166DDBFFD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781CD426-0867-46C7-B97A-7E8D8CE3BB2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BB460022-282C-48ED-AA79-F9137CC3758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BA043EC5-9648-4A80-9BB5-CAE2F9209CF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9ACCF924-EF31-4250-86D7-EC86DCA4304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9DC7F017-4FF1-4BA7-9973-F27B293E78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BE61315F-45F8-409D-B522-E3220E21CCE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3DDD50D0-FA45-47C6-B874-68772E1CBFA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Dublin meeting – Jan 2010 - </a:t>
              </a:r>
              <a:fld id="{1B36F2F4-2D10-4EAC-9E6D-2C193AA84E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Lucida Sans"/>
              </a:rPr>
              <a:t>IGTF Trust Anchor Distribution </a:t>
            </a:r>
            <a:br>
              <a:rPr sz="3600"/>
            </a:br>
            <a:r>
              <a:rPr b="1" i="1" lang="en-US" sz="2800" spc="-1" strike="noStrike">
                <a:solidFill>
                  <a:srgbClr val="990000"/>
                </a:solidFill>
                <a:latin typeface="Lucida Sans"/>
              </a:rPr>
              <a:t>in the wake of OpenSSL1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9, 2010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18</a:t>
            </a:r>
            <a:r>
              <a:rPr b="1" lang="en-US" sz="20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 EUGridPMA Dublin meeting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Fetch-cr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locationFiles=`${ls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"${locationDirectory}"/*.${crlLocationFileSuffix} \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2&gt;/dev/null`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find all files with a “.crl_url” suffix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the OpenSSL in the path (since v2.7) to compute the hash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ve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.r0 files will be hashed according to openssl version used 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by fetch-crl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, not target softwa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ke symlinks locally to get a dual-use 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provide a script, or an update to fetch-crl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lternativ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c_rehash (or other OS specific tools) local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hard copies instead of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ither as copies of PEM files, or only two copies of s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ke the links on the target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ln –s from the make 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ing a %post script in the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to be matched with a %preun which could fai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sulting links are not ‘owned’ by an RPM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llateral chang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RPM format to v4.4 ser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pdate Java keytool to Java6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w supports CA keys with keysize &gt; 2048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Keys will not work with old (pre-Java5) tools with Sun J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o-generated sequence numbers support multiple CAs with the same subject name but different alias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ias MUST be unique for each trust anch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ill not supported in fetch-crl, thoug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it’s dangerous anywa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see issues related to the two UTNUserFirst-Hardware CA certs, one self-signed and one by Comodo AA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Lucida Sans"/>
              </a:rPr>
              <a:t>Options for discussion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 still have only the old versio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ince “OpenSSL1 is still in beta only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and 1.34 releases, have both versions available with the old style as the advertised one for 1.33, and changing to the new one for 1.3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have both versions available with the </a:t>
            </a: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new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style as the advertised on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or 1.33 release, just have the new one, since it’s fully backward-compatible any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Or something else 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OPENSSL1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ucture of the trust anchor directo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ash functions and cod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ructure of the trust anchor sto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411120" y="936720"/>
            <a:ext cx="8732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cd /etc/grid-security/certificate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8$ ls -l|grep 16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5341 Oct 26 21:02 16da755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 40 Oct 26 21:02 16da7552.crl_ur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442 Oct 26 21:02 16da7552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630 Oct 26 21:02 16da7552.namespa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4842 Jan 13 08:17 16da7552.r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  342 Oct 26 21:02 16da7552.signing_poli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09$ ls -l policy-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2633 Oct 26 21:03 policy-igtf-classic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152 Oct 26 21:03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root root  256 Oct 26 21:03 policy-igtf-sl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sui:certificates:1010$ cat policy-igtf-mics.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@(#)policy-igtf-mics.info - IGTF mics author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Generated Monday, 26 Oct, 20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sion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s = TACC-MICS = 1.32, 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CSA-mics = 1.3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Hash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Hashes used for lookup of the issuing CA for a given certificat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dependent from the ‘fingerprint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$ openssl x509 -noout -subject -issuer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fingerprint -sha1 -hash \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-in 16da7552.0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bject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issuer= /C=NL/O=NIKHEF/CN=NIKHEF medium-security certification auth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HA1 Fingerprint=E5:FA:C3:3B:44:8F:26:1B:3D:D1:DE:BA:5F:EC:ED:35:A9:3F:23:21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16da755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Code changed in OpenSSL 1 bet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411120" y="936720"/>
            <a:ext cx="87328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SHA_DIGEST_LENGTH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canon_enc, x-&gt;canon_enclen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sha1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X509_NAME_hash_old(X509_NAME *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ret=0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char md[16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* Make sure X509_NAME structure contains valid cached encoding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2d_X509_NAME(x,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P_Digest(x-&gt;bytes-&gt;data, x-&gt;bytes-&gt;length, md, NULL,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VP_md5()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NULL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=(   ((unsigned long)md[0]     )|((unsigned long)md[1]&lt;&lt;8L)|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(unsigned long)md[2]&lt;&lt;16L)|((unsigned long)md[3]&lt;&lt;24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&amp;0xffffffff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ret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mpact of chang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: lookup will fail if a new OpenSSL is us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ups hap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the system OpenSSL, dynamically link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application-specific OpenSSL version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statically linked openssl librar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Via other implementations of the hash algorithm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.g. in the TrustManager Java implementatio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r in Apache, or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oth implementations will co-exist on single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Will thus requi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eparate trust stor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single trust store that supports both algorith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 for the IGTF distribu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installation bundles, tar-balls and RPMs: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l CAs and files are named after their alias from the info 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ymlinks are used to generate the structure for both versions of OpenSS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ation bundle (the "./configure &amp;&amp; make &amp;&amp; make install" tarball) will create both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installed bundles have both hashes, also using symlin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What gets into /etc/grid-security/certificates?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393f7863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crl_ur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0 -&gt; AEGIS.pe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info -&gt; AEGIS.info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namespaces -&gt; AEGIS.namesp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cc5645bd.signing_policy -&gt; AEGIS.signing_policy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ual packag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arget system does not need to run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orks for hybrid deployments,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ith some software linked to 0.x, others to 1.0, and others have built-in hashing cod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ymlinks may upset (or be messed up by) locally running c_rehash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nclear which one is used - when the links are severed different programs will react different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n’t work on filesystems that do not support symlin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0-01-13T15:05:18Z</dcterms:modified>
  <cp:revision>491</cp:revision>
  <dc:subject/>
  <dc:title>European Grid Policy Management Authority</dc:title>
</cp:coreProperties>
</file>