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17F-55E9-4030-8CCB-920FD3158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4490-A0F9-4CB7-BFB4-7DE01AE72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2" marL="982800" indent="-196560">
              <a:spcBef>
                <a:spcPts val="799"/>
              </a:spcBef>
              <a:buClr>
                <a:srgbClr val="ffffff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Frutiger 47Light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4" marL="1769040" indent="-196560">
              <a:spcBef>
                <a:spcPts val="799"/>
              </a:spcBef>
              <a:buClr>
                <a:srgbClr val="ffffff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Jens’ Soapbox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U GridPMA meeti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ublin, January 2010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ust based on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0720"/>
            <a:ext cx="7886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Knowledge pertaining to operation of CA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Knowing what to do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ormall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xceptional cases (devious flow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hen something goes wr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roving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ormal operatio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raining for CA managers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evious flow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Documentation – CAOP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covered by CA’s polic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apal infallibilit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roving Knowledge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haring between CA manager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ff the recor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en something goes wro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Gather unto the RAT for advi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ssuming the combined RAT has the skill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Symmetr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cts establish symmetric trus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.g. PMA trustbuildi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re asymmetric establisher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MA accreditatio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ome acts break symmetr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.g. violating minreq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lice trusts Bob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ob trusts Charli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harlie trusts Donna (etc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96" name="Oval 3"/>
          <p:cNvSpPr/>
          <p:nvPr/>
        </p:nvSpPr>
        <p:spPr>
          <a:xfrm>
            <a:off x="1285920" y="457200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14800" y="400068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4857840" y="4286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6072120" y="492912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7"/>
          <p:cNvSpPr/>
          <p:nvPr/>
        </p:nvSpPr>
        <p:spPr>
          <a:xfrm rot="20570400">
            <a:off x="1928520" y="43578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8"/>
          <p:cNvSpPr/>
          <p:nvPr/>
        </p:nvSpPr>
        <p:spPr>
          <a:xfrm rot="683400">
            <a:off x="3955680" y="421776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ght Arrow 9"/>
          <p:cNvSpPr/>
          <p:nvPr/>
        </p:nvSpPr>
        <p:spPr>
          <a:xfrm rot="2058000">
            <a:off x="5402160" y="472248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ght Arrow 10"/>
          <p:cNvSpPr/>
          <p:nvPr/>
        </p:nvSpPr>
        <p:spPr>
          <a:xfrm>
            <a:off x="2357280" y="4714920"/>
            <a:ext cx="207180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ight Arrow 11"/>
          <p:cNvSpPr/>
          <p:nvPr/>
        </p:nvSpPr>
        <p:spPr>
          <a:xfrm rot="323400">
            <a:off x="1998360" y="5100480"/>
            <a:ext cx="3932280" cy="155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f numbers model the Level of Trust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ny practical use of such model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(rhetorical question for now…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1285920" y="457200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3214800" y="400068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857840" y="4286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6072120" y="492912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ight Arrow 7"/>
          <p:cNvSpPr/>
          <p:nvPr/>
        </p:nvSpPr>
        <p:spPr>
          <a:xfrm rot="20570400">
            <a:off x="1928520" y="43578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8"/>
          <p:cNvSpPr/>
          <p:nvPr/>
        </p:nvSpPr>
        <p:spPr>
          <a:xfrm rot="683400">
            <a:off x="3955680" y="421776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ight Arrow 9"/>
          <p:cNvSpPr/>
          <p:nvPr/>
        </p:nvSpPr>
        <p:spPr>
          <a:xfrm rot="2058000">
            <a:off x="5402160" y="472248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ight Arrow 10"/>
          <p:cNvSpPr/>
          <p:nvPr/>
        </p:nvSpPr>
        <p:spPr>
          <a:xfrm>
            <a:off x="2357280" y="4714920"/>
            <a:ext cx="207180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ight Arrow 11"/>
          <p:cNvSpPr/>
          <p:nvPr/>
        </p:nvSpPr>
        <p:spPr>
          <a:xfrm rot="323400">
            <a:off x="1998360" y="5100480"/>
            <a:ext cx="3932280" cy="155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003040" y="3929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4217760" y="3786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5717880" y="4286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Number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Of course they don’t…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[0,1]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Fuzzy logic closer (not warm and fuzzy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ic scientific principles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ubjecti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motional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ansitivity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682560" y="1962000"/>
            <a:ext cx="778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Soapbox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ai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os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ati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ic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and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edi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ostulat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Explor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Painting by Number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429240" y="3143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2000160" y="3143160"/>
            <a:ext cx="5000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143240" y="221472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4143240" y="407196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Arrow 13"/>
          <p:cNvSpPr/>
          <p:nvPr/>
        </p:nvSpPr>
        <p:spPr>
          <a:xfrm>
            <a:off x="2643120" y="3286080"/>
            <a:ext cx="3500640" cy="2858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15"/>
          <p:cNvSpPr/>
          <p:nvPr/>
        </p:nvSpPr>
        <p:spPr>
          <a:xfrm rot="20287800">
            <a:off x="4863960" y="387180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16"/>
          <p:cNvSpPr/>
          <p:nvPr/>
        </p:nvSpPr>
        <p:spPr>
          <a:xfrm rot="1099200">
            <a:off x="4857480" y="26431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17"/>
          <p:cNvSpPr/>
          <p:nvPr/>
        </p:nvSpPr>
        <p:spPr>
          <a:xfrm rot="20287800">
            <a:off x="2577960" y="26575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18"/>
          <p:cNvSpPr/>
          <p:nvPr/>
        </p:nvSpPr>
        <p:spPr>
          <a:xfrm rot="1099200">
            <a:off x="2584080" y="390996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740160" y="485784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1(a,b,t):=S(T(a,b,t),P(T(a,c,t),T(c,b,t)),P(T(a,d,t),T(d,b,t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798960" y="2000160"/>
            <a:ext cx="23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d f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igital vs mechanical vs procedura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f revoking physical key in real worl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lectronic lock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PKI implements Trus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does it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t implements a projectio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2" name="Straight Connector 4"/>
          <p:cNvSpPr/>
          <p:nvPr/>
        </p:nvSpPr>
        <p:spPr>
          <a:xfrm>
            <a:off x="2214720" y="5072040"/>
            <a:ext cx="4357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5"/>
          <p:cNvSpPr/>
          <p:nvPr/>
        </p:nvSpPr>
        <p:spPr>
          <a:xfrm flipV="1">
            <a:off x="2214720" y="1928520"/>
            <a:ext cx="2714400" cy="314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143680" y="314316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0"/>
          <p:cNvCxnSpPr>
            <a:stCxn id="144" idx="4"/>
          </p:cNvCxnSpPr>
          <p:nvPr/>
        </p:nvCxnSpPr>
        <p:spPr>
          <a:xfrm flipH="1">
            <a:off x="5214600" y="3285720"/>
            <a:ext cx="2160" cy="1788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6" name="Straight Arrow Connector 12"/>
          <p:cNvCxnSpPr/>
          <p:nvPr/>
        </p:nvCxnSpPr>
        <p:spPr>
          <a:xfrm flipH="1" flipV="1">
            <a:off x="4428360" y="2571840"/>
            <a:ext cx="78660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Stalin: “Trust is good, control is better.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Me: “Just because you can’t – or don’t – enforce it doesn’t mean you shouldn’t require it.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– Exampl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f. TERENA discuss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nstitution promises to beha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REN checks if something goes wr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f user passphrase length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aceability of robot certs (if applicable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ements at time of agreement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Follow up if something goes wro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Enforc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Check and validate at time of agreement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quiring vs Enforc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44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Requiri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Less W&amp;F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Impose higher sanctions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Validator disclaims responsibility?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7960" y="1980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Enforcing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Warmer and fuzzier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Fewer sanctions for misuse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67BoldCn"/>
              </a:rPr>
              <a:t>Validator has part of responsibility</a:t>
            </a:r>
            <a:endParaRPr b="0" lang="en-US" sz="28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Time Dimens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tinuit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taff change – handover proces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Disaster recover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epreci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Re-establish trust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Warm and Fuzzy Feeling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aceability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By D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Via CA (usually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aming the subjec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Fuzzy matching”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Uniqueness of nam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A Deo Rex, A Rege Lex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62" name="Content Placeholder 3" descr=""/>
          <p:cNvPicPr/>
          <p:nvPr/>
        </p:nvPicPr>
        <p:blipFill>
          <a:blip r:embed="rId1"/>
          <a:stretch/>
        </p:blipFill>
        <p:spPr>
          <a:xfrm>
            <a:off x="420840" y="1974960"/>
            <a:ext cx="8289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is soapbox is about…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Meaning Trustworthiness (more or less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at it is, proper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y we have i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uilding it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&amp;F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he Time Dimension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pic>
        <p:nvPicPr>
          <p:cNvPr id="164" name="Content Placeholder 3" descr=""/>
          <p:cNvPicPr/>
          <p:nvPr/>
        </p:nvPicPr>
        <p:blipFill>
          <a:blip r:embed="rId1"/>
          <a:stretch/>
        </p:blipFill>
        <p:spPr>
          <a:xfrm>
            <a:off x="378000" y="1779480"/>
            <a:ext cx="8289720" cy="1176480"/>
          </a:xfrm>
          <a:prstGeom prst="rect">
            <a:avLst/>
          </a:prstGeom>
          <a:ln w="0">
            <a:noFill/>
          </a:ln>
        </p:spPr>
      </p:pic>
      <p:pic>
        <p:nvPicPr>
          <p:cNvPr id="165" name="Content Placeholder 3" descr=""/>
          <p:cNvPicPr/>
          <p:nvPr/>
        </p:nvPicPr>
        <p:blipFill>
          <a:blip r:embed="rId2"/>
          <a:stretch/>
        </p:blipFill>
        <p:spPr>
          <a:xfrm>
            <a:off x="628560" y="3925800"/>
            <a:ext cx="7802640" cy="1170000"/>
          </a:xfrm>
          <a:prstGeom prst="rect">
            <a:avLst/>
          </a:prstGeom>
          <a:ln w="0">
            <a:noFill/>
          </a:ln>
        </p:spPr>
      </p:pic>
      <p:sp>
        <p:nvSpPr>
          <p:cNvPr id="166" name="Down Arrow 5"/>
          <p:cNvSpPr/>
          <p:nvPr/>
        </p:nvSpPr>
        <p:spPr>
          <a:xfrm>
            <a:off x="1071720" y="3071880"/>
            <a:ext cx="571320" cy="71424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wn Arrow 6"/>
          <p:cNvSpPr/>
          <p:nvPr/>
        </p:nvSpPr>
        <p:spPr>
          <a:xfrm>
            <a:off x="316692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7"/>
          <p:cNvSpPr/>
          <p:nvPr/>
        </p:nvSpPr>
        <p:spPr>
          <a:xfrm>
            <a:off x="526248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own Arrow 8"/>
          <p:cNvSpPr/>
          <p:nvPr/>
        </p:nvSpPr>
        <p:spPr>
          <a:xfrm>
            <a:off x="7358040" y="3071880"/>
            <a:ext cx="57168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9"/>
          <p:cNvSpPr/>
          <p:nvPr/>
        </p:nvSpPr>
        <p:spPr>
          <a:xfrm>
            <a:off x="2000160" y="321480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Arrow 10"/>
          <p:cNvSpPr/>
          <p:nvPr/>
        </p:nvSpPr>
        <p:spPr>
          <a:xfrm>
            <a:off x="4214880" y="321480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11"/>
          <p:cNvSpPr/>
          <p:nvPr/>
        </p:nvSpPr>
        <p:spPr>
          <a:xfrm>
            <a:off x="6429240" y="321480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mpare WoT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e are more structured and hierarchical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Like CAs, reall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an we learn from WoT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sequences of Type 1 Error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nsequences of Type 2 Errors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asic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How many reviewers does it take to review a CA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this depend on their experien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Process developed as we go along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asic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ould you trust my digital identity more if I had two, from different RAs (CAs)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ould you trust it more if verified by more than one RA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this depend on the experience/training of the RA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More Useful Exercise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at are the goals we aim to achiev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f some previous soapboxen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ssuranc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riting up into the document currently known as “essentials”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Advanced Case Studies?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need to revet (re-vet) identi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hich time problem does it deal with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w does it deal with it?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re we solving a problem we don’t have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Or can be solved in a better way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Not enough things on top of other thing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But too many carts before horse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clusion(s)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rust models operate with incomplete inform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mplementations are (crude) approximatio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cademic models of some us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clusions(s)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Potential benefits from more complex trust model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nstead of solving the problem, identify the problem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hen (and only then) solve it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Trust – WN definition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ertainty based on past experience,” reliance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trait of believing in the honesty and reliability of others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Complete confidence in a person or plan, etc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Consider WoT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55" name="Oval 3"/>
          <p:cNvSpPr/>
          <p:nvPr/>
        </p:nvSpPr>
        <p:spPr>
          <a:xfrm>
            <a:off x="5500800" y="40719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6286680" y="214308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6786720" y="492912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7000920" y="328608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7000920" y="18572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6000840" y="43578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5572080" y="52149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3857760" y="38577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4857840" y="285768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3500280" y="20718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4"/>
          <p:cNvCxnSpPr>
            <a:stCxn id="64" idx="6"/>
            <a:endCxn id="56" idx="2"/>
          </p:cNvCxnSpPr>
          <p:nvPr/>
        </p:nvCxnSpPr>
        <p:spPr>
          <a:xfrm>
            <a:off x="3642840" y="2142720"/>
            <a:ext cx="2644200" cy="7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6" name="Straight Arrow Connector 19"/>
          <p:cNvCxnSpPr>
            <a:stCxn id="64" idx="6"/>
            <a:endCxn id="59" idx="2"/>
          </p:cNvCxnSpPr>
          <p:nvPr/>
        </p:nvCxnSpPr>
        <p:spPr>
          <a:xfrm flipV="1">
            <a:off x="3642840" y="1928160"/>
            <a:ext cx="3358440" cy="214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7" name="Straight Arrow Connector 21"/>
          <p:cNvCxnSpPr>
            <a:stCxn id="59" idx="4"/>
            <a:endCxn id="58" idx="0"/>
          </p:cNvCxnSpPr>
          <p:nvPr/>
        </p:nvCxnSpPr>
        <p:spPr>
          <a:xfrm flipH="1">
            <a:off x="7071480" y="2000160"/>
            <a:ext cx="2520" cy="1286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>
            <a:stCxn id="63" idx="6"/>
            <a:endCxn id="58" idx="1"/>
          </p:cNvCxnSpPr>
          <p:nvPr/>
        </p:nvCxnSpPr>
        <p:spPr>
          <a:xfrm>
            <a:off x="5000400" y="2928600"/>
            <a:ext cx="2021400" cy="37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9" name="Straight Arrow Connector 27"/>
          <p:cNvCxnSpPr>
            <a:stCxn id="62" idx="7"/>
            <a:endCxn id="63" idx="3"/>
          </p:cNvCxnSpPr>
          <p:nvPr/>
        </p:nvCxnSpPr>
        <p:spPr>
          <a:xfrm flipV="1">
            <a:off x="3979800" y="2979360"/>
            <a:ext cx="899280" cy="899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0" name="Straight Arrow Connector 29"/>
          <p:cNvCxnSpPr>
            <a:stCxn id="62" idx="6"/>
            <a:endCxn id="55" idx="1"/>
          </p:cNvCxnSpPr>
          <p:nvPr/>
        </p:nvCxnSpPr>
        <p:spPr>
          <a:xfrm>
            <a:off x="4000680" y="3929040"/>
            <a:ext cx="1521360" cy="164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1" name="Straight Arrow Connector 31"/>
          <p:cNvCxnSpPr>
            <a:stCxn id="61" idx="0"/>
            <a:endCxn id="55" idx="4"/>
          </p:cNvCxnSpPr>
          <p:nvPr/>
        </p:nvCxnSpPr>
        <p:spPr>
          <a:xfrm flipH="1" flipV="1">
            <a:off x="5571360" y="4214520"/>
            <a:ext cx="72360" cy="100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2" name="Straight Arrow Connector 33"/>
          <p:cNvCxnSpPr>
            <a:stCxn id="55" idx="6"/>
            <a:endCxn id="58" idx="3"/>
          </p:cNvCxnSpPr>
          <p:nvPr/>
        </p:nvCxnSpPr>
        <p:spPr>
          <a:xfrm flipV="1">
            <a:off x="5643360" y="3408120"/>
            <a:ext cx="1378440" cy="73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5"/>
          <p:cNvCxnSpPr>
            <a:stCxn id="55" idx="5"/>
            <a:endCxn id="60" idx="1"/>
          </p:cNvCxnSpPr>
          <p:nvPr/>
        </p:nvCxnSpPr>
        <p:spPr>
          <a:xfrm>
            <a:off x="5621760" y="4194000"/>
            <a:ext cx="399240" cy="185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4" name="Straight Arrow Connector 37"/>
          <p:cNvCxnSpPr>
            <a:stCxn id="60" idx="6"/>
            <a:endCxn id="57" idx="2"/>
          </p:cNvCxnSpPr>
          <p:nvPr/>
        </p:nvCxnSpPr>
        <p:spPr>
          <a:xfrm>
            <a:off x="6143760" y="4429080"/>
            <a:ext cx="643320" cy="572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5" name="Straight Arrow Connector 39"/>
          <p:cNvCxnSpPr>
            <a:stCxn id="63" idx="2"/>
            <a:endCxn id="64" idx="5"/>
          </p:cNvCxnSpPr>
          <p:nvPr/>
        </p:nvCxnSpPr>
        <p:spPr>
          <a:xfrm flipH="1" flipV="1">
            <a:off x="3621960" y="2193480"/>
            <a:ext cx="1235880" cy="735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" name="TextBox 41"/>
          <p:cNvSpPr/>
          <p:nvPr/>
        </p:nvSpPr>
        <p:spPr>
          <a:xfrm>
            <a:off x="645120" y="278604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Thawte’s 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GP Trus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43"/>
          <p:cNvCxnSpPr>
            <a:stCxn id="62" idx="1"/>
            <a:endCxn id="64" idx="4"/>
          </p:cNvCxnSpPr>
          <p:nvPr/>
        </p:nvCxnSpPr>
        <p:spPr>
          <a:xfrm flipH="1" flipV="1">
            <a:off x="3571560" y="2214000"/>
            <a:ext cx="306720" cy="166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lations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Relations properties from maths: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Reflexive: a~a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Symmetric: a~b =&gt; b~a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ransitive: a~b &amp; b~c =&gt; a~c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A relations may have any or all of these properti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Exercise: prove or disprove S&amp;T=&gt;R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Reflexivity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I trust myself”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or do I?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Why we have best practice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he unknowns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The known unknow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And the unknown unknow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uilding 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2960" y="1856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Timeo Hominem Unius Libri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ed on reputation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Idea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Knowledge/skill (evidence of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Honesty/integrity (perceived, assumed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Contributions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rutiger 57C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 hand information (or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Frutiger 57C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 etc)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utiger 67BoldCn"/>
              </a:rPr>
              <a:t>Building Trust</a:t>
            </a:r>
            <a:endParaRPr b="0" lang="en-US" sz="4400" spc="-1" strike="noStrike">
              <a:solidFill>
                <a:srgbClr val="ffffff"/>
              </a:solidFill>
              <a:latin typeface="Frutiger 67BoldC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Basic F2F meeting – TrustBuilding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utiger 67BoldCn"/>
              </a:rPr>
              <a:t>Doing what is expected</a:t>
            </a: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Not necessarily what we expect…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utiger 57Cn"/>
              </a:rPr>
              <a:t>We may expect people to not do what is expected</a:t>
            </a:r>
            <a:endParaRPr b="0" lang="en-US" sz="2800" spc="-1" strike="noStrike">
              <a:solidFill>
                <a:srgbClr val="ffffff"/>
              </a:solidFill>
              <a:latin typeface="Frutiger 57C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Frutiger 67Bold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utiger 67Bold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4:13:33Z</dcterms:created>
  <dc:creator>Lynn</dc:creator>
  <dc:description/>
  <dc:language>en-US</dc:language>
  <cp:lastModifiedBy>jj47</cp:lastModifiedBy>
  <dcterms:modified xsi:type="dcterms:W3CDTF">2010-01-20T13:51:10Z</dcterms:modified>
  <cp:revision>104</cp:revision>
  <dc:subject/>
  <dc:title>PowerPoint Presentation</dc:title>
</cp:coreProperties>
</file>