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B4566EF-7955-4D39-AB99-C1B2038783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FCD10B-2521-42C6-AE1F-26C00BA9A1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9DF371C-60F9-4D98-ABA7-26A76088595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E237798-C8DA-4F28-9765-137210C5D3F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2A722BF-7F8B-48ED-819E-9845BDA259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74066C68-310E-42F4-BDD6-7083D40FEA7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8018808-B021-4482-9979-6213A7DDB7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C3FDFEF-EFF1-4EE8-BD5D-A12E7053BA3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24BE191-EA9A-4545-A50D-62D196D3CD8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484083A4-9DC4-48B6-BAD8-A9187B4EC53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00591562-3471-4F53-8FF7-57DC14912A4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8A57502-2E79-4060-8EB2-CB83EED266C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0D62A24-31D2-40C4-BD41-C7B930C585C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9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April 19-21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iga, Latv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IGMANET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EDGAR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2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2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2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ebconf.vc.dfn.de/r88168684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4-19T06:26:57Z</dcterms:modified>
  <cp:revision>484</cp:revision>
  <dc:subject/>
  <dc:title>European Grid Policy Management Authority</dc:title>
</cp:coreProperties>
</file>