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041C4-32D7-40E8-A0DE-A733259AE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2F9A9-AFC1-475F-91B9-4124CFD0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E8ED37-9726-4BBA-9C6D-0FE2B74C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E65C4-94D2-4BC8-BAC3-3020A68F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21B232-6CA1-40A4-9092-52E257D1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4B5E0-1F2D-4ADF-9D97-52B681FB5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A0A1-932D-4F1D-860F-8B9F488CB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6376D-57BA-42F4-8A02-198057DF3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43375-73A9-4AD3-8339-4FC493598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 April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6, April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5522760" y="3602160"/>
            <a:ext cx="26640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ertStatistics-201004.tiff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/Host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2F Mee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 was held in Taipei in conjunction with ISGC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ate 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enue: Academia Sinica, Taip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cipation of member 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1 CA presented in person, 2 representatives joined remotely,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3786120" y="3505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CA Accreditation: Mongolia – new phase CP/CPS review is still undergo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ume Routine Self-Audit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CA should present self-auditing report once every two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, NECTEC, and CNIC, SDG reported this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urrent audit template should be followed but the procedure has to be clearly defined before next F2F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IGCA, ASGCCA, NCHC will report in next mee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9144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(I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6320" y="679320"/>
            <a:ext cx="914400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GTF Policy Document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 Policy and Robot Certificate  are endor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of CA Contact (d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 matrix of Accreditation and Operation Status will be drafted by Eric for comment. (will be finished by end Ap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GridPMA spring F2F meeting will be joint with ISG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All Hands Meeting is also welcomed to be held at ISGC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and ARCS are two candidates for the F2F meeting i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half of 2010 and 2011. They will explore possible dates later. Eric is looking f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andidate in South East Asia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ree proposals should be available for vote in early M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8:18:38Z</dcterms:created>
  <dc:creator>David Groep</dc:creator>
  <dc:description/>
  <dc:language>en-US</dc:language>
  <cp:lastModifiedBy>bluesea520</cp:lastModifiedBy>
  <dcterms:modified xsi:type="dcterms:W3CDTF">2010-04-19T06:59:25Z</dcterms:modified>
  <cp:revision>216</cp:revision>
  <dc:subject/>
  <dc:title>International Grid Trust Federation Session  GGF 18 Washington, DC, USA</dc:title>
</cp:coreProperties>
</file>