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9863-6199-49A7-AF72-19B50E55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860-6135-488E-ABC5-31EAD9EF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7AE0-6C68-4397-80A7-7B1942FE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71B-C9DD-43C9-B2A1-AF5071A4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395-6575-490A-8667-4826A081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B16-D3A9-4761-8275-DF16D6EC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BC1-E8D7-4A07-B320-A1F5C73E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646-1E67-47D3-AAF6-857B9B2F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3D7-13F3-43A2-BD55-EC12AD1F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214-7165-49B0-8D4E-D2A25BDF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122-1B73-4E84-BE1E-4CE66B06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486-BE08-4C7C-996B-103E00D6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Utopia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ter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harter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2" marL="1143000" indent="-230040">
              <a:spcBef>
                <a:spcPts val="799"/>
              </a:spcBef>
              <a:buClr>
                <a:srgbClr val="333399"/>
              </a:buClr>
              <a:buFont typeface="Charter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Charter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harter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harter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harter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092506-BD29-4DFB-87D8-4DC5854DB1B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man Ahmad Malik, N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F13877-D639-4056-9295-64333AB7C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334360" y="304920"/>
            <a:ext cx="1243080" cy="125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6840" y="28036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3480"/>
                <a:tab algn="l" pos="7237440"/>
                <a:tab algn="l" pos="7959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b84700"/>
                </a:solidFill>
                <a:latin typeface="Arial"/>
              </a:rPr>
              <a:t>PK-GRID-CA</a:t>
            </a:r>
            <a:br>
              <a:rPr sz="4000"/>
            </a:br>
            <a:r>
              <a:rPr b="1" lang="en-US" sz="4000" spc="-1" strike="noStrike">
                <a:solidFill>
                  <a:srgbClr val="b84700"/>
                </a:solidFill>
                <a:latin typeface="Arial"/>
              </a:rPr>
              <a:t>Audit Report</a:t>
            </a:r>
            <a:endParaRPr b="0" lang="en-US" sz="40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2519280" y="4962600"/>
            <a:ext cx="503892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Usman Ahmad Mal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K-Grid-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ational Centre for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907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audit once per year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being done regularly since 2009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CA staff to be maintained and verified at least once per year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the list is maintained and verifi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ublication and repository responsibilities 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sitory to run on best effort basis (24x7 availability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Yes, run on best effort basis, had a few un-announced downtimes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root to be published as root of trust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 root cert is publish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ository/publication requirement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l requirements are met, every required info is publish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istribution of published info by the PMA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information is re-distributed by PMA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o validate integrity of its root of trust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provid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anchor to trust anchor repository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provid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99C-BBE8-42B1-8553-446CFFB9A4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D0646-A1AA-4FE0-ACCC-1C46FA5707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907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vacy and confidentiality 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cy and confidentiality policy governed by local law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describ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romise and disaster recovery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compromise and disaster recovery procedure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romise and disaster recovery procedures are document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istration Authority to keep record archival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doing at the moment, CA is maintaining all records (D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052-599D-466A-9ABD-A52FD5E91D8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2D218-E9CB-46DE-A4B2-11F028AEC0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590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800" spc="-1" strike="noStrike">
                <a:solidFill>
                  <a:srgbClr val="cc3300"/>
                </a:solidFill>
                <a:latin typeface="Arial"/>
              </a:rPr>
              <a:t>THANK YOU</a:t>
            </a:r>
            <a:endParaRPr b="0" lang="en-US" sz="8800" spc="-1" strike="noStrike">
              <a:solidFill>
                <a:srgbClr val="cc3300"/>
              </a:solidFill>
              <a:latin typeface="Utop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K-Grid-CA Update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d and managed by National Centre for Physics, ISB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edited in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russels in 2004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ng whole of Pakistan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user community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tal Certificates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17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pired Certificates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 9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voked Certificates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 3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tive Certificate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 4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r Certificates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101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st Certificates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 74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reviewed by PMA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January 2009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internal audit completed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arch 2010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changes in CP-CPS, version 1.1.3.0 submitted to PMA for approval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pril 2010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6E1-7685-46B4-B4DE-68AFD01608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BCB53-44CD-4C1E-A49E-DCD33070DB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 (audit score)</a:t>
            </a:r>
            <a:endParaRPr b="0" lang="en-US" sz="2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/CP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PK-Grid-CA has a CP-CP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A per country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single CA in the country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D assigned to CP-CP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IANA assigned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-CPS Administration/Change Management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scribed in CP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S available on the web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available on the web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S Structured according to RFC3647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structured according to RFC3647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1A0-46D2-4812-B7C6-57317442CA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D83ED-D553-4B74-A0C0-D49D4ADA7F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547280"/>
            <a:ext cx="9072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CA System</a:t>
            </a:r>
            <a:endParaRPr b="0" lang="en-US" sz="2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dicated machine, running no other service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CA signing machine is a dedicated machine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cure environment with controlled acces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secure environment is described in CP-CP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 system is offline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completely offline, do not have HSM (A/X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cure environment documented/approved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Documented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Approved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In process (A/X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CA Key</a:t>
            </a:r>
            <a:endParaRPr b="0" lang="en-US" sz="2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imum length 2048 bit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4096 bit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ng term use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valid for 10 year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C41-61A3-414A-BF89-CE50B572AE6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38F54-30D0-4B6D-806B-29642B205E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 Key protection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described in CPS, protected with pass-phrase of min. 15 char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fline copies of private key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secure offline copies are kept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fline copies of private key pass-phrase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secure offline copies are kept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mpered proof logs for online CAs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Not running an online CA (X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ition of CA’s cryptographic data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described in the CP-CPS, transition took place in 2007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verlap requirement (both keys operating)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overlap happened in 2008, old certificates and CRLs are no more valid (X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A1BC-BB95-4963-B439-75F08C177C2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12721-7889-445C-8400-7EDD3F7F02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720" y="1620360"/>
            <a:ext cx="907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 Certificate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certificate x.509 compliant and published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time no longer than 20 year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 years lifetime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time must not be less than 2x life time of an EE certificate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 years lifetime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ce with OGF GFD.12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uthentication Profile ID is missing in EE certificates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rtificate Revocation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cation request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described in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cation ASAP, one working day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also describ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r obligation to inform CA in case of compromise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included in the new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CCD-693E-4E8A-AE0F-A4A26F29F2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F2179-2E0C-49FE-B5E3-6FF0979F0D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618920"/>
            <a:ext cx="907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of revocation request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described in the CPS and follow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L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CRL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publish CRL to a web repository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L lifetime no more than 30 day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x. lifetime is 30 day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new CRL 7 days before the expiration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ssed a few times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issue and publish CRL immediately after revocation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RL is issued and published ASAP after revocation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L compliant with RFC5280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compliant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E Certificates and Key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length of 1024 bit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minimum length is 1024 bit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F0D-C712-45FC-99A4-062F0297E7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7EE3E-B806-40FF-8B6E-19914B9BAF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618920"/>
            <a:ext cx="907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ertificate lifetime must be no longer than 13 month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fetime is 12 month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certificates not to be shared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explicitly mention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ryptographic data generated by the applicant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EE generate cryptographic data through a browser module using the secure online CA portal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r obligation in protecting the private key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explicitly mentioned in the new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ertificates compliance with OGF GFD.12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uthentication Profile OID is missing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to be meaningful for CN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describ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keys in software tokens must be re-keyed and not renewed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 do not renew private keys, instead we rekey (A) 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keys in hardware tokens may be renewed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Not mentioned in the CPS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A07-041A-4D78-BA98-99B1FAE350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A5F9E-211D-4A4A-ACAC-6643329F62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907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s may not be renewed/re-keyed consecutively for more than 5 year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explicitly mention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rd Archival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and archive all requests, issued certificates/CRLs, revocation requests, login/logout/reboot of signing machine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all relevant records are kept and archiv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 of records to external auditor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record archives are available to external auditors (peer CAs) on request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s must be kept for three year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kept for at least three year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dits 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being audited by other CA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we accept it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6DA-BADB-40D4-9502-A247049CC5F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A30AC-4C81-4CD7-9773-CCA7E4AD4A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09:21:53Z</dcterms:created>
  <dc:creator>tim</dc:creator>
  <dc:description/>
  <dc:language>en-US</dc:language>
  <cp:lastModifiedBy>Usman A. Malik</cp:lastModifiedBy>
  <dcterms:modified xsi:type="dcterms:W3CDTF">2010-04-20T06:19:08Z</dcterms:modified>
  <cp:revision>656</cp:revision>
  <dc:subject/>
  <dc:title>T0-T1 distribution</dc:title>
</cp:coreProperties>
</file>