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DE11752-B4AF-4A3F-91AC-BD74EA5F77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88E615A-74FE-4F03-819F-DCA802C2C5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D8424669-311D-4C04-9BC8-B4DEC362B08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87397D15-29F1-434F-97B8-9FFDD5DA291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DDE05381-BE0B-4D5F-951E-1211AFB3340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A91D5162-997E-4BA5-B1E0-7423F4471D5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053191C0-6515-4BD1-9C2C-B71F21B199F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C34BD357-3A28-4975-9B93-A02A3070A65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11419AA4-84B1-45CA-8C84-6D2D1EA6418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04318247-A656-4A33-B927-290B7C8C067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61B9BF43-FB31-4B55-B274-C88C2DD7AF8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B6A4C682-59C9-4F6E-88AC-646A7E19D15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E54BE72E-63EC-4D25-9100-2927FF86899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0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ember 20-22, 2010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Zagreb, Croat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RCE</a:t>
            </a:r>
            <a:br>
              <a:rPr sz="4000"/>
            </a:br>
            <a:r>
              <a:rPr b="1" i="1" lang="en-GB" sz="2000" spc="-1" strike="noStrike">
                <a:solidFill>
                  <a:srgbClr val="000066"/>
                </a:solidFill>
                <a:latin typeface="Lucida Sans"/>
              </a:rPr>
              <a:t>AND DOBRISA DOBRENIC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onnect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o connect via telephone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+31 20 716 529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menu option "3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the conference number 98003 and confirm by "#"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and the Global Dialling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003180019800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over IP direct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hdmcu1.surfnet.nl (192.87.102.230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nter the conference number: 98003 and confirm by "#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ollaboration environment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s://connect.srce.hr/eugrid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onday, Sep 20 meeting in front of Srce at 20.0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lace: Pri zvoncu, XII Vrbik 1 (http://www.prizvoncu.com/)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is is domestic restaurant next to the Srce and quite near The Movie Hotel as well as International Hotel (1 km)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uesday, Sep 21 meeting in front of Movie Hotel (http://www.themoviehotel.com/) at 19.0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nner place: Konoba Didov san - Gornji grad, Mletacka 11 (http://www.konoba-didovsan.com/)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mall domestic restaurant (just 25 places for us) with a hint of Adriatic coast (!) in downtown Zagreb. We are going there with tramway and will take a stroll through the heart of the c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0-09-20T07:30:10Z</dcterms:modified>
  <cp:revision>488</cp:revision>
  <dc:subject/>
  <dc:title>European Grid Policy Management Authority</dc:title>
</cp:coreProperties>
</file>