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7821733-436E-41DA-89B7-58A52FC92D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294ECA3-F632-4277-9B45-63FC976346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BD88336-E573-4088-8DB4-995B0BCB5A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DFCCEAA-DC09-4260-8385-79E1BCA642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01926C8-86AF-4FAC-A332-3432976CB0F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B23F10A-6309-43DB-A927-5786CF5BF4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AC4C3B7-C8E0-47FA-A010-9A2BF4826B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D4A2888-0192-4AD3-8691-1A6B9C826F6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1CD9B9E-A8FF-47CF-8556-A5271EFEAD2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F156A47-B2B9-4315-A858-065E92C86C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4F68186-E937-4E1E-945C-261EB674D45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8003A03-F0BA-45D4-B75C-C677EF43605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024C2AE-88A8-45CC-B564-328FA4E532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1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IGTF All Hands meeting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21+22 March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1-13 May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6-19 May 2011 (REFEDs: 15 M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URF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oost van Dijk en Thijs Kinkhorst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4" descr="H:\Home\davidg\Template\Logos\surfnet-transparent.gif"/>
          <p:cNvPicPr/>
          <p:nvPr/>
        </p:nvPicPr>
        <p:blipFill>
          <a:blip r:embed="rId1"/>
          <a:stretch/>
        </p:blipFill>
        <p:spPr>
          <a:xfrm>
            <a:off x="708120" y="2619360"/>
            <a:ext cx="268452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2808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Monday 24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Welcome, agenda, minutes last meeting, note taker, introd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ound-table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from the APGridPMA (Eric Y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IGTF Risk Assessment Team report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eport-out from the self-audit review te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EUMedGrid II Support Programme: Around the Med (Onur Temizsoyl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: DFN-PKI Grid CA (Reimer Karlsen-Mas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Discussion: role for PMA with introduction of STS services in e-Infrastructur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 security Token Service at SURFnet (Remco Poortinga-van Wijnen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 from TAGPMA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II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0" y="0"/>
            <a:ext cx="8967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Tuesday 25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 Update I: BEGrid (Jean-Christophe Real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: DZ e-Science Grid (Aouaouche El-Maouha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: MREN CA (Lidija Milosavljev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I: HIAST initial presentation (Ghassan Saba and Houssam Ab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ivate key protection and CA based key generation services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3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lanning of 2012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1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Jens’ Soap boxes Ltd.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meeting structure: length of meetings and where best to do the self-audits report etc.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OPS Working Group (Christos Kanellopoulos, Yoshio Tana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7.2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esentation of the next meeting in Prague, C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ednesday 26 09:30 – 13: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I: RDIG CA update (Eygene Riabink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V: UGrid CA (Sergii Stirenk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to the MICS Profile, text edits from the TAGPMA (David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presentation III: KOSTAR/UAE (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losing and A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Ursula Epting, Dave Kelsey and David O'Callaghan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Mon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491680" cy="5699160"/>
          </a:xfrm>
          <a:prstGeom prst="rect">
            <a:avLst/>
          </a:prstGeom>
          <a:ln w="0">
            <a:noFill/>
          </a:ln>
        </p:spPr>
      </p:pic>
      <p:sp>
        <p:nvSpPr>
          <p:cNvPr id="575" name="Right Arrow 4"/>
          <p:cNvSpPr/>
          <p:nvPr/>
        </p:nvSpPr>
        <p:spPr>
          <a:xfrm>
            <a:off x="797040" y="3997440"/>
            <a:ext cx="677880" cy="3538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797040" y="3660840"/>
            <a:ext cx="631800" cy="303120"/>
          </a:xfrm>
          <a:prstGeom prst="rect">
            <a:avLst/>
          </a:prstGeom>
          <a:ln w="0">
            <a:noFill/>
          </a:ln>
        </p:spPr>
      </p:pic>
      <p:sp>
        <p:nvSpPr>
          <p:cNvPr id="577" name="Left Arrow 6"/>
          <p:cNvSpPr/>
          <p:nvPr/>
        </p:nvSpPr>
        <p:spPr>
          <a:xfrm>
            <a:off x="5767560" y="4025880"/>
            <a:ext cx="603000" cy="26496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421080" y="4307040"/>
            <a:ext cx="296532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urks Restaurant S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iastraat 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Tues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71520" y="1085760"/>
            <a:ext cx="8772480" cy="5334120"/>
          </a:xfrm>
          <a:prstGeom prst="rect">
            <a:avLst/>
          </a:prstGeom>
          <a:ln w="0">
            <a:noFill/>
          </a:ln>
        </p:spPr>
      </p:pic>
      <p:sp>
        <p:nvSpPr>
          <p:cNvPr id="581" name="Right Arrow 4"/>
          <p:cNvSpPr/>
          <p:nvPr/>
        </p:nvSpPr>
        <p:spPr>
          <a:xfrm>
            <a:off x="884160" y="5530680"/>
            <a:ext cx="679680" cy="3542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884160" y="5194440"/>
            <a:ext cx="633600" cy="303120"/>
          </a:xfrm>
          <a:prstGeom prst="rect">
            <a:avLst/>
          </a:prstGeom>
          <a:ln w="0">
            <a:noFill/>
          </a:ln>
        </p:spPr>
      </p:pic>
      <p:sp>
        <p:nvSpPr>
          <p:cNvPr id="583" name="Left Arrow 6"/>
          <p:cNvSpPr/>
          <p:nvPr/>
        </p:nvSpPr>
        <p:spPr>
          <a:xfrm rot="18819000">
            <a:off x="6208560" y="1859040"/>
            <a:ext cx="604800" cy="2653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4011480" y="2433600"/>
            <a:ext cx="296388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lamat Mak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orstraat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NEXT MEETING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4T08:17:15Z</dcterms:modified>
  <cp:revision>493</cp:revision>
  <dc:subject/>
  <dc:title>European Grid Policy Management Authority</dc:title>
</cp:coreProperties>
</file>