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A7ACE-237E-4958-BB9E-B29390B81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552EB-9D7A-41A4-9559-DD9B961B7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1A3D3-8FD7-45AB-9D02-AAABE1C7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E235C-D152-4324-96BA-6C7B181FF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AF315-2104-4D92-AA0B-AD0FE0A8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M CA is serving as part of NGI-M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700ED-32D4-44FC-A199-F01D8F5C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DCC8F-1F9E-4541-9996-CFE4F418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of APGrid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GridP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 24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7 -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714240"/>
            <a:ext cx="53341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 </a:t>
            </a:r>
            <a:r>
              <a:rPr b="0" i="1" lang="en-US" sz="2200" spc="-1" strike="noStrike" u="sng">
                <a:solidFill>
                  <a:srgbClr val="800000"/>
                </a:solidFill>
                <a:uFillTx/>
                <a:latin typeface="Comic Sans MS"/>
                <a:ea typeface="ＭＳ Ｐゴシック"/>
              </a:rPr>
              <a:t>Withdrew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14800" y="304920"/>
            <a:ext cx="4876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M (MY) was approved as a new member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-Netrust (SG) withdraw was approved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Zealand WLCG site is in production, with CA support from AR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5190480" y="5581800"/>
            <a:ext cx="37011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11 Countries/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914400"/>
          <a:ext cx="7486920" cy="4929120"/>
        </p:xfrm>
        <a:graphic>
          <a:graphicData uri="http://schemas.openxmlformats.org/drawingml/2006/table">
            <a:tbl>
              <a:tblPr/>
              <a:tblGrid>
                <a:gridCol w="2071800"/>
                <a:gridCol w="1604880"/>
                <a:gridCol w="1905120"/>
                <a:gridCol w="1905120"/>
              </a:tblGrid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01, Dec.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TextBox 4" descr=""/>
          <p:cNvPicPr/>
          <p:nvPr/>
        </p:nvPicPr>
        <p:blipFill>
          <a:blip r:embed="rId1"/>
          <a:stretch/>
        </p:blipFill>
        <p:spPr>
          <a:xfrm>
            <a:off x="5645160" y="3913200"/>
            <a:ext cx="2468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hart 2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12040" cy="5619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vious APGridPMA meeting was held on Oct. 12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Operation Policy and Practice Update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ST, IGCA, KEK, NCHC, and ASG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ly self audit report mechanism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APGridPMA F2F Meeting will be held on Mar.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HKU, IHEP, PR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member report: UPM (delayed from last mee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: Sapporo Japan, Oct 17, 2011, by 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located with PRAGMA 21 (Oct. 18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523880" y="44280"/>
            <a:ext cx="73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TF All Hand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 &amp; Time: March 21-22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: Academia Sinica, Taipei, Tai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cated Events: OGF31, ISGC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DS Workshop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: Natural Disaster Mitigation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I: Life Science (20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a@home Hackfest (20-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GF Tutorial (DEGISCO) (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TF All-Hands Meeting (21 - 22 March) +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GC 2010 Symposium(22 - 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31 (21-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da: Comments are welco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23:10Z</dcterms:created>
  <dc:creator>David Groep</dc:creator>
  <dc:description/>
  <dc:language>en-US</dc:language>
  <cp:lastModifiedBy>mac</cp:lastModifiedBy>
  <dcterms:modified xsi:type="dcterms:W3CDTF">2011-01-24T08:42:23Z</dcterms:modified>
  <cp:revision>229</cp:revision>
  <dc:subject/>
  <dc:title>International Grid Trust Federation Session  GGF 18 Washington, DC, USA</dc:title>
</cp:coreProperties>
</file>