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DBE3D76-9A56-4426-AC03-153A73DE28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22959A9-AAE3-429E-B335-3C4D95C9D8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DA1F077-C988-416B-B155-64C1FC27740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D120B190-5E32-4A0F-840E-E10CC4DDF2A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2B71C1C0-9FDB-4DC1-A503-E94718AB605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8EDDA801-1C2F-41F6-8547-8571B613F2C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5D422072-E95D-41C9-9753-5E0743BB257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B461DE4D-664D-47BA-88C4-CD7E1A798A3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77FAC0C-FAB9-4E66-9059-77771735643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3F5090DF-1A7A-47D0-9F18-FB8DA810BB1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36F270AB-9762-44F9-AF8C-E0FB351BB71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A9BAC137-4042-4BDD-97C2-48EE5CB3245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10F62462-A5AB-4A54-8E73-6D5A96A93E8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Security Token Services 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for e-Infrastructures?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24-26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Utrecht, the Netherlands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ecurity Mechanisms: new directio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GI Infrastructure supported by a series of EU projects on software developm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MI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G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tratusLab, VENUS-C, EDGI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GI + M/W project develop middleware roadm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n EMI roadmap is a study on ‘native integration’ of multiple security mechanisms, based around the Security Token Service (STS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EMI STS Roadm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urity Token Service (STS) development dependent on DCI user need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ork owner in EMI is SWITCH (CH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totype after the first year of the EMI projec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itial prototype dependent on Shibboleth IdP v3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 collaboration with the WS-Trust interop grou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9" name="TextBox 3"/>
          <p:cNvSpPr/>
          <p:nvPr/>
        </p:nvSpPr>
        <p:spPr>
          <a:xfrm>
            <a:off x="206280" y="6002280"/>
            <a:ext cx="893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MI DJRA1.3.1, 17 Dec 20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ttps://twiki.cern.ch/twiki/bin/view/EMI/DeliverableDJRA13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TS role in the infrastructur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se as a trusted source of security token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derived from yet other tokens (translator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s foreseen in EMI, ties in with online CAs and attribute authorities (like VOMS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looks a bit like a generalised SLC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2" name="Picture 3" descr="C:\Users\davidg\Desktop\Trans\STS-IdP_integration.png"/>
          <p:cNvPicPr/>
          <p:nvPr/>
        </p:nvPicPr>
        <p:blipFill>
          <a:blip r:embed="rId1"/>
          <a:stretch/>
        </p:blipFill>
        <p:spPr>
          <a:xfrm>
            <a:off x="1814400" y="3244680"/>
            <a:ext cx="5176800" cy="32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Other STS characteristic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TS translates anything to anyth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 general it is WS-* like security (WS-Trus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s a trusted source of SAML meta-dat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linking it to an on-line CA is just an edge case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TS does trust establishm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o there is a need for relying parties to ‘trust’ the tokens coming out of i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es not easily fit any of the current IGTF AP mode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echnology is different, but in EGI-EMI scenarios the logical role may be equivalent or complementar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Consideration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can we help facilitate trust building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like we do today for PKIX-based trust model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hould we facilitate trust establishment via SAML-metadata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iscussion propos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da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troduction to STS concepts and practical experience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(thanks to Remco and SURFne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iscussion on our role and feasibil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f we decide to continue on this track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ague meet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MI plans for STS and EMI roadma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cope of the new wor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Ljubljana meet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itial concepts around a Profile and trust guidelin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eginning 2012: recommendations/guidelines/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BUT NOW ...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1-01-21T13:21:30Z</dcterms:modified>
  <cp:revision>496</cp:revision>
  <dc:subject/>
  <dc:title>European Grid Policy Management Authority</dc:title>
</cp:coreProperties>
</file>