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8E82-CB00-4EF4-902D-CBC914C9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28A22-7517-49D5-AD3B-F4B0084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1F239-6E74-4747-8916-2F60A8FF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4A9F7-7518-4D87-B62A-4DE192F9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8B431-154A-4836-A2C9-C54DE405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58BC-8F50-4E4B-B490-52585AF0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BD59-E2EC-4222-9D68-D9076D9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D0F96-4C75-4D91-B4E2-946C8BB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F865-EAFA-4D20-8315-3BDE3DBC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AE954-3945-4976-9C90-3B42226A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EAAAC-9750-4F55-ACD0-FE554745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C1F55-9200-4FE0-81C6-1F01BF92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HEBCA.or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483-7F4E-4F22-A179-9934967163AD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DD23-DB19-417E-A458-3D683B471E9E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ott.Rea@HEBCA.org" TargetMode="External"/><Relationship Id="rId2" Type="http://schemas.openxmlformats.org/officeDocument/2006/relationships/hyperlink" Target="mailto:Roger.Impey@nrc-cnrc.gc.c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tagpma.es.net/wiki" TargetMode="External"/><Relationship Id="rId4" Type="http://schemas.openxmlformats.org/officeDocument/2006/relationships/hyperlink" Target="mailto:Scott.Rea@HEBCA.org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1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st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, Utrecht, N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25, 2011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H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Roger.Impey@nrc-cnrc.gc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Jul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an Sil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THE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n.sill@ttu.edu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Jim Marsteller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Tera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m@psc.e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lan handles logistics &amp; scribe, Jim handles membership &amp; accreditation track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Nov 201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(OSG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lolson@lbl.gov resigned in Nov 2010 due to changing role at OS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0228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64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B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5 Members from North, Central and South Amer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17 IGTF Accredited 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5 SLCS (NCSA x 2, FermiLabs, NERSC, and PS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6 CAs in-process, pending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Classic pending (SENAMHI – Peru, UNIANDES – Colombia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SLCS pending (NICS UTK –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7 Relying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OSG, TeraGrid, THEgrid, LCG, HEBCA, NIH, SURA Gri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relying parties added at last F2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in suspended status due to inactiv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UVA (Jim Jok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representative un-specified due to change in personn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Scott.Rea@HEBCA.org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Symposium on Authentication Technologies; Roundtable on Cloud and Grid Security Standards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October 4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,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12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TAGPMA F2F &amp; IGTF 5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Anniversary at Texas Tech Uni, Lubbock, T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October 5 –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CSA CILogin (MICS) – Oct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ICS &amp; UNIANDES just awaiting Operational Review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2 Relying Parties (SURA, NIH) added – Oct 7, 201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ICS 1.2 approved by TAGPMA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ttp://tagpma.es.net/wiki/bin/view/Main/TagMICS)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3th TAGPMA F2F planned for Bogota, Colum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-3 June,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etails to follow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6th Januar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11-01-25T13:10:31Z</dcterms:modified>
  <cp:revision>129</cp:revision>
  <dc:subject>21st EUGridPMA</dc:subject>
  <dc:title>TAGPMA Update</dc:title>
</cp:coreProperties>
</file>