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F24E-740A-4C3C-9449-6F985C9F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055D-C098-45FA-82D1-7D85185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17ED-7313-44E3-8A75-EBD231DC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6AA2-6DC6-4F26-AA4E-0ACA1AAC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FD11-2447-4B37-A9E6-9B6B33F9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1BAC-1C9A-481E-9591-A097E31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E379-7623-4146-86C4-8FB9502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C987-A663-49CF-905C-317C32E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7875-FEEA-4067-99BE-9A9CD1A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71AD-3201-4C22-9B6C-D3DACB5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828F-87D3-4D4E-8F58-13E491D5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5FEF-D8AF-4DAB-BCA5-82E325EE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4023E0-84A9-4022-AF9D-481FF2A5828D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109B4-ABC4-4AE6-AFA6-ECB54A087747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pentrust.com/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trecht – 25 Januar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orresponding RA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RA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8920" y="358560"/>
            <a:ext cx="75308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no 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, contact the institution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ome statistic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628640"/>
          <a:ext cx="7530840" cy="4111560"/>
        </p:xfrm>
        <a:graphic>
          <a:graphicData uri="http://schemas.openxmlformats.org/drawingml/2006/table">
            <a:tbl>
              <a:tblPr/>
              <a:tblGrid>
                <a:gridCol w="1139760"/>
                <a:gridCol w="1914480"/>
                <a:gridCol w="2332080"/>
                <a:gridCol w="2144520"/>
              </a:tblGrid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Revoc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Expir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7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(Opentrust)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e are happy with i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ed to renew the licen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ill be investigate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hat will happen for the local RA’s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982520"/>
            <a:ext cx="7532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LD system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OpenC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Was working but...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Lot of work on BELNET part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No local RA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all of tender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KI system (not only) for the BEgri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duct / Full Servi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6 answ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4 Full Servic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2 Software product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C159-84EB-4E15-A08A-0BAC1A6992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penTrust PKI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trust.com/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operate as much CA and Root CA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deliver as much certificates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4e504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11280" y="1413000"/>
          <a:ext cx="43434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43434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local RA’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Managed by a 2 year convention between the RA, its institution and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ollowed a training by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hould know their users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Should have a backup person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Validates the certificate / revocation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 Real</cp:lastModifiedBy>
  <dcterms:modified xsi:type="dcterms:W3CDTF">2011-01-24T14:23:13Z</dcterms:modified>
  <cp:revision>11</cp:revision>
  <dc:subject/>
  <dc:title>Title presentation</dc:title>
</cp:coreProperties>
</file>