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AE1-78A1-4A9F-8206-159AE6BF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73E-B26D-4545-9CAC-C06F40A2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8E8-592D-4155-A2BE-C2C17E45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58A1-001C-4576-A70D-4CCF0E5D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F1B9-5DB5-4617-89C5-AC906F2C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C6D2-74D3-47F7-8539-246DF111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465E-2E2E-46FA-8552-D23D5B7B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E946-2C9C-4A51-8FF2-209CEEAB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B44A-4449-4F46-838D-B490D51B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127F-C351-4BD8-A627-0E9065E6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26D2-0C22-446B-BB05-51060622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9F1-20BC-45ED-9FD1-FE5607FB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1826-39F7-45C4-9EB0-95B431F9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8CE2-8EE3-4479-AC13-32F62E2C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BE37-B420-4873-AA51-8C2799E7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42F3-D4FD-4210-8BE6-8B33CDC2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A492-3C3E-4E58-AF7C-A1BD30D1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F70-CD57-40DB-8595-CC7CB1C0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C38-EF39-45C7-A854-3A4E1E22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E45-A371-4155-B207-6768DE84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4E2-E1CB-46F0-A580-4FF34C39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D3F1-E538-4D69-93DE-0619EC11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33B-C648-465E-81EF-9875EDC7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F67-A51B-45FE-A4A9-1F75E81C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DCACA6-E3A9-43F0-8360-B1F523FC639C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874302-36F4-42AA-A245-95245323D160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676764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e-Infrastructure</a:t>
            </a:r>
            <a:br>
              <a:rPr sz="6000"/>
            </a:b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 in Algeri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920" y="3789000"/>
            <a:ext cx="6400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uaouche El-Maouh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s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maouhab@wissal.d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4797360"/>
            <a:ext cx="158436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55600"/>
            <a:ext cx="754524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EUMEDGrid-support &amp; EPIK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907560"/>
            <a:ext cx="619272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e-Infrastructure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26560" y="2852280"/>
            <a:ext cx="624852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gerian Research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 e-Science Gri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Initiative G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619272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ARN Infrastructure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34452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Communication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Technological infrastructure for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just">
              <a:lnSpc>
                <a:spcPct val="80000"/>
              </a:lnSpc>
              <a:spcBef>
                <a:spcPts val="7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-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just">
              <a:lnSpc>
                <a:spcPct val="80000"/>
              </a:lnSpc>
              <a:spcBef>
                <a:spcPts val="7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-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just">
              <a:lnSpc>
                <a:spcPct val="80000"/>
              </a:lnSpc>
              <a:spcBef>
                <a:spcPts val="7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1692000" cy="122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55600"/>
            <a:ext cx="754524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ARN - Connectiv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3104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National backbone based on 4 PoPs actually and 10 PoPs which are under deploy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nternational Connectivity through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GEANT (European Research Network) with </a:t>
            </a:r>
            <a:r>
              <a:rPr b="0" lang="fr-FR" sz="2200" spc="-1" strike="noStrike">
                <a:solidFill>
                  <a:srgbClr val="ff3300"/>
                </a:solidFill>
                <a:latin typeface="Arial"/>
              </a:rPr>
              <a:t>155 Mbps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hrough EC EUMEDCONNECT2 project (May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ternet commodity with </a:t>
            </a: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622 Mbp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through commercial Provider (May 2010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2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77840"/>
            <a:ext cx="75452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500" spc="-1" strike="noStrike">
                <a:solidFill>
                  <a:srgbClr val="330066"/>
                </a:solidFill>
                <a:latin typeface="Arial"/>
              </a:rPr>
              <a:t>ARN</a:t>
            </a:r>
            <a:br>
              <a:rPr sz="3500"/>
            </a:br>
            <a:r>
              <a:rPr b="1" lang="fr-CA" sz="3500" spc="-1" strike="noStrike">
                <a:solidFill>
                  <a:srgbClr val="330066"/>
                </a:solidFill>
                <a:latin typeface="Arial"/>
              </a:rPr>
              <a:t>Action plan (2011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pgrade ARN Backbone with GE li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pgrade international connectivity to GE l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pgrade 30 Universities to FE (100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pgrade all others (50) universities centers, research centers and high schools to FE (10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2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2073240" y="2498760"/>
            <a:ext cx="2305080" cy="72072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78320" y="2421000"/>
            <a:ext cx="2122560" cy="29376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04120" y="2395440"/>
            <a:ext cx="695160" cy="3096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2142360" y="299808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571120" y="321408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284000" y="242820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285360" y="278532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4214160" y="249804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500080" y="235512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4280" y="271404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427080" y="264240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643720" y="5071320"/>
            <a:ext cx="14256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7070040" y="235512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134136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CA" sz="2000" spc="-1" strike="noStrike">
                <a:solidFill>
                  <a:srgbClr val="ffffff"/>
                </a:solidFill>
                <a:latin typeface="Calibri"/>
              </a:rPr>
              <a:t>GEANT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86200" y="260280"/>
            <a:ext cx="12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alibri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119700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600" spc="-1" strike="noStrike">
                <a:solidFill>
                  <a:srgbClr val="ff0000"/>
                </a:solidFill>
                <a:latin typeface="Calibri"/>
              </a:rPr>
              <a:t>STM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73440" y="184464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ff0000"/>
                </a:solidFill>
                <a:latin typeface="Calibri"/>
              </a:rPr>
              <a:t>STM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78320" y="2536920"/>
            <a:ext cx="1327320" cy="256356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05320" y="2523960"/>
            <a:ext cx="2073240" cy="30348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78280" y="4791240"/>
            <a:ext cx="849240" cy="33480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02000" y="4095720"/>
            <a:ext cx="1484280" cy="111924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V="1" rot="10800000">
            <a:off x="4145760" y="5144760"/>
            <a:ext cx="1500840" cy="72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86" name=""/>
          <p:cNvSpPr/>
          <p:nvPr/>
        </p:nvSpPr>
        <p:spPr>
          <a:xfrm>
            <a:off x="5705640" y="4327560"/>
            <a:ext cx="952200" cy="83664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3400" y="2781360"/>
            <a:ext cx="476280" cy="37476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08600" y="2793960"/>
            <a:ext cx="179280" cy="72252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0120" y="2808360"/>
            <a:ext cx="528480" cy="25704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0600" y="376200"/>
            <a:ext cx="3925800" cy="2057400"/>
          </a:xfrm>
          <a:prstGeom prst="pie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"/>
          <p:cNvCxnSpPr/>
          <p:nvPr/>
        </p:nvCxnSpPr>
        <p:spPr>
          <a:xfrm flipV="1">
            <a:off x="1926720" y="720"/>
            <a:ext cx="2429640" cy="430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92" name=""/>
          <p:cNvSpPr/>
          <p:nvPr/>
        </p:nvSpPr>
        <p:spPr>
          <a:xfrm>
            <a:off x="1263600" y="3308400"/>
            <a:ext cx="1305000" cy="193680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35200" y="3348000"/>
            <a:ext cx="41400" cy="18900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17800" y="2878200"/>
            <a:ext cx="390600" cy="14760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53200" y="2475000"/>
            <a:ext cx="243000" cy="75240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29280" y="2629080"/>
            <a:ext cx="88560" cy="12672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05040" y="2505240"/>
            <a:ext cx="1657440" cy="75852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24320" y="2619360"/>
            <a:ext cx="190440" cy="100008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43720" y="2752560"/>
            <a:ext cx="276120" cy="46692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14640" y="2629080"/>
            <a:ext cx="419400" cy="12348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52760" y="2514600"/>
            <a:ext cx="514440" cy="17136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24640" y="2419200"/>
            <a:ext cx="133200" cy="23832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53200" y="2476440"/>
            <a:ext cx="152640" cy="22860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8400" y="2390760"/>
            <a:ext cx="361800" cy="2844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10120" y="2400480"/>
            <a:ext cx="514440" cy="9504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32400" y="2143080"/>
            <a:ext cx="44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Bejai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214160" y="249804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714280" y="271404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24120" y="3238560"/>
            <a:ext cx="628560" cy="5724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09720" y="3124080"/>
            <a:ext cx="362160" cy="37152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"/>
          <p:cNvCxnSpPr/>
          <p:nvPr/>
        </p:nvCxnSpPr>
        <p:spPr>
          <a:xfrm flipV="1" rot="10800000">
            <a:off x="-2265480" y="3358800"/>
            <a:ext cx="3093120" cy="1807200"/>
          </a:xfrm>
          <a:prstGeom prst="bentConnector3">
            <a:avLst>
              <a:gd name="adj1" fmla="val 49994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12" name=""/>
          <p:cNvSpPr/>
          <p:nvPr/>
        </p:nvSpPr>
        <p:spPr>
          <a:xfrm>
            <a:off x="574560" y="58579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alibri"/>
              </a:rPr>
              <a:t>Adr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4040" y="592920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3b76"/>
                </a:solidFill>
                <a:latin typeface="Calibri"/>
              </a:rPr>
              <a:t>Tamanras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408560" y="1284120"/>
            <a:ext cx="806400" cy="1167120"/>
          </a:xfrm>
          <a:prstGeom prst="line">
            <a:avLst/>
          </a:prstGeom>
          <a:ln w="9360">
            <a:solidFill>
              <a:srgbClr val="f134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907920"/>
            <a:ext cx="4029120" cy="732960"/>
          </a:xfrm>
          <a:prstGeom prst="rect">
            <a:avLst/>
          </a:prstGeom>
          <a:solidFill>
            <a:srgbClr val="0066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MESRS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DGRSD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UMBB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 UNIV. ALGER (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Ben-Aknoun1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Ben-Aknoun2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Bouzareah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Beni-Messous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Dely-Brahim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Maherzi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Kharrouba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Dergana</a:t>
            </a:r>
            <a:r>
              <a:rPr b="0" lang="fr-FR" sz="800" spc="-1" strike="noStrike">
                <a:solidFill>
                  <a:srgbClr val="f13415"/>
                </a:solidFill>
                <a:latin typeface="Calibri"/>
              </a:rPr>
              <a:t>), ENTP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USTHB, ENP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ESI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1000" spc="-1" strike="noStrike">
                <a:solidFill>
                  <a:srgbClr val="f13415"/>
                </a:solidFill>
                <a:latin typeface="Calibri"/>
              </a:rPr>
              <a:t>ENV,ENTP,ENSH,INA,EPAU,ISMAL,INPS,INC,ESC,ENS(KOUBA</a:t>
            </a:r>
            <a:r>
              <a:rPr b="0" lang="fr-FR" sz="800" spc="-1" strike="noStrike">
                <a:solidFill>
                  <a:srgbClr val="f13415"/>
                </a:solidFill>
                <a:latin typeface="Calibri"/>
              </a:rPr>
              <a:t>)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f13415"/>
                </a:solidFill>
                <a:latin typeface="Calibri"/>
              </a:rPr>
              <a:t>ENS(BOUZAREAH)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CERIST,CDTA,CDER,CSC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CRSTDLA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CREAD,CRAPC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UDTS,UD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ANDRU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ANVREDE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UF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26680" y="2286000"/>
            <a:ext cx="1515600" cy="337320"/>
          </a:xfrm>
          <a:prstGeom prst="rect">
            <a:avLst/>
          </a:prstGeom>
          <a:solidFill>
            <a:srgbClr val="0066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800" spc="-1" strike="noStrike">
                <a:solidFill>
                  <a:srgbClr val="00b0f0"/>
                </a:solidFill>
                <a:latin typeface="Calibri"/>
              </a:rPr>
              <a:t>U. ES-SENIA</a:t>
            </a:r>
            <a:r>
              <a:rPr b="0" lang="fr-CA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CA" sz="800" spc="-1" strike="noStrike">
                <a:solidFill>
                  <a:srgbClr val="00b0f0"/>
                </a:solidFill>
                <a:latin typeface="Calibri"/>
              </a:rPr>
              <a:t>USTO</a:t>
            </a:r>
            <a:r>
              <a:rPr b="0" lang="fr-CA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CA" sz="800" spc="-1" strike="noStrike">
                <a:solidFill>
                  <a:srgbClr val="f13415"/>
                </a:solidFill>
                <a:latin typeface="Calibri"/>
              </a:rPr>
              <a:t>ENSET</a:t>
            </a:r>
            <a:r>
              <a:rPr b="0" lang="fr-CA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CA" sz="800" spc="-1" strike="noStrike">
                <a:solidFill>
                  <a:srgbClr val="f13415"/>
                </a:solidFill>
                <a:latin typeface="Calibri"/>
              </a:rPr>
              <a:t>CRAS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800" spc="-1" strike="noStrike">
                <a:solidFill>
                  <a:srgbClr val="f13415"/>
                </a:solidFill>
                <a:latin typeface="Calibri"/>
              </a:rPr>
              <a:t>ANDRS</a:t>
            </a:r>
            <a:r>
              <a:rPr b="0" lang="fr-CA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CA" sz="800" spc="-1" strike="noStrike">
                <a:solidFill>
                  <a:srgbClr val="00b0f0"/>
                </a:solidFill>
                <a:latin typeface="Calibri"/>
              </a:rPr>
              <a:t>IGM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66760" y="2629080"/>
            <a:ext cx="123840" cy="371160"/>
          </a:xfrm>
          <a:prstGeom prst="pie">
            <a:avLst/>
          </a:prstGeom>
          <a:noFill/>
          <a:ln w="9360">
            <a:solidFill>
              <a:srgbClr val="f134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45800" y="1785960"/>
            <a:ext cx="2132640" cy="215640"/>
          </a:xfrm>
          <a:prstGeom prst="rect">
            <a:avLst/>
          </a:prstGeom>
          <a:solidFill>
            <a:srgbClr val="0066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U.  Constantine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U. Emir AEK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800" spc="-1" strike="noStrike">
                <a:solidFill>
                  <a:srgbClr val="f13415"/>
                </a:solidFill>
                <a:latin typeface="Calibri"/>
              </a:rPr>
              <a:t>ENS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fr-FR" sz="800" spc="-1" strike="noStrike">
                <a:solidFill>
                  <a:srgbClr val="f13415"/>
                </a:solidFill>
                <a:latin typeface="Calibri"/>
              </a:rPr>
              <a:t>CRBiotech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.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86480" y="1990800"/>
            <a:ext cx="171360" cy="647640"/>
          </a:xfrm>
          <a:prstGeom prst="pie">
            <a:avLst/>
          </a:prstGeom>
          <a:noFill/>
          <a:ln w="9360">
            <a:solidFill>
              <a:srgbClr val="f134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6427080" y="264240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643720" y="5071320"/>
            <a:ext cx="14256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040" y="5950080"/>
            <a:ext cx="95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900" spc="-1" strike="noStrike">
                <a:solidFill>
                  <a:srgbClr val="003b76"/>
                </a:solidFill>
                <a:latin typeface="Calibri"/>
              </a:rPr>
              <a:t>(U. Adrar, UEE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09440" y="3500280"/>
            <a:ext cx="106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Calibri"/>
              </a:rPr>
              <a:t>(U. Biskra,CRSTR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75920" y="4857840"/>
            <a:ext cx="109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Calibri"/>
              </a:rPr>
              <a:t>(U. Ghardaia, URAER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57880" y="2857680"/>
            <a:ext cx="46080" cy="457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86680" y="2643120"/>
            <a:ext cx="4572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71920" y="3071880"/>
            <a:ext cx="4608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86720" y="2928960"/>
            <a:ext cx="4572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14720" y="3286080"/>
            <a:ext cx="4572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57240" y="3357720"/>
            <a:ext cx="86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900" spc="-1" strike="noStrike">
                <a:solidFill>
                  <a:srgbClr val="ffffff"/>
                </a:solidFill>
                <a:latin typeface="Calibri"/>
              </a:rPr>
              <a:t>Sidi Bel Abb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89160" y="3129120"/>
            <a:ext cx="38160" cy="180720"/>
          </a:xfrm>
          <a:prstGeom prst="pie">
            <a:avLst/>
          </a:prstGeom>
          <a:solidFill>
            <a:srgbClr val="f13415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19160" y="3103560"/>
            <a:ext cx="219240" cy="16812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58920" y="2714760"/>
            <a:ext cx="95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Bordj Bou Arreridj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00720" y="2809800"/>
            <a:ext cx="323640" cy="7632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33160" y="2571840"/>
            <a:ext cx="39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900" spc="-1" strike="noStrike">
                <a:solidFill>
                  <a:srgbClr val="ffffff"/>
                </a:solidFill>
                <a:latin typeface="Calibri"/>
              </a:rPr>
              <a:t>Mil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15120" y="2685960"/>
            <a:ext cx="123840" cy="972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60480" y="2928960"/>
            <a:ext cx="87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Calibri"/>
              </a:rPr>
              <a:t>Oum-El-Bouaghi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2762280"/>
            <a:ext cx="247680" cy="17136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92640" y="2868480"/>
            <a:ext cx="179280" cy="18900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307188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Calibri"/>
              </a:rPr>
              <a:t>Tissemsil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429760" y="0"/>
            <a:ext cx="714240" cy="500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035760" y="291960"/>
            <a:ext cx="1265040" cy="505080"/>
            <a:chOff x="6035760" y="291960"/>
            <a:chExt cx="1265040" cy="505080"/>
          </a:xfrm>
        </p:grpSpPr>
        <p:pic>
          <p:nvPicPr>
            <p:cNvPr id="243" name="" descr=""/>
            <p:cNvPicPr/>
            <p:nvPr/>
          </p:nvPicPr>
          <p:blipFill>
            <a:blip r:embed="rId3"/>
            <a:stretch/>
          </p:blipFill>
          <p:spPr>
            <a:xfrm>
              <a:off x="6035760" y="291960"/>
              <a:ext cx="126504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145200" y="356760"/>
              <a:ext cx="106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ARN M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862680" y="2571840"/>
            <a:ext cx="54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900" spc="-1" strike="noStrike">
                <a:solidFill>
                  <a:srgbClr val="ffffff"/>
                </a:solidFill>
                <a:latin typeface="Calibri"/>
              </a:rPr>
              <a:t>Guelm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58040" y="2500200"/>
            <a:ext cx="4608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0" y="2714760"/>
            <a:ext cx="4608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6570720" y="2712600"/>
            <a:ext cx="295200" cy="9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7192440" y="2477880"/>
            <a:ext cx="173160" cy="29880"/>
          </a:xfrm>
          <a:prstGeom prst="line">
            <a:avLst/>
          </a:prstGeom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18720" y="2500200"/>
            <a:ext cx="48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Calibri"/>
              </a:rPr>
              <a:t>El-Tar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20480" y="2643120"/>
            <a:ext cx="80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900" spc="-1" strike="noStrike">
                <a:solidFill>
                  <a:srgbClr val="ffffff"/>
                </a:solidFill>
                <a:latin typeface="Calibri"/>
              </a:rPr>
              <a:t>Mostagane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71840" y="2857680"/>
            <a:ext cx="46080" cy="457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212560" y="2863800"/>
            <a:ext cx="366840" cy="136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00280" y="6215040"/>
            <a:ext cx="285840" cy="1440"/>
          </a:xfrm>
          <a:prstGeom prst="line">
            <a:avLst/>
          </a:prstGeom>
          <a:ln w="381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00280" y="6357960"/>
            <a:ext cx="285840" cy="144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00280" y="6500880"/>
            <a:ext cx="2858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0280" y="6643800"/>
            <a:ext cx="285840" cy="1440"/>
          </a:xfrm>
          <a:prstGeom prst="line">
            <a:avLst/>
          </a:prstGeom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00280" y="6072120"/>
            <a:ext cx="285840" cy="18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5929200"/>
            <a:ext cx="49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Lien G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30080" y="6072120"/>
            <a:ext cx="42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STM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30080" y="6215040"/>
            <a:ext cx="42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STM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29360" y="635796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FE 100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9360" y="6500880"/>
            <a:ext cx="49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FE 10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596360" y="5735520"/>
            <a:ext cx="1547640" cy="112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624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330066"/>
                </a:solidFill>
                <a:latin typeface="Arial"/>
              </a:rPr>
              <a:t>Dz e-Science Grid</a:t>
            </a:r>
            <a:br>
              <a:rPr sz="5400"/>
            </a:br>
            <a:r>
              <a:rPr b="1" lang="fr-FR" sz="5400" spc="-1" strike="noStrike">
                <a:solidFill>
                  <a:srgbClr val="330066"/>
                </a:solidFill>
                <a:latin typeface="Arial"/>
              </a:rPr>
              <a:t> infrastructure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95280" y="3049200"/>
            <a:ext cx="6702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to e-Science communities a plate-form for developing activities which need resources for calculate an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un set of Grid resources “clusters” on ARN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ervice to users for porting, deploying and submitting thei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624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330066"/>
                </a:solidFill>
                <a:latin typeface="Arial"/>
              </a:rPr>
              <a:t>Participation to</a:t>
            </a:r>
            <a:br>
              <a:rPr sz="4800"/>
            </a:br>
            <a:r>
              <a:rPr b="1" lang="fr-FR" sz="4800" spc="-1" strike="noStrike">
                <a:solidFill>
                  <a:srgbClr val="330066"/>
                </a:solidFill>
                <a:latin typeface="Arial"/>
              </a:rPr>
              <a:t>EC Projects (FP7)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95280" y="3049200"/>
            <a:ext cx="6702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UMEDCONNEC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UMEDGrid-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PIK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158436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826920" y="0"/>
            <a:ext cx="74026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UMEDCONNECT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201080" cy="518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21:09:25Z</dcterms:created>
  <dc:creator>Boomscud</dc:creator>
  <dc:description/>
  <dc:language>en-US</dc:language>
  <cp:lastModifiedBy>houbla</cp:lastModifiedBy>
  <dcterms:modified xsi:type="dcterms:W3CDTF">2011-01-25T00:48:38Z</dcterms:modified>
  <cp:revision>33</cp:revision>
  <dc:subject/>
  <dc:title>dzGrid Initiative GRID nationale</dc:title>
</cp:coreProperties>
</file>