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69AD7-65F0-470E-AE6C-AD04537AD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4D8A4-CDFA-41CC-A504-4C81BC4A2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4F0D1-CCE9-4A72-B548-2347A4959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37FF3-A795-4614-B83A-14842482F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6EBB4-AB86-4048-9C26-56CB40ECF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07A0A-1922-47D1-B067-59168C5D1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53D7F-3451-49A8-B8BA-C736FF553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6072D-CEDD-4DAB-99F0-7F182D967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4AA13-D350-4A1B-99A2-863182C02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BFF41-2C9A-495F-A771-744DC115D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CBD11-F735-481B-8449-86E8D4F39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9AE74-FAAD-4B22-A5A7-3FE50F9EB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B344B-81C3-4EB3-939B-38C46D69C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886AB-F899-4886-BD69-6AB4DEBBB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EADA1-92B5-4339-B20D-BA7D9E3CE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9ADAB-0D39-4EC3-9C28-ED7ED4DD6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D9555-55CC-4171-8BC3-147CAB058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E06D5-44F1-4235-87EF-20548BDB5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EBD55-7915-4889-8A29-123B48027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F0252-008E-4050-9CCC-F81CF294E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D9C96-62D5-4BAC-923F-8E48BB148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C8AA-2067-4665-880C-179606BEE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10C52-950A-4857-BEBC-B8B3B5E9D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100E9-32EB-4B79-96FF-1C97E81ED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E406-F2E3-4266-899D-D580452CCB9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BF79-D240-4B66-8795-DF6BAF7C77E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stirenko@ugrid.org"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UGRID CA</a:t>
            </a:r>
            <a:endParaRPr b="0" lang="en-US" sz="4800" spc="-1" strike="noStrike">
              <a:solidFill>
                <a:srgbClr val="000000"/>
              </a:solidFill>
              <a:latin typeface="Verdana"/>
            </a:endParaRPr>
          </a:p>
        </p:txBody>
      </p:sp>
      <p:sp>
        <p:nvSpPr>
          <p:cNvPr id="86" name="PlaceHolder 2"/>
          <p:cNvSpPr>
            <a:spLocks noGrp="1"/>
          </p:cNvSpPr>
          <p:nvPr>
            <p:ph type="subTitle"/>
          </p:nvPr>
        </p:nvSpPr>
        <p:spPr>
          <a:xfrm>
            <a:off x="785880" y="2786040"/>
            <a:ext cx="3456000" cy="7192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audit report </a:t>
            </a:r>
            <a:endParaRPr b="0" lang="en-US" sz="2800" spc="-1" strike="noStrike">
              <a:solidFill>
                <a:srgbClr val="000000"/>
              </a:solidFill>
              <a:latin typeface="Verdana"/>
            </a:endParaRPr>
          </a:p>
        </p:txBody>
      </p:sp>
      <p:sp>
        <p:nvSpPr>
          <p:cNvPr id="87" name="Rectangle 7"/>
          <p:cNvSpPr/>
          <p:nvPr/>
        </p:nvSpPr>
        <p:spPr>
          <a:xfrm>
            <a:off x="4572000" y="4437000"/>
            <a:ext cx="4346640" cy="192096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gii Stirenko</a:t>
            </a:r>
            <a:endParaRPr b="0" lang="en-US" sz="2400" spc="-1" strike="noStrike">
              <a:solidFill>
                <a:srgbClr val="000000"/>
              </a:solidFill>
              <a:latin typeface="Verdan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Verdana"/>
                <a:hlinkClick r:id="rId1"/>
              </a:rPr>
              <a:t>stirenko@ugrid.org</a:t>
            </a:r>
            <a:endParaRPr b="0" lang="en-US" sz="2400" spc="-1" strike="noStrike">
              <a:solidFill>
                <a:srgbClr val="000000"/>
              </a:solidFill>
              <a:latin typeface="Verdan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1</a:t>
            </a:r>
            <a:r>
              <a:rPr b="0" lang="en-US" sz="2400" spc="-1" strike="noStrike" baseline="30000">
                <a:solidFill>
                  <a:srgbClr val="000000"/>
                </a:solidFill>
                <a:latin typeface="Verdana"/>
              </a:rPr>
              <a:t>st</a:t>
            </a:r>
            <a:r>
              <a:rPr b="0" lang="en-US" sz="2400" spc="-1" strike="noStrike">
                <a:solidFill>
                  <a:srgbClr val="000000"/>
                </a:solidFill>
                <a:latin typeface="Verdana"/>
              </a:rPr>
              <a:t> EUGRIDPMA Meeting</a:t>
            </a:r>
            <a:endParaRPr b="0" lang="en-US" sz="2400" spc="-1" strike="noStrike">
              <a:solidFill>
                <a:srgbClr val="000000"/>
              </a:solidFill>
              <a:latin typeface="Verdan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trecht 24 January 2011</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6 Certificate Revocation List</a:t>
            </a:r>
            <a:endParaRPr b="0" lang="en-US" sz="32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6) Every CA must generate and publish CRL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http://ca.ugrid.org/cacrl.der</a:t>
            </a:r>
            <a:r>
              <a:rPr b="0" lang="ru-RU" sz="1800" spc="-1" strike="noStrike">
                <a:solidFill>
                  <a:srgbClr val="000000"/>
                </a:solidFill>
                <a:latin typeface="Verdana"/>
              </a:rPr>
              <a:t> </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7)  The CRL lifetime must be no more than 30 day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30 day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8) Every CA must issue a new CRL at least 7 days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10 days before nextUpdate field</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9) Every CA must issue a new CRL immediately after a revocatio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The signed CRL must be published in a repository at least accessible via the World Wide Web, as soon as issued.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CRL is published as soon as issued</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1)  The CRLs must be compliant with RFC5280.</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7 End Entity Certificates and Keys</a:t>
            </a:r>
            <a:endParaRPr b="0" lang="en-US" sz="32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2)  The user key and the host key must have a minimum length of 1024 bits.</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3)  Lifetime of user certificates and host certificates must be no longer than 13 months.</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User and host certificated have lifetime not more than 12 months</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4) No user certificates may be shared.</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Users are obliged through the CP/CPS and the document they are signing for each request</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5)  The authority shall issue X.509 certificates to end entities based on cryptographic data generated by the applicant …</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UGRID CA issue certificates to end entities based on cryptographic data generated by the applicant</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6) Every CA should make a reasonable effort to make sure that subscribers realize the importance of properly protecting…</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ea typeface="굴림"/>
              </a:rPr>
              <a:t>It is clearly stated in the CP/CPS and in the paper certificate request form</a:t>
            </a:r>
            <a:r>
              <a:rPr b="0" lang="ru-RU" sz="1700" spc="-1" strike="noStrike">
                <a:solidFill>
                  <a:srgbClr val="000000"/>
                </a:solidFill>
                <a:latin typeface="Verdana"/>
              </a:rPr>
              <a: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7 End Entity Certificates and Keys</a:t>
            </a:r>
            <a:endParaRPr b="0" lang="en-US" sz="32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fontScale="99000"/>
          </a:bodyPr>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7)  The end-entity certificates must comply with the Grid Certificate Profile as defined by the Open Grid Forum GFD.125.</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8)  If a commonName component is used as part of the subject DN, it should contain an appropriate presentation of the actual name of the end-entity.</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first and last names in case of user certificate, and FQDN in case of host certificate</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9) Certificates (and private keys) managed in a software token should only be re-keyed, not renewed.</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99"/>
                </a:solidFill>
                <a:latin typeface="Verdana"/>
              </a:rPr>
              <a:t>(D) It is stated in the CP/CPS, but we don’t check</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 Certificates associated with a private key residing solely on hardware token may be renewed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777777"/>
                </a:solidFill>
                <a:latin typeface="Verdana"/>
              </a:rPr>
              <a:t>(X) Not applicable, don’t use hardware token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1) Certificates must not be renewed or re-keyed consecutively for more than 5 years without a form of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the subscriber must go through the procedure equal to the application for a new certificate at least once every 3 year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8 </a:t>
            </a:r>
            <a:r>
              <a:rPr b="0" lang="en-US" sz="3400" spc="-1" strike="noStrike">
                <a:solidFill>
                  <a:srgbClr val="000000"/>
                </a:solidFill>
                <a:latin typeface="Verdana"/>
                <a:ea typeface="굴림"/>
              </a:rPr>
              <a:t>Records Archival</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 Every CA must record and archive all requests for certificates, along with all issued certificates, all requests for revocation, all the issued CRLs and login/logout/reboot information of the issuing machine.</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D) all except login/logout/reboot information of the issuing machin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3)  These records must be available to external auditors in the course of their work as auditor.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D)Difficult to make available for auditing</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4)  These records must be kept for at least three years, where the identity validation records must be kept at least as long as there are valid certificates based on such a validation.</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all records are kep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9 </a:t>
            </a:r>
            <a:r>
              <a:rPr b="0" lang="en-US" sz="3400" spc="-1" strike="noStrike">
                <a:solidFill>
                  <a:srgbClr val="000000"/>
                </a:solidFill>
                <a:latin typeface="Verdana"/>
                <a:ea typeface="굴림"/>
              </a:rPr>
              <a:t>Audit</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5) Each CA must accept being audited by other accredited CAs to verify its compliance with the rules and procedures specified in its CP/CPS document.</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section 8 CP/CP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6) Every CA should perform operational audits of the CA/RA staff at least once per year.</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ternal audits are performed at least once per year</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7) A list of CA and RA personnel should be maintained and verified at least once per year.</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RA list  https://ca.ugrid.org/ras.php</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verified several times a yea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1 Certification Authority</a:t>
            </a:r>
            <a:br>
              <a:rPr sz="2800"/>
            </a:br>
            <a:r>
              <a:rPr b="0" lang="en-US" sz="2800" spc="-1" strike="noStrike">
                <a:solidFill>
                  <a:srgbClr val="000000"/>
                </a:solidFill>
                <a:latin typeface="Verdana"/>
              </a:rPr>
              <a:t>3.1.10 Publication and Repository Responsibilities</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fontScale="99000"/>
          </a:bodyPr>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8)  The repository must be run at least on a best-effort basis, with an intended availability of 24x7.</a:t>
            </a:r>
            <a:endParaRPr b="0" lang="en-US" sz="17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Verdana"/>
              </a:rPr>
              <a:t>(B) YES, but some hours of downtime was in 2010 due to power failures</a:t>
            </a:r>
            <a:endParaRPr b="0" lang="en-US" sz="14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9)  The accredited authority must publish their X.509 signing certificate as the root of trust.</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our root is published by EUGridPMA/IGTF</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0) Each authority must publish the following for their subscribers, relying parties and for the benefit of distribution </a:t>
            </a:r>
            <a:r>
              <a:rPr b="1" i="1" lang="en-US" sz="1700" spc="-1" strike="noStrike">
                <a:solidFill>
                  <a:srgbClr val="000000"/>
                </a:solidFill>
                <a:latin typeface="Verdana"/>
              </a:rPr>
              <a:t>YES, all info published</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1)  The originating authority must grant to the PMA and the Federation the right of unlimited re-distribution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No distribution restriction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2)  The CA should provide a means to validate the integrity of its root of trust.</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SHA1 fingerprint is published by EUGridPMA/IGTF</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3)  The CA shall provide their trust anchor to a trust anchor repository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ea typeface="굴림"/>
              </a:rPr>
              <a:t>YES, available in the EUGridPMA/IGFT repositories</a:t>
            </a:r>
            <a:r>
              <a:rPr b="0" lang="ru-RU" sz="1700" spc="-1" strike="noStrike">
                <a:solidFill>
                  <a:srgbClr val="000000"/>
                </a:solidFill>
                <a:latin typeface="Verdana"/>
              </a:rPr>
              <a: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11 Privacy and Confidentialit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4) 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The legislation has changed at the end of 2010 and it is necessary to modify the policy according to 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1 Certification Authority</a:t>
            </a:r>
            <a:br>
              <a:rPr sz="2800"/>
            </a:br>
            <a:r>
              <a:rPr b="0" lang="en-US" sz="2800" spc="-1" strike="noStrike">
                <a:solidFill>
                  <a:srgbClr val="000000"/>
                </a:solidFill>
                <a:latin typeface="Verdana"/>
              </a:rPr>
              <a:t>3.1.11 Compromise and Disaster Recover</a:t>
            </a:r>
            <a:endParaRPr b="0" lang="en-US" sz="2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  The CA must have an adequate compromise and disaster recovery procedure, and we willing to discuss this procedure in the PMA. The procedure need not be disclosed in the policy and practice statement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D) No compromise and disaster recovery pla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1 Entity Identification</a:t>
            </a:r>
            <a:endParaRPr b="0" lang="en-US" sz="32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A PKI CA must define the role of a registration authority (RA), and these RAs are responsible for the identity vetting of all end entitie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section 1.3.2 of CP/CPS </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In order for an RA to validate the identity of a person, the subject should contact the RA face-to-face and present photo-id and/or valid official documents showing that the subject is an acceptable end entity as defined in the CP/CPS document of the CA.</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The initial authentication of a person based on government-issued identification documents and physical appearance of the applicant to the RA.</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In case of non-personal certificate requests, an RA should validate the identity and eligibility of the person in charge of the specific entities using a secure metho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encrypted and signed email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1 Entity Identification</a:t>
            </a:r>
            <a:endParaRPr b="0" lang="en-US" sz="32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For host and service certificate requests, an RA should ensure that the requestor is appropriately authorized by the owner of the associated FQDN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Host ownership verified by DNS/WHOIS and personal RA knowledg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n RA must validate the association of the certificate signing request.</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RA does it by comparing the personal data and public key modulus at the paper form and incoming request to be processed</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The CA or RA should have documented evidence on retaining the same identity over time. In all cases, the certificate request submitted for certification must be bound to the act of identity vetting.</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굴림"/>
              </a:rPr>
              <a:t>Checks Photo ID</a:t>
            </a:r>
            <a:r>
              <a:rPr b="0" lang="en-US" sz="2000" spc="-1" strike="noStrike">
                <a:solidFill>
                  <a:srgbClr val="000000"/>
                </a:solidFill>
                <a:latin typeface="Verdana"/>
                <a:ea typeface="굴림"/>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verview</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f-audit was done in accordance with the GFD.169</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dit date: Jan 15, 2011</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mmary:</a:t>
            </a:r>
            <a:endParaRPr b="0" lang="en-US" sz="3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 52</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 1</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 8</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 4</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 : 3</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2 </a:t>
            </a:r>
            <a:r>
              <a:rPr b="0" lang="en-US" sz="3400" spc="-1" strike="noStrike">
                <a:solidFill>
                  <a:srgbClr val="000000"/>
                </a:solidFill>
                <a:latin typeface="Verdana"/>
              </a:rPr>
              <a:t>Name Uniqueness</a:t>
            </a:r>
            <a:endParaRPr b="0" lang="en-US" sz="34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ny single subject distinguished name must be linked to one and only one entity.</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Over the entire lifetime of the CA it must not be linked to any other entity.</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3 </a:t>
            </a:r>
            <a:r>
              <a:rPr b="0" lang="en-US" sz="3400" spc="-1" strike="noStrike">
                <a:solidFill>
                  <a:srgbClr val="000000"/>
                </a:solidFill>
                <a:latin typeface="Verdana"/>
              </a:rPr>
              <a:t>RA to CA Communications</a:t>
            </a:r>
            <a:endParaRPr b="0" lang="en-US" sz="34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All communications between the CA and the RA regarding certificate issuance or changes in the status of a certificate must be by secure and auditable method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Encrypted and signed email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The CP/CPS should describe how the RA or CA is informed of changes that may affect the status of the certificate.</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This procedure isn’t well documen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4 </a:t>
            </a:r>
            <a:r>
              <a:rPr b="0" lang="en-US" sz="3400" spc="-1" strike="noStrike">
                <a:solidFill>
                  <a:srgbClr val="000000"/>
                </a:solidFill>
                <a:latin typeface="Verdana"/>
              </a:rPr>
              <a:t>Records Archival</a:t>
            </a:r>
            <a:endParaRPr b="0" lang="en-US" sz="34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The RA must record and archive all requests and confirmation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only paper personal certificate request forms and photo ID copi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The CA is responsible for maintaining an archive of these records in an auditable form.</a:t>
            </a:r>
            <a:endParaRPr b="0" lang="en-US" sz="2000" spc="-1" strike="noStrike">
              <a:solidFill>
                <a:srgbClr val="000000"/>
              </a:solidFill>
              <a:latin typeface="Verdana"/>
            </a:endParaRPr>
          </a:p>
          <a:p>
            <a:pPr lvl="1" marL="907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a:t>
            </a:r>
            <a:r>
              <a:rPr b="1" i="1" lang="en-US" sz="2100" spc="-1" strike="noStrike">
                <a:solidFill>
                  <a:srgbClr val="336699"/>
                </a:solidFill>
                <a:latin typeface="Verdana"/>
              </a:rPr>
              <a:t>Difficult to make available for auditing</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714760" y="2571840"/>
            <a:ext cx="535752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Thank You !</a:t>
            </a:r>
            <a:endParaRPr b="0" lang="en-US" sz="6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1 CP/CPS</a:t>
            </a:r>
            <a:endParaRPr b="0" lang="en-US" sz="32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Every CA must have a CP/CPS</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https://ca.ugrid.org/ca.php</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Is there a single CA organization per country, large region or international organization?</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UGRID CA is the country-wide CA.</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Every CA must assign its CP/CPS an O.I.D.</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OID  1.2.840.113612.5.4.2.6.1.1.1.4</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Whenever there is a change in the CP/CPS the O.I.D. of the document must change…</a:t>
            </a:r>
            <a:endParaRPr b="0" lang="en-US" sz="2000" spc="-1" strike="noStrike">
              <a:solidFill>
                <a:srgbClr val="000000"/>
              </a:solidFill>
              <a:latin typeface="Verdana"/>
            </a:endParaRPr>
          </a:p>
          <a:p>
            <a:pPr lvl="1" marL="90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Verdana"/>
              </a:rPr>
              <a:t>(C) Sergiy Velichkevych the a person determining CPS suitability for the policy</a:t>
            </a:r>
            <a:r>
              <a:rPr b="1" i="1"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1 CP/CPS</a:t>
            </a:r>
            <a:endParaRPr b="0" lang="en-US" sz="32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ll the CP/CPS under which valid certificates are issued must be available on the web.</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all versions of CP/CPS are available on the web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https://ca.ugrid.org/ca.php</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The CP/CPS documents should be structured as defined in RFC 3647.</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The CA computer where the signing of the certificates will take place must be a dedicated machine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e signing machine is a dedicated machine, completely offline and powered down between u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2 CA System</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The CA system must be located in a secure environment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A is located in High Performance Computing Center of the National Technical University of Ukraine “Kyiv Polytechnic Institute”. HPCC’s rooms are guarded with local security personnel. The signing machine locked in the safe with controlled acces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The CA system must be completely off-line or on-line. On-line CAs must use at least a FIPS 140-2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A is completely offlin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The secure environment must be documented and approved by the PMA ...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Secure environment not documen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3 CA Key</a:t>
            </a:r>
            <a:endParaRPr b="0" lang="en-US" sz="32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The CA key must have a minimum length of 2048 bit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CA key is 2048 bit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1)  The CA key must be configured for long term use</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5 years, current Expiration date: Jan 19, 2013</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  If the private key of the CA is software-based, it must be protected with a pass phrase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the private key is software-based. Protected with strong pass phrase known only to CA personnel.</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 Copies of the encrypted private key must be kept on offline media in a secure location where access is controlle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A copy of the encrypted private key is kept on offline media in secure location in the sealed bo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3 CA Key</a:t>
            </a:r>
            <a:endParaRPr b="0" lang="en-US" sz="32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  The pass phrase of the encrypted private key must also be kept on offline media, separated from the encrypted private keys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  The on-line CA architecture should provide for a (preferably tamper-protected) log of issued certificates and signed revocation list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77777"/>
                </a:solidFill>
                <a:latin typeface="Verdana"/>
              </a:rPr>
              <a:t>(X) Not applicable, offline CA </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 When the CA’s cryptographic data needs to be changed, such a transition shall be managed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Not documented</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7)  The overlap of the old and new key must be at least the longest time an end-entity certificate can be valid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77777"/>
                </a:solidFill>
                <a:latin typeface="Verdana"/>
                <a:ea typeface="굴림"/>
              </a:rPr>
              <a:t>(X) We haven’t  changed CA crypto data yet</a:t>
            </a:r>
            <a:r>
              <a:rPr b="0" lang="ru-RU" sz="2000" spc="-1" strike="noStrike">
                <a:solidFill>
                  <a:srgbClr val="777777"/>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4 CA Certificate</a:t>
            </a:r>
            <a:endParaRPr b="0" lang="en-US" sz="32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8) CA must provide and allow distribution of an X.509 certificate to enable validation of end-entity certificate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published in EUGridPMA repository, available on the Web</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  Lifetime of the CA certificate must be no longer than 20 year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Lifetime of the CA certificate is 5 year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  Lifetime of the CA certificate must be no less than two times of the maximum life time of an end entity certificate.</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maximum lifetime of the end entity certificates is 1 year</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1)  The profile of the CA certificates must comply with the Grid Certificate Profile as defined by the Open Grid Forum GFD.125.</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5 Certificate Revocation</a:t>
            </a:r>
            <a:endParaRPr b="0" lang="en-US" sz="32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2) Certificate revocation can be requested by end-entities, registration authorities, and the CA. Others can request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Usually, revocation can be requested by end-entity, RA or CA. Others can request revocation if they prove compromise of the private key. </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3)  The CA must react as soon as possible, but within one working day, to any revocation request receive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Revocation requests are processed within one hour in working time and on a best effort basis on holiday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4) Subscribers must request revocation of its certificate as soon as possible, but within one working day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Our clients are bound to it by our CP/CPS and the document they are signing for each request</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 Revocation requests must be properly authenticate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Encrypted and signed emails in most cases. Photo ID in case if private key was lost.</a:t>
            </a: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2:34:19Z</dcterms:created>
  <dc:creator>1</dc:creator>
  <dc:description/>
  <dc:language>en-US</dc:language>
  <cp:lastModifiedBy>User</cp:lastModifiedBy>
  <dcterms:modified xsi:type="dcterms:W3CDTF">2011-01-24T09:38:40Z</dcterms:modified>
  <cp:revision>98</cp:revision>
  <dc:subject/>
  <dc:title>UGRID CA</dc:title>
</cp:coreProperties>
</file>