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BE62C5A-5820-4AA8-93FE-8EB816401D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18FDD9-7C2E-47DF-AF2C-6CD591A5A7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4243451-AE52-4E5C-8AAF-2730EF9DA9B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12EB1DF-E982-471D-8CF7-3DAA26C6EF4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0D66AE5-7AAB-4366-BAD3-2748534635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262F3C7-FE5F-4262-B833-B416D8FE47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CFEFA6D-7217-47C2-984E-9F44E8FF269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DCE5FE2-FED7-4BF6-88AA-6878C73859C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E7A5863-8981-47B6-B157-C438CA1219C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1B1266B-8BCD-4F6F-BDC9-C39C23EFE8A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43476AD-56CB-453A-A835-48792B2CC9C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A4088F0-3C12-45BC-A314-B9320DB70DC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5D1601A-8F5A-496F-B94D-D3D1011A03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2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n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1-13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Prague, Czech Republ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CES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ilan Sova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7" descr="H:\Home\davidg\Template\Logos\cesnet-logo.gif"/>
          <p:cNvPicPr/>
          <p:nvPr/>
        </p:nvPicPr>
        <p:blipFill>
          <a:blip r:embed="rId1"/>
          <a:stretch/>
        </p:blipFill>
        <p:spPr>
          <a:xfrm>
            <a:off x="636480" y="1517760"/>
            <a:ext cx="52182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Nuno Dias &amp; Jules Wolfrat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353880" y="1170000"/>
            <a:ext cx="855360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814320" y="1324080"/>
            <a:ext cx="75153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812880" y="1230480"/>
            <a:ext cx="616248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811080" y="1996920"/>
            <a:ext cx="772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 and the AuthZ W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i="1" lang="en-GB" sz="2400" spc="-1" strike="noStrike">
                <a:solidFill>
                  <a:srgbClr val="990000"/>
                </a:solidFill>
                <a:latin typeface="Lucida Sans"/>
              </a:rPr>
              <a:t>here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, 16-19 May 2011 (REFEDs on Sund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 &amp; OGF3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lt Lake City, UT, USA, ~ 14-19 Ju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Marrakech, M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3 and EGI-TF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, 19-23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5-09T20:05:00Z</dcterms:modified>
  <cp:revision>587</cp:revision>
  <dc:subject/>
  <dc:title>European Grid Policy Management Authority</dc:title>
</cp:coreProperties>
</file>