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9400" cy="341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Num" idx="1"/>
          </p:nvPr>
        </p:nvSpPr>
        <p:spPr>
          <a:xfrm>
            <a:off x="388440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10DD03-3B47-49C3-A97D-11E68EDC0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1F2CB-4D44-4927-AB8E-5F6B811F9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27A4E0-FF2F-459E-9718-46D256C93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FAE8DD-E995-4657-B958-9B8B39357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A76B2-3CD8-4623-B60A-C1F3DF0C7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A78E0-2693-47C2-A9AE-8DD65B44E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365F7-F739-4EE5-A342-0EE0DCCD1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PM CA is serving as part of NGI-MY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E53201-A72C-4F7D-BF69-67A4470EB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o NGO-Netrust  data in statistics of Mar.’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8023F8-74BD-4873-9E6A-F9A19A85C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3DDA0-FD3E-454F-96F4-7974542CD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A4F23-03AE-4DA5-BCA1-636529678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4A5C7F-458B-48BB-8BA1-569E804C5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B6DB4E-95D6-4424-9DFF-D00F546DD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48520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760920"/>
            <a:ext cx="848520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760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3360" y="3760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907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3320" y="907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760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3760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3320" y="3760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5280" y="907920"/>
            <a:ext cx="8485200" cy="54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48520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18920" y="-246600"/>
            <a:ext cx="740412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5280" y="3760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907920"/>
            <a:ext cx="8485200" cy="54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3360" y="3760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5280" y="3760920"/>
            <a:ext cx="848520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48520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5280" y="3760920"/>
            <a:ext cx="848520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5280" y="3760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3360" y="3760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4480" y="907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3320" y="907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5280" y="3760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4480" y="3760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3320" y="3760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5280" y="907920"/>
            <a:ext cx="8485200" cy="54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48520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48520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18920" y="-246600"/>
            <a:ext cx="740412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95280" y="3760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43360" y="3760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95280" y="3760920"/>
            <a:ext cx="848520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48520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5280" y="3760920"/>
            <a:ext cx="848520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5280" y="3760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43360" y="3760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64480" y="907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33320" y="907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95280" y="3760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64480" y="3760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33320" y="3760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95280" y="907920"/>
            <a:ext cx="8485200" cy="54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48520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618920" y="-246600"/>
            <a:ext cx="740412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95280" y="3760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43360" y="3760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95280" y="3760920"/>
            <a:ext cx="848520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48520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95280" y="3760920"/>
            <a:ext cx="848520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95280" y="3760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43360" y="3760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64480" y="907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33320" y="907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95280" y="3760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64480" y="3760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33320" y="3760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18920" y="-246600"/>
            <a:ext cx="740412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760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3360" y="3760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760920"/>
            <a:ext cx="848520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5280" y="907920"/>
            <a:ext cx="848520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95280" y="907920"/>
            <a:ext cx="848520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50920" y="43920"/>
            <a:ext cx="848520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6877080" y="6284880"/>
            <a:ext cx="2266920" cy="573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3"/>
          <a:stretch/>
        </p:blipFill>
        <p:spPr>
          <a:xfrm>
            <a:off x="0" y="6337440"/>
            <a:ext cx="1116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395280" y="907920"/>
            <a:ext cx="848520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3"/>
          <a:stretch/>
        </p:blipFill>
        <p:spPr>
          <a:xfrm>
            <a:off x="0" y="6134040"/>
            <a:ext cx="1547640" cy="7239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395280" y="907920"/>
            <a:ext cx="848520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50920" y="43920"/>
            <a:ext cx="848520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4.png"/><Relationship Id="rId21" Type="http://schemas.openxmlformats.org/officeDocument/2006/relationships/image" Target="../media/image3.pn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0" y="19810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Update of APGridP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609480" y="3962520"/>
            <a:ext cx="7921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Jinny Chi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PGridP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y 11.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"/>
          <p:cNvSpPr/>
          <p:nvPr/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mbers (17 - 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0" y="714240"/>
            <a:ext cx="5334120" cy="61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4 Accredited 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IST (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RCS (AU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SGC (TW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NIC (CN), SD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GCA (I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HEP (C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KEK (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KISTI (K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AREGI (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1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CHC (TW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2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ECTEC (TH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3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GO/Netrust (SG) </a:t>
            </a:r>
            <a:r>
              <a:rPr b="0" i="1" lang="en-US" sz="2200" spc="-1" strike="noStrike" u="sng">
                <a:solidFill>
                  <a:srgbClr val="800000"/>
                </a:solidFill>
                <a:uFillTx/>
                <a:latin typeface="Comic Sans MS"/>
                <a:ea typeface="ＭＳ Ｐゴシック"/>
              </a:rPr>
              <a:t>Withdrew !!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4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RAGMA-UCSD (U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5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HKU (H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4114800" y="304920"/>
            <a:ext cx="487692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41240"/>
                <a:tab algn="l" pos="1198440"/>
                <a:tab algn="l" pos="1655640"/>
                <a:tab algn="l" pos="2112840"/>
                <a:tab algn="l" pos="2570040"/>
                <a:tab algn="l" pos="3027240"/>
                <a:tab algn="l" pos="3484440"/>
                <a:tab algn="l" pos="3941640"/>
                <a:tab algn="l" pos="4398840"/>
                <a:tab algn="l" pos="4856040"/>
                <a:tab algn="l" pos="5313240"/>
                <a:tab algn="l" pos="5770440"/>
                <a:tab algn="l" pos="6227640"/>
                <a:tab algn="l" pos="6684840"/>
                <a:tab algn="l" pos="7142040"/>
                <a:tab algn="l" pos="7599240"/>
                <a:tab algn="l" pos="8056440"/>
                <a:tab algn="l" pos="8513640"/>
                <a:tab algn="l" pos="8970840"/>
                <a:tab algn="l" pos="9428040"/>
                <a:tab algn="l" pos="988524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6"/>
              </a:buBlip>
              <a:tabLst>
                <a:tab algn="l" pos="741240"/>
                <a:tab algn="l" pos="1198440"/>
                <a:tab algn="l" pos="1655640"/>
                <a:tab algn="l" pos="2112840"/>
                <a:tab algn="l" pos="2570040"/>
                <a:tab algn="l" pos="3027240"/>
                <a:tab algn="l" pos="3484440"/>
                <a:tab algn="l" pos="3941640"/>
                <a:tab algn="l" pos="4398840"/>
                <a:tab algn="l" pos="4856040"/>
                <a:tab algn="l" pos="5313240"/>
                <a:tab algn="l" pos="5770440"/>
                <a:tab algn="l" pos="6227640"/>
                <a:tab algn="l" pos="6684840"/>
                <a:tab algn="l" pos="7142040"/>
                <a:tab algn="l" pos="7599240"/>
                <a:tab algn="l" pos="8056440"/>
                <a:tab algn="l" pos="8513640"/>
                <a:tab algn="l" pos="8970840"/>
                <a:tab algn="l" pos="9428040"/>
                <a:tab algn="l" pos="98852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ngolia - under accred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7"/>
              </a:buBlip>
              <a:tabLst>
                <a:tab algn="l" pos="741240"/>
                <a:tab algn="l" pos="1198440"/>
                <a:tab algn="l" pos="1655640"/>
                <a:tab algn="l" pos="2112840"/>
                <a:tab algn="l" pos="2570040"/>
                <a:tab algn="l" pos="3027240"/>
                <a:tab algn="l" pos="3484440"/>
                <a:tab algn="l" pos="3941640"/>
                <a:tab algn="l" pos="4398840"/>
                <a:tab algn="l" pos="4856040"/>
                <a:tab algn="l" pos="5313240"/>
                <a:tab algn="l" pos="5770440"/>
                <a:tab algn="l" pos="6227640"/>
                <a:tab algn="l" pos="6684840"/>
                <a:tab algn="l" pos="7142040"/>
                <a:tab algn="l" pos="7599240"/>
                <a:tab algn="l" pos="8056440"/>
                <a:tab algn="l" pos="8513640"/>
                <a:tab algn="l" pos="8970840"/>
                <a:tab algn="l" pos="9428040"/>
                <a:tab algn="l" pos="98852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M (MY) was approved as a new member in Aug.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8"/>
              </a:buBlip>
              <a:tabLst>
                <a:tab algn="l" pos="741240"/>
                <a:tab algn="l" pos="1198440"/>
                <a:tab algn="l" pos="1655640"/>
                <a:tab algn="l" pos="2112840"/>
                <a:tab algn="l" pos="2570040"/>
                <a:tab algn="l" pos="3027240"/>
                <a:tab algn="l" pos="3484440"/>
                <a:tab algn="l" pos="3941640"/>
                <a:tab algn="l" pos="4398840"/>
                <a:tab algn="l" pos="4856040"/>
                <a:tab algn="l" pos="5313240"/>
                <a:tab algn="l" pos="5770440"/>
                <a:tab algn="l" pos="6227640"/>
                <a:tab algn="l" pos="6684840"/>
                <a:tab algn="l" pos="7142040"/>
                <a:tab algn="l" pos="7599240"/>
                <a:tab algn="l" pos="8056440"/>
                <a:tab algn="l" pos="8513640"/>
                <a:tab algn="l" pos="8970840"/>
                <a:tab algn="l" pos="9428040"/>
                <a:tab algn="l" pos="98852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GO-Netrust (SG) withdraw was approved in Aug.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9"/>
              </a:buBlip>
              <a:tabLst>
                <a:tab algn="l" pos="741240"/>
                <a:tab algn="l" pos="1198440"/>
                <a:tab algn="l" pos="1655640"/>
                <a:tab algn="l" pos="2112840"/>
                <a:tab algn="l" pos="2570040"/>
                <a:tab algn="l" pos="3027240"/>
                <a:tab algn="l" pos="3484440"/>
                <a:tab algn="l" pos="3941640"/>
                <a:tab algn="l" pos="4398840"/>
                <a:tab algn="l" pos="4856040"/>
                <a:tab algn="l" pos="5313240"/>
                <a:tab algn="l" pos="5770440"/>
                <a:tab algn="l" pos="6227640"/>
                <a:tab algn="l" pos="6684840"/>
                <a:tab algn="l" pos="7142040"/>
                <a:tab algn="l" pos="7599240"/>
                <a:tab algn="l" pos="8056440"/>
                <a:tab algn="l" pos="8513640"/>
                <a:tab algn="l" pos="8970840"/>
                <a:tab algn="l" pos="9428040"/>
                <a:tab algn="l" pos="988524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verage by 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728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0"/>
              </a:buBlip>
              <a:tabLst>
                <a:tab algn="l" pos="741240"/>
                <a:tab algn="l" pos="1198440"/>
                <a:tab algn="l" pos="1655640"/>
                <a:tab algn="l" pos="2112840"/>
                <a:tab algn="l" pos="2570040"/>
                <a:tab algn="l" pos="3027240"/>
                <a:tab algn="l" pos="3484440"/>
                <a:tab algn="l" pos="3941640"/>
                <a:tab algn="l" pos="4398840"/>
                <a:tab algn="l" pos="4856040"/>
                <a:tab algn="l" pos="5313240"/>
                <a:tab algn="l" pos="5770440"/>
                <a:tab algn="l" pos="6227640"/>
                <a:tab algn="l" pos="6684840"/>
                <a:tab algn="l" pos="7142040"/>
                <a:tab algn="l" pos="7599240"/>
                <a:tab algn="l" pos="8056440"/>
                <a:tab algn="l" pos="8513640"/>
                <a:tab algn="l" pos="8970840"/>
                <a:tab algn="l" pos="9428040"/>
                <a:tab algn="l" pos="98852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hilippine, Vietnam, Malaysia, Indonesia, New Zealand &amp; Sri Lanka (so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1"/>
              </a:buBlip>
              <a:tabLst>
                <a:tab algn="l" pos="741240"/>
                <a:tab algn="l" pos="1198440"/>
                <a:tab algn="l" pos="1655640"/>
                <a:tab algn="l" pos="2112840"/>
                <a:tab algn="l" pos="2570040"/>
                <a:tab algn="l" pos="3027240"/>
                <a:tab algn="l" pos="3484440"/>
                <a:tab algn="l" pos="3941640"/>
                <a:tab algn="l" pos="4398840"/>
                <a:tab algn="l" pos="4856040"/>
                <a:tab algn="l" pos="5313240"/>
                <a:tab algn="l" pos="5770440"/>
                <a:tab algn="l" pos="6227640"/>
                <a:tab algn="l" pos="6684840"/>
                <a:tab algn="l" pos="7142040"/>
                <a:tab algn="l" pos="7599240"/>
                <a:tab algn="l" pos="8056440"/>
                <a:tab algn="l" pos="8513640"/>
                <a:tab algn="l" pos="8970840"/>
                <a:tab algn="l" pos="9428040"/>
                <a:tab algn="l" pos="98852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w Zealand WLCG site is in production, with CA support from ARC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41240"/>
                <a:tab algn="l" pos="1198440"/>
                <a:tab algn="l" pos="1655640"/>
                <a:tab algn="l" pos="2112840"/>
                <a:tab algn="l" pos="2570040"/>
                <a:tab algn="l" pos="3027240"/>
                <a:tab algn="l" pos="3484440"/>
                <a:tab algn="l" pos="3941640"/>
                <a:tab algn="l" pos="4398840"/>
                <a:tab algn="l" pos="4856040"/>
                <a:tab algn="l" pos="5313240"/>
                <a:tab algn="l" pos="5770440"/>
                <a:tab algn="l" pos="6227640"/>
                <a:tab algn="l" pos="6684840"/>
                <a:tab algn="l" pos="7142040"/>
                <a:tab algn="l" pos="7599240"/>
                <a:tab algn="l" pos="8056440"/>
                <a:tab algn="l" pos="8513640"/>
                <a:tab algn="l" pos="8970840"/>
                <a:tab algn="l" pos="9428040"/>
                <a:tab algn="l" pos="988524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41240"/>
                <a:tab algn="l" pos="1198440"/>
                <a:tab algn="l" pos="1655640"/>
                <a:tab algn="l" pos="2112840"/>
                <a:tab algn="l" pos="2570040"/>
                <a:tab algn="l" pos="3027240"/>
                <a:tab algn="l" pos="3484440"/>
                <a:tab algn="l" pos="3941640"/>
                <a:tab algn="l" pos="4398840"/>
                <a:tab algn="l" pos="4856040"/>
                <a:tab algn="l" pos="5313240"/>
                <a:tab algn="l" pos="5770440"/>
                <a:tab algn="l" pos="6227640"/>
                <a:tab algn="l" pos="6684840"/>
                <a:tab algn="l" pos="7142040"/>
                <a:tab algn="l" pos="7599240"/>
                <a:tab algn="l" pos="8056440"/>
                <a:tab algn="l" pos="8513640"/>
                <a:tab algn="l" pos="8970840"/>
                <a:tab algn="l" pos="9428040"/>
                <a:tab algn="l" pos="988524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5190840" y="5581800"/>
            <a:ext cx="370116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: 11 Countries/Reg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A: + 6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p-to-date Certificate 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871560" y="692280"/>
          <a:ext cx="7488360" cy="5806800"/>
        </p:xfrm>
        <a:graphic>
          <a:graphicData uri="http://schemas.openxmlformats.org/drawingml/2006/table">
            <a:tbl>
              <a:tblPr/>
              <a:tblGrid>
                <a:gridCol w="2071800"/>
                <a:gridCol w="1604880"/>
                <a:gridCol w="1906560"/>
                <a:gridCol w="1905120"/>
              </a:tblGrid>
              <a:tr h="540000">
                <a:tc>
                  <a:txBody>
                    <a:bodyPr lIns="90000" rIns="90000" tIns="14580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 Na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lid user ce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lid host ce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voked ce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14580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IST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76200">
                <a:tc>
                  <a:txBody>
                    <a:bodyPr lIns="90000" rIns="90000" tIns="14580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AC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4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14580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GC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7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44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76200">
                <a:tc>
                  <a:txBody>
                    <a:bodyPr lIns="90000" rIns="90000" tIns="14580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EK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14580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NIC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76200">
                <a:tc>
                  <a:txBody>
                    <a:bodyPr lIns="90000" rIns="90000" tIns="14580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DG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14580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KU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76200">
                <a:tc>
                  <a:txBody>
                    <a:bodyPr lIns="90000" rIns="90000" tIns="14580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G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14580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ISTI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76200">
                <a:tc>
                  <a:txBody>
                    <a:bodyPr lIns="90000" rIns="90000" tIns="14580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REGI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14580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CHC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76200">
                <a:tc>
                  <a:txBody>
                    <a:bodyPr lIns="90000" rIns="90000" tIns="14580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ECTEC GOC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14580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HE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76200">
                <a:tc>
                  <a:txBody>
                    <a:bodyPr lIns="90000" rIns="90000" tIns="14580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AGMA-UCS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Rectangle 63"/>
          <p:cNvSpPr/>
          <p:nvPr/>
        </p:nvSpPr>
        <p:spPr>
          <a:xfrm>
            <a:off x="285840" y="6559560"/>
            <a:ext cx="47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pdated at : 05, May.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文字方塊 65"/>
          <p:cNvGrpSpPr/>
          <p:nvPr/>
        </p:nvGrpSpPr>
        <p:grpSpPr>
          <a:xfrm>
            <a:off x="6345360" y="4541760"/>
            <a:ext cx="2590560" cy="1725840"/>
            <a:chOff x="6345360" y="4541760"/>
            <a:chExt cx="2590560" cy="1725840"/>
          </a:xfrm>
        </p:grpSpPr>
        <p:pic>
          <p:nvPicPr>
            <p:cNvPr id="189" name="文字方塊 65" descr=""/>
            <p:cNvPicPr/>
            <p:nvPr/>
          </p:nvPicPr>
          <p:blipFill>
            <a:blip r:embed="rId1"/>
            <a:stretch/>
          </p:blipFill>
          <p:spPr>
            <a:xfrm>
              <a:off x="6345360" y="4541760"/>
              <a:ext cx="2590560" cy="172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 rot="20640000">
              <a:off x="6473880" y="4869000"/>
              <a:ext cx="2340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User 178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Host 261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" descr=""/>
          <p:cNvPicPr/>
          <p:nvPr/>
        </p:nvPicPr>
        <p:blipFill>
          <a:blip r:embed="rId1"/>
          <a:stretch/>
        </p:blipFill>
        <p:spPr>
          <a:xfrm>
            <a:off x="-12600" y="762120"/>
            <a:ext cx="9212040" cy="56196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2"/>
          <p:cNvSpPr/>
          <p:nvPr/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ertificate 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1523880" y="44280"/>
            <a:ext cx="73915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GTF All Hands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0" y="762120"/>
            <a:ext cx="9144000" cy="59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>
              <a:lnSpc>
                <a:spcPts val="3087"/>
              </a:lnSpc>
              <a:buSzPct val="102884"/>
              <a:buBlip>
                <a:blip r:embed="rId1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ate &amp; Time: March 21-22, 20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buSzPct val="102884"/>
              <a:buBlip>
                <a:blip r:embed="rId2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lace: Academia Sinica, Taipei, Taiw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buSzPct val="102884"/>
              <a:buBlip>
                <a:blip r:embed="rId3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llocated Events: OGF31, ISGC20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buSzPct val="102884"/>
              <a:buBlip>
                <a:blip r:embed="rId4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pic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6600">
              <a:lnSpc>
                <a:spcPts val="3087"/>
              </a:lnSpc>
              <a:buSzPct val="102884"/>
              <a:buBlip>
                <a:blip r:embed="rId5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lcome and Int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6600">
              <a:lnSpc>
                <a:spcPts val="3087"/>
              </a:lnSpc>
              <a:buSzPct val="102884"/>
              <a:buBlip>
                <a:blip r:embed="rId6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ort from TAGPMA, EUGridPMA and APGridP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6600">
              <a:lnSpc>
                <a:spcPts val="3087"/>
              </a:lnSpc>
              <a:buSzPct val="102884"/>
              <a:buBlip>
                <a:blip r:embed="rId7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irty Service Token by EUGridPMA and Grid User Popul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6600">
              <a:lnSpc>
                <a:spcPts val="3087"/>
              </a:lnSpc>
              <a:buSzPct val="102884"/>
              <a:buBlip>
                <a:blip r:embed="rId8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draft profile for Attribute Authority op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6600">
              <a:lnSpc>
                <a:spcPts val="3087"/>
              </a:lnSpc>
              <a:buSzPct val="102884"/>
              <a:buBlip>
                <a:blip r:embed="rId9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use of SHA-2 for Grid Certificates by TAGP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6600">
              <a:lnSpc>
                <a:spcPts val="3087"/>
              </a:lnSpc>
              <a:buSzPct val="102884"/>
              <a:buBlip>
                <a:blip r:embed="rId10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vate Key Protection by EUGridP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6600">
              <a:lnSpc>
                <a:spcPts val="3087"/>
              </a:lnSpc>
              <a:buSzPct val="102884"/>
              <a:buBlip>
                <a:blip r:embed="rId11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GF CAOPS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6600">
              <a:lnSpc>
                <a:spcPts val="3087"/>
              </a:lnSpc>
              <a:buSzPct val="102884"/>
              <a:buBlip>
                <a:blip r:embed="rId12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id User Pop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buSzPct val="102884"/>
              <a:buBlip>
                <a:blip r:embed="rId13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genda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ttp://indico.twgrid.org/conferenceDisplay.py?confId=9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6600">
              <a:lnSpc>
                <a:spcPts val="3087"/>
              </a:lnSpc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16000">
              <a:lnSpc>
                <a:spcPts val="3087"/>
              </a:lnSpc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GridPMA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71280" y="907920"/>
            <a:ext cx="8964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>
              <a:lnSpc>
                <a:spcPts val="3087"/>
              </a:lnSpc>
              <a:buSzPct val="102884"/>
              <a:buBlip>
                <a:blip r:embed="rId1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1" lang="en-US" sz="2400" spc="-1" strike="noStrike" baseline="33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PGridPMA F2F Meeting was held on Mar. 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6600">
              <a:lnSpc>
                <a:spcPts val="3087"/>
              </a:lnSpc>
              <a:buSzPct val="102884"/>
              <a:buBlip>
                <a:blip r:embed="rId2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pdate AIST, NAREGI-CA (due to the earthquak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6600">
              <a:lnSpc>
                <a:spcPts val="3087"/>
              </a:lnSpc>
              <a:buSzPct val="102884"/>
              <a:buBlip>
                <a:blip r:embed="rId3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elf Audit Report: HKU, IHEP, PRAG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6600">
              <a:lnSpc>
                <a:spcPts val="3087"/>
              </a:lnSpc>
              <a:buSzPct val="102884"/>
              <a:buBlip>
                <a:blip r:embed="rId4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ew member report: UPM (Yoshio and Jinny review the revised CPC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buSzPct val="102884"/>
              <a:buBlip>
                <a:blip r:embed="rId5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xt F2F meeting: Sapporo Japan, Oct 17, 2011, by A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6600">
              <a:lnSpc>
                <a:spcPts val="3087"/>
              </a:lnSpc>
              <a:buSzPct val="102884"/>
              <a:buBlip>
                <a:blip r:embed="rId6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llocated with PRAGMA 21 (Oct. 18-1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buSzPct val="102884"/>
              <a:buBlip>
                <a:blip r:embed="rId7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ideo Conference : under discu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6600">
              <a:lnSpc>
                <a:spcPts val="3087"/>
              </a:lnSpc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16000">
              <a:lnSpc>
                <a:spcPts val="3087"/>
              </a:lnSpc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6:23:10Z</dcterms:created>
  <dc:creator>David Groep</dc:creator>
  <dc:description/>
  <dc:language>en-US</dc:language>
  <cp:lastModifiedBy>bluesea520</cp:lastModifiedBy>
  <dcterms:modified xsi:type="dcterms:W3CDTF">2011-05-11T11:50:22Z</dcterms:modified>
  <cp:revision>236</cp:revision>
  <dc:subject/>
  <dc:title>International Grid Trust Federation Session  GGF 18 Washington, DC, USA</dc:title>
</cp:coreProperties>
</file>