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BF95-B2C4-4F98-89A2-6519DEDD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AB4-1BC0-40A5-9ECF-E68B5EC7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FEA7-1D8C-4137-A5F2-8D906913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40B7-ABFE-445E-91EF-7862ACD7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DB32-9538-4023-8017-BB25ADB7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FFD-4985-4161-8577-C19C24D8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B70-275B-4BE4-AD5A-FA8876BF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E3A-C4C0-4CD9-91C4-DA1371FF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F2A-88A6-4138-AFC8-D76B20E5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BBD6-EB26-4E96-B78B-B15FE9FF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248-DC3A-44B8-9B39-3DF952FE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904-CCBC-4C44-86DF-7770CC77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AD56-616F-4115-98FC-429399FE6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4" descr="untitled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7760" y="3585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1" lang="lv-LV" sz="3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 EUGridPMA mee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00400" y="17521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98989"/>
                </a:solidFill>
                <a:latin typeface="Calibri"/>
              </a:rPr>
              <a:t>26 - 28  September,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98989"/>
                </a:solidFill>
                <a:latin typeface="Calibri"/>
              </a:rPr>
              <a:t>Marrakech, Moroc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3" descr="zzzz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29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Basic inf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arrake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 City, old fortifi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y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edin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+ an adjacent moder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y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Gueliz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limate i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eptember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verage high °C (°F)  32 (9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verage low °C (°F)  18 (6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cipitation mm (inches) 0 (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ational currency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irham(MAD)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, 1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ro ~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11 M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334120" y="3257640"/>
            <a:ext cx="3809880" cy="360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ableau 5" descr=""/>
          <p:cNvPicPr/>
          <p:nvPr/>
        </p:nvPicPr>
        <p:blipFill>
          <a:blip r:embed="rId1"/>
          <a:stretch/>
        </p:blipFill>
        <p:spPr>
          <a:xfrm>
            <a:off x="615960" y="1932120"/>
            <a:ext cx="7991640" cy="4432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609480" y="507960"/>
            <a:ext cx="784872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a arrangemen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ries whose nationals are exempt from the visa requirement for entry into Moro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ights to Marrakec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Direct Flights fro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Belgium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:  Brussels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ranc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: Paris, Lyon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 + 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 + Bordeau, Marseille, Nantes, Nice, Toulouse 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aly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Milan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EasyJet, 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 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pai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  Madrid , Barcelona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witzerlan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Geneva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  + 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K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London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 + 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 + Manchester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-de-f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: Basel-Mulhouse-Freiburg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EasyJe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Flights via Casablanc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ll other countrie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9:42:22Z</dcterms:created>
  <dc:creator>Owner</dc:creator>
  <dc:description/>
  <dc:language>en-US</dc:language>
  <cp:lastModifiedBy>Owner</cp:lastModifiedBy>
  <dcterms:modified xsi:type="dcterms:W3CDTF">2011-01-24T13:16:52Z</dcterms:modified>
  <cp:revision>32</cp:revision>
  <dc:subject/>
  <dc:title>21 EUGridPMA meeting, Marrakech, Morocco 16-18 or 23-25  January, 2012 </dc:title>
</cp:coreProperties>
</file>