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E2E-5F79-434D-AFBA-E2BD9460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305-64A4-41FE-8981-070558C0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D00-D44B-4217-B7CB-F2FC0042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4D4-535B-46F9-B27C-C19AF5C8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F8FD-F3EC-4BD5-8CA5-A76E9D9A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FC52-2071-4AFA-96C4-24E10874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A484-9783-4DC2-84B0-89E64742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E8A2-EF9A-4813-832D-3B539AAE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9903-DE3E-454D-9BC5-A1EF9180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7183-B120-4BE1-AB32-FC7D0AD5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202-B5F6-4D22-8AF3-AECF004C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7FB3-2BCF-405A-A1EE-1EA55B6A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754A-6A8C-4970-9345-1B3ED619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EBD3-218A-464D-92F2-DD6180F8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2B28-28F7-4FEC-BEEB-634C6987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2BBC-7A56-49F6-AFED-A9FB5AF2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2991-B003-413F-A4AC-533B947E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3980-26DA-48B0-B054-955A7E64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4776C-CFC9-4392-AE2E-DD9E5947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088B-A7D6-4FF5-B96F-D4266FDF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B972-D2CB-4057-9EFB-8E9EC1A2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B8C-497B-47CB-934B-EC75A48A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68DC-1857-4154-B286-E274869D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9CFB-E7B8-400B-B632-E4ED7978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2046-E098-43B0-BDEB-2D3AF2D2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5755-2A6B-4851-8923-EC80F0DE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924D9-99AD-49BA-AD1E-C32D205B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46AD-0CF3-40CA-B071-AD33FB67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A25C3-BF8D-4B41-B91F-3C695068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730C4-4151-4BB8-A99C-175709BA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E777F-1E53-4067-A17B-6351AEE9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5F298-FF55-4D4C-B073-816443B6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A14-5BC7-4C71-8694-111E40F5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FFC92-BD32-443E-B1FF-5EAD8209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83527-0FAD-4D38-B6D2-D810F32A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65AE4-0A6E-4893-A79A-3BD1EA08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3AC95-411E-4D6B-BE66-CAF2DA90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FB504-6065-40CC-BAF1-3CC9D4E0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D49DD-A41E-42CA-A497-35544758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4B884-8670-4D9E-BBC2-6633624D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46B0B-DDDC-4F6A-90E5-C82B9DBD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33BF3-DEF7-4C7F-BB84-1E459758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BA0DB-E9BF-4139-B219-994701A4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72A-BB2E-487D-8EEF-335E562E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C7374-F6F5-4F3A-B8AD-6BFEEE53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181-3D47-4A11-914A-E7D14FCF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DC3-AF10-44ED-985C-132B17DF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B0F-1707-4EF4-9C35-6E9052E5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96200"/>
            <a:ext cx="11048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571760" y="6481800"/>
            <a:ext cx="661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191440" y="647964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371D-10C3-4BCE-9DDB-8B3BD62D6577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Dokumente und Einstellungen\nl\Eigene Dateien\Aufträge 2009-JSC\EMI-PPT-Template\hintergrund.jpg"/>
          <p:cNvPicPr/>
          <p:nvPr/>
        </p:nvPicPr>
        <p:blipFill>
          <a:blip r:embed="rId2"/>
          <a:stretch/>
        </p:blipFill>
        <p:spPr>
          <a:xfrm>
            <a:off x="0" y="-1908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2703600" y="700200"/>
            <a:ext cx="3843360" cy="16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B157-BEA7-46AD-88B4-E96D62ADE5D4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kumente und Einstellungen\nl\Eigene Dateien\Aufträge 2009-JSC\EMI-PPT-Template\streifen_50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AF73-7AB5-4770-876C-566BEEFC3E40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13"/>
          <p:cNvSpPr/>
          <p:nvPr/>
        </p:nvSpPr>
        <p:spPr>
          <a:xfrm>
            <a:off x="506520" y="48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MI is partially funded by the European Commission under Grant Agreement 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1527120" y="1216080"/>
            <a:ext cx="6094440" cy="2558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2B02-EB79-49E9-91A9-2F6431098B82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946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194694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witch.ch/grid/support/documents/" TargetMode="External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9600" y="2712960"/>
            <a:ext cx="7999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AAI WG</a:t>
            </a:r>
            <a:br>
              <a:rPr sz="4400"/>
            </a:br>
            <a:r>
              <a:rPr b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EM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240" y="4462560"/>
            <a:ext cx="642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Christoph Witzig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on behalf of EMI AAI WG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3: AAI-enabled portals for displaying and accessing Grid information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3120" y="184320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Any portal can easily be accessed through AAI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Low priority </a:t>
            </a:r>
            <a:r>
              <a:rPr b="0" lang="en-US" sz="28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typical Grid administrator already has X.509 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47B3-CC48-4A56-A23A-0B17BF42DAF6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4 : Security Token Service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33120" y="135108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A service obtains a security token and needs to convert it into another security token in order to access another service (e.g. Grid service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Example: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Incoming token: SAML, kerbero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Outgoing token: X.509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Note: very general use-cas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7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C2EA-FC07-4090-BE32-8736E6CEA4E2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952200" y="363600"/>
            <a:ext cx="64292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5: Use of AAI attributes in Grid services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33120" y="144144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Today: attributes are issued by VOM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Tomorrow: non-VO attributes can be issued by AAI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Attributes in question are few, simple but possibly very important, such a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Employing institutio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Afflilation (student, professor, ...)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Study branch (biology, physics 5th semester)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Question: What requirements should be put on AA? 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4CA4-7444-443B-B0C2-7CA18A10797A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6: VO Registration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33120" y="144144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Identity vetting based on AAI in registration proces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Possibly involving AAI attribut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Low priority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established mechanism exist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Interesting if other communities bring large number of user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7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F011-8B3D-4860-B50C-9820A1B32F02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-cases: Summary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173240" y="1814400"/>
          <a:ext cx="7480080" cy="3942000"/>
        </p:xfrm>
        <a:graphic>
          <a:graphicData uri="http://schemas.openxmlformats.org/drawingml/2006/table">
            <a:tbl>
              <a:tblPr/>
              <a:tblGrid>
                <a:gridCol w="695160"/>
                <a:gridCol w="3465720"/>
                <a:gridCol w="3319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se-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509 issuance based on A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„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ved“ (but needs improvement!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I-enabled por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utions ex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L delegation n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I-enabled Grid info por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, general purpose service, high 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of AAI attributes in 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esting, potentially very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 reg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72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9B95-E449-4013-95C0-6C02EAD9D5FC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Security Token Service: Functionality </a:t>
            </a:r>
            <a:r>
              <a:rPr b="1" lang="de-CH" sz="1500" spc="-1" strike="noStrike">
                <a:solidFill>
                  <a:srgbClr val="194694"/>
                </a:solidFill>
                <a:latin typeface="Calibri"/>
              </a:rPr>
              <a:t>(1/2)</a:t>
            </a:r>
            <a:endParaRPr b="0" lang="en-US" sz="15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33120" y="1170000"/>
            <a:ext cx="748044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uthenticates and authorizes users based on security toke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Transforms a security token (the claim) into another security token suitable for the requested servic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Username token into SAML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SAML token into X.509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ggregates required information from external Attribute Authoriti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stablishes a trust relation between different application domai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Shibboleth domain vs Grid domai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77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3BF2-46F2-4BAE-B40C-D4C0F0E1010B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Security Token Service: Functionality </a:t>
            </a:r>
            <a:r>
              <a:rPr b="1" lang="de-CH" sz="1500" spc="-1" strike="noStrike">
                <a:solidFill>
                  <a:srgbClr val="194694"/>
                </a:solidFill>
                <a:latin typeface="Calibri"/>
              </a:rPr>
              <a:t>(2/2)</a:t>
            </a:r>
            <a:endParaRPr b="0" lang="en-US" sz="15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33120" y="144144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Web Service (SOAP) based protocol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WS-Trust profil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Version 0 (dated Jan 2008!)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witch.ch/grid/support/documents/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Basic Operations: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Request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Renew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Cancel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Validate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Easy expansion to handle new toke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Prospect: Integrated with Shibboleth IdP 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82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1084-B1BA-43A0-AA5B-A79734EA1075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Security Token Service: Architecture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33120" y="135252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Profile Handler implements WS-Trust profil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Token Authority manages security toke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Resolver retrieves information, attributes from external authorities (LDAP, Online CA, VOMS, ...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87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A4FC-5753-4D29-917C-613675F83562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sts_architecture.png"/>
          <p:cNvPicPr/>
          <p:nvPr/>
        </p:nvPicPr>
        <p:blipFill>
          <a:blip r:embed="rId1"/>
          <a:stretch/>
        </p:blipFill>
        <p:spPr>
          <a:xfrm>
            <a:off x="1332000" y="3417840"/>
            <a:ext cx="6645240" cy="3279960"/>
          </a:xfrm>
          <a:prstGeom prst="rect">
            <a:avLst/>
          </a:prstGeom>
          <a:ln w="0">
            <a:noFill/>
          </a:ln>
        </p:spPr>
      </p:pic>
      <p:sp>
        <p:nvSpPr>
          <p:cNvPr id="291" name="TextBox 7"/>
          <p:cNvSpPr/>
          <p:nvPr/>
        </p:nvSpPr>
        <p:spPr>
          <a:xfrm>
            <a:off x="3648960" y="610380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Note: Prospect of building on Shibboleth  (IdP v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umsplatzhalt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ußzeilenplatzhalt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liennummernplatzhalt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4F01-106D-4F95-A1F7-652B14FC6046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403280" y="2924280"/>
            <a:ext cx="6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12720" y="147240"/>
            <a:ext cx="6702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4694"/>
                </a:solidFill>
                <a:latin typeface="Calibri"/>
              </a:rPr>
              <a:t>Trust Model: X.509 to SAML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12360" y="3360240"/>
            <a:ext cx="8139240" cy="30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X.509 Valida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rvice A and STS validate the X.509 token (X.509 trust based on the IGTF trust anchors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SAML Valida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rvice B must validate and trust the SAML token issued by the STS (SAML Trust Domain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pic>
        <p:nvPicPr>
          <p:cNvPr id="298" name="Picture 8" descr="STS-X509_SAML_Trust.png"/>
          <p:cNvPicPr/>
          <p:nvPr/>
        </p:nvPicPr>
        <p:blipFill>
          <a:blip r:embed="rId1"/>
          <a:stretch/>
        </p:blipFill>
        <p:spPr>
          <a:xfrm>
            <a:off x="3684600" y="0"/>
            <a:ext cx="5459400" cy="4316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Franz Kafka.jpg"/>
          <p:cNvPicPr/>
          <p:nvPr/>
        </p:nvPicPr>
        <p:blipFill>
          <a:blip r:embed="rId2"/>
          <a:stretch/>
        </p:blipFill>
        <p:spPr>
          <a:xfrm>
            <a:off x="2876400" y="2244600"/>
            <a:ext cx="84960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umsplatzhalt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ußzeilenplatzhalt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liennummernplatzhalt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8B9E-CD46-4024-A478-BD0ADA0F8DA5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1403280" y="2924280"/>
            <a:ext cx="6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12720" y="147240"/>
            <a:ext cx="6702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4694"/>
                </a:solidFill>
                <a:latin typeface="Calibri"/>
              </a:rPr>
              <a:t>Trust Model: SAML to X.509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12720" y="3360240"/>
            <a:ext cx="8531280" cy="30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SAML Valida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rvice A and STS must validate and trust the SAML token issued by an IdP/AA (SAML Trust Domain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X.509 Valida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rvice B validates the X.509 token issued by the STS (based on the IGTF trust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pic>
        <p:nvPicPr>
          <p:cNvPr id="306" name="Picture 10" descr="STS-SAML_X509_Trust.png"/>
          <p:cNvPicPr/>
          <p:nvPr/>
        </p:nvPicPr>
        <p:blipFill>
          <a:blip r:embed="rId1"/>
          <a:stretch/>
        </p:blipFill>
        <p:spPr>
          <a:xfrm>
            <a:off x="4327560" y="874800"/>
            <a:ext cx="4157640" cy="27432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Martina_Navratilova.jpg"/>
          <p:cNvPicPr/>
          <p:nvPr/>
        </p:nvPicPr>
        <p:blipFill>
          <a:blip r:embed="rId2"/>
          <a:stretch/>
        </p:blipFill>
        <p:spPr>
          <a:xfrm>
            <a:off x="3395520" y="2498760"/>
            <a:ext cx="10558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Comments</a:t>
            </a: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33120" y="144144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Disclaimer:</a:t>
            </a:r>
            <a:br>
              <a:rPr sz="3200"/>
            </a:b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This is work in progress that has just started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We are aware that some of these issues have already been discussed within EuGridPMA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3F6E-24B2-4B10-81AA-AABBE2634269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Datumsplatzhalt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26CD-8C4C-43CC-82F9-BCAAEA50B562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403280" y="2924280"/>
            <a:ext cx="6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12720" y="147240"/>
            <a:ext cx="6702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4694"/>
                </a:solidFill>
                <a:latin typeface="Calibri"/>
              </a:rPr>
              <a:t>SAML Trust Model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57360" y="1044720"/>
            <a:ext cx="830232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AML Token Issuanc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STS must be able to issue SAML token to another service (signed and encrypted?)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AML Token Validation and Trust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Services must be able to validate and trust a SAML token issued by another service (STS, IdP, Attribute Authority, …)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4694"/>
                </a:solidFill>
                <a:latin typeface="Calibri"/>
              </a:rPr>
              <a:t>=&gt; SAML Trust Domain </a:t>
            </a: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must be defined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Using Metadata (Shibboleth)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Entity ID (uniquely identifies a SP, IdP, AA, …)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Key-Info (X.509 certificate for signature/encryption)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Issues / Questions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33120" y="132876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Handling trust between trust domai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Authentication assertion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Attributes handling (VOMS, IdP)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What requirements do you put on STS and other trust domain? </a:t>
            </a:r>
            <a:r>
              <a:rPr b="0" lang="en-US" sz="24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 linking trust domain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Issuance of certificates – proxi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Interaction STS/IdP/VOM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Private key handling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Attribute handling / attribute trust?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6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F85B-6ED6-41BB-947F-2FC6922C6D17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4152600"/>
            <a:ext cx="91440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71A2-D6E7-4B30-A685-424FEE2AF679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Content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33120" y="144144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EMI AAI WG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Identified use-cas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Security Token Service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Policy issu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AE30-68F5-417E-BE7B-C13B4FAFEE2B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933120" y="25200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EMI AAI WG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12960" y="1316160"/>
            <a:ext cx="748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EMI proposal mentions interoperability of EMI / Grid with AAIs, in particular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„</a:t>
            </a: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Easier“ credential handling for the user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Interoperability with Shibboleth and kerberos domai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Members from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CNAF, HIP, NKUOA, SWITCH, UWAR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F893-BCAA-430E-AC75-8C7E82B1FDC2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46000" y="243000"/>
            <a:ext cx="642960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Objectives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33120" y="11826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109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Identify use-cases how EMI could support AAI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109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Support sub-set of identified use-cases within EMI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109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Reachout to other parties involved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EuGridPMA </a:t>
            </a:r>
            <a:r>
              <a:rPr b="0" lang="en-US" sz="28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Trust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SFRI, EGI, …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4007-A31F-4076-88B1-A9D2E7D1D856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1: Obtaining a X.509 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Based on token from another domain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20520" y="1843200"/>
            <a:ext cx="748188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1a) short-lived credential </a:t>
            </a:r>
            <a:r>
              <a:rPr b="0" lang="en-US" sz="32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 next slide</a:t>
            </a: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1b) long-lived credential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Well-known for EuGridPMA </a:t>
            </a:r>
            <a:br>
              <a:rPr sz="3200"/>
            </a:br>
            <a:r>
              <a:rPr b="0" lang="en-US" sz="32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 SLCS, MICS profile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EA56-CC4A-4A3F-8DBE-2A127793A95A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Content Placeholder 10" descr="slcs.png"/>
          <p:cNvPicPr/>
          <p:nvPr/>
        </p:nvPicPr>
        <p:blipFill>
          <a:blip r:embed="rId1"/>
          <a:srcRect l="-5858" t="0" r="-5858" b="0"/>
          <a:stretch/>
        </p:blipFill>
        <p:spPr>
          <a:xfrm>
            <a:off x="2614680" y="2416320"/>
            <a:ext cx="6038640" cy="40478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SLCS 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D48B-D417-441A-9385-B18C343A233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Martina_Navratilova.jpg"/>
          <p:cNvPicPr/>
          <p:nvPr/>
        </p:nvPicPr>
        <p:blipFill>
          <a:blip r:embed="rId2"/>
          <a:stretch/>
        </p:blipFill>
        <p:spPr>
          <a:xfrm>
            <a:off x="1969920" y="4716360"/>
            <a:ext cx="1094040" cy="10940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8"/>
          <p:cNvSpPr/>
          <p:nvPr/>
        </p:nvSpPr>
        <p:spPr>
          <a:xfrm>
            <a:off x="1229760" y="1382760"/>
            <a:ext cx="45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lcs-init: command lin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User Agent handles WebSSO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33120" y="1879200"/>
            <a:ext cx="748044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Portal obtains X.509 from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Certificate store (e.g. myproxy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„</a:t>
            </a: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CA“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Note: CA has a very broad meaning here – not necessarily EUGridPMA CA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Based on portal request (portal acting on behalf of user)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Based on SAML issued by IdP (delegation)</a:t>
            </a:r>
            <a:br>
              <a:rPr sz="2400"/>
            </a:br>
            <a:r>
              <a:rPr b="0" lang="en-US" sz="24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 next slide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Note: New use-case, becoming available now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A8BB-173B-43AD-BCCA-404235C3D3E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94694"/>
                </a:solidFill>
                <a:latin typeface="Calibri"/>
              </a:rPr>
              <a:t>Use Case 2: AAI-enabled portals to Grid infrastructur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2: AAI-enabled portals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D441-623C-4E18-AAE8-A60A7B3E3934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Content Placeholder 9" descr="aai-portal.png"/>
          <p:cNvPicPr/>
          <p:nvPr/>
        </p:nvPicPr>
        <p:blipFill>
          <a:blip r:embed="rId1"/>
          <a:srcRect l="-14626" t="0" r="-14626" b="0"/>
          <a:stretch/>
        </p:blipFill>
        <p:spPr>
          <a:xfrm>
            <a:off x="1111320" y="1374840"/>
            <a:ext cx="7480080" cy="5014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Martina_Navratilova.jpg"/>
          <p:cNvPicPr/>
          <p:nvPr/>
        </p:nvPicPr>
        <p:blipFill>
          <a:blip r:embed="rId2"/>
          <a:stretch/>
        </p:blipFill>
        <p:spPr>
          <a:xfrm>
            <a:off x="1050840" y="3898800"/>
            <a:ext cx="110196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6:30:03Z</dcterms:created>
  <dc:creator>Valery Tschopp</dc:creator>
  <dc:description/>
  <dc:language>en-US</dc:language>
  <cp:lastModifiedBy>Christoph Witzig</cp:lastModifiedBy>
  <cp:lastPrinted>2011-05-09T11:05:15Z</cp:lastPrinted>
  <dcterms:modified xsi:type="dcterms:W3CDTF">2011-05-12T07:05:45Z</dcterms:modified>
  <cp:revision>93</cp:revision>
  <dc:subject/>
  <dc:title>STS Trust</dc:title>
</cp:coreProperties>
</file>