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1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DBD59-36A9-4D2F-AB8C-1AA4E11B098B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66E3D-1F3F-4354-9FC8-49CDC14057C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AC96-521E-4329-9DEF-8240C2C7572A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34FD-90BF-4BFC-9CD3-B7FA2EDA8489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8F0D5-DB1E-40F1-A04A-D9FC7013DBFB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5.12.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Bel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4291D-869B-44A0-94E5-40FAADAC26E1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D44-A3FA-4180-A262-12720E8A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F95D-E2A5-4960-9374-4A99DD11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21D3-D54A-4C80-8C63-9A7F06F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3A87-35BD-47F7-9F8A-E63A091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AE53-8317-4988-BEAF-9FA5B29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6D28-880C-490E-9D57-5F950E7C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014D-521D-4AF0-A69A-7D3BD37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8F0C-5FDF-4834-B05B-718432A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9D6F-E0D9-4DE7-98FF-B56E8E1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667F-3496-43D0-8CCB-0E6D579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93F0-039C-4E14-BB41-FCC8E352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FEDC-ADF1-4815-91CA-6676C01E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AD72-39A4-42FE-B474-EA745F70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C5E-C86E-4077-BE6D-C2843DB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278-53BE-4C98-AB11-C3945EC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E75F-B01A-492A-B191-78CE6A6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C51-4314-4CD4-8FBB-1E064D9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03F-1461-407E-AD57-454ED9A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8E66-0EF6-4B30-8CB0-781FC869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F0E9-6517-4277-82A0-3F68B7F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91D-3CD8-466C-81C3-3A97C1C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3649-E404-4550-81C6-16F0A3E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BAF-F11A-4318-9286-AFBFF093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4E3-ED5B-4EFB-B7FE-3F96D47A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7278BF-7F28-4070-BE01-47ABF596F8BA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7719D-0428-4580-875E-E9A528DD4C26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6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B7B342-E5BD-4204-A643-4A84A324929D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dt" idx="8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6"/>
          <a:srcRect l="0" t="-35347" r="-25968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621AF-B099-408D-BAAE-2196870DD08A}" type="slidenum">
              <a:rPr b="0" lang="nl-BE" sz="900" spc="-1" strike="noStrike">
                <a:solidFill>
                  <a:srgbClr val="8b8e8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9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720720" y="6530760"/>
            <a:ext cx="111456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savannah.cern.ch/patch/?5011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rakech – 12 Sept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5"/>
          <p:cNvSpPr/>
          <p:nvPr/>
        </p:nvSpPr>
        <p:spPr>
          <a:xfrm>
            <a:off x="720720" y="6531120"/>
            <a:ext cx="97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12 september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round 350 active certificat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720720" y="6531120"/>
            <a:ext cx="111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: Own CA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CA offlin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Adds a lot of work to Belnet’s CA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Looking forward to go online again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twork HS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Very expensiv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Need more usages than Begrid CA alone.. CERT ?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SoftHSM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http://www.opendnssec.org/softhsm/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Transit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Currently investigated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Personal e-science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Institutions must be member of the Belnet R&amp;E Federation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Later :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8002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e-science server certificate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irst tests with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Problem with proxy path length   (glite-ce-cream-1.12.4-2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savannah.cern.ch/patch/?5011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BE" sz="1600" spc="-1" strike="noStrike">
                <a:solidFill>
                  <a:srgbClr val="4e504f"/>
                </a:solidFill>
                <a:latin typeface="Arial"/>
              </a:rPr>
              <a:t>Known bug, patch needs to be deployed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As soon as patched is widely deployed, we will inform our users that they may start to use personal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In parallel, we start testing server e-science certificat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432080" y="6531120"/>
            <a:ext cx="389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</a:rPr>
              <a:t>BEgrid CA upda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4"/>
          <p:cNvSpPr/>
          <p:nvPr/>
        </p:nvSpPr>
        <p:spPr>
          <a:xfrm>
            <a:off x="720720" y="6531120"/>
            <a:ext cx="825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</a:rPr>
              <a:t>25 january 20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</cp:lastModifiedBy>
  <dcterms:modified xsi:type="dcterms:W3CDTF">2011-09-09T11:56:26Z</dcterms:modified>
  <cp:revision>25</cp:revision>
  <dc:subject/>
  <dc:title>Title presentation</dc:title>
</cp:coreProperties>
</file>