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E998538-A795-4DDB-96F3-2C40AD1B92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27A0BFB-71C6-44BC-9E2E-098A34DB7D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CF706660-972E-4157-AF9E-0789E568BD1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C83AA83-95C5-43FC-8BA4-7EB75469786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5B527AE-CD52-4011-B319-5BEB88AC68E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BDDFF10-68F0-49E6-AB94-39067322692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1DF6DA2-A317-49EC-BCE5-DD3D3D8FD47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38207D3-2C33-477A-8D18-6FA6EC3EC57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4ACA8FB-7765-4672-A441-03428CA4251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E1BB3B71-261B-4D41-9BB1-988A02BB9FF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E9B7E34B-30FA-4089-BB28-534778B2251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77666BB7-C885-48FE-814D-961B4A54E72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9E9E6DB-19F0-439F-B8AD-CD38076C86C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Large-scale issuing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of host certs 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in a member-integrated or institutional CA environment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nitial use cas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entrally managed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arge data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xample: CERN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&gt;&gt; 10 000 syst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nstitutional properti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operating (as an EIRO) an institutionally-embedded CA</a:t>
            </a:r>
            <a:br>
              <a:rPr sz="2000"/>
            </a:b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but could also be an automated RA for an external CA 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managed hosts in physically controlled environm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fully centralised configuration management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Aim: provision host certs in a scalable and secure wa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5114880" y="1290600"/>
            <a:ext cx="380052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implified request fl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9" name="Picture 2" descr="H:\Home\davidg\EUGridPMA\Meetings\2011-09-Marrakesh\CERN-host-cert-usecase.gif"/>
          <p:cNvPicPr/>
          <p:nvPr/>
        </p:nvPicPr>
        <p:blipFill>
          <a:blip r:embed="rId1"/>
          <a:stretch/>
        </p:blipFill>
        <p:spPr>
          <a:xfrm>
            <a:off x="1100160" y="1415880"/>
            <a:ext cx="7615080" cy="48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Workfl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New servers that are put into production in the CERN Computer Center will communicate with the Configuration Manager Servers and will signal that they require a host certificate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After the validation of the requester Configuration Manager Servers  will be able to request host certificates of the new template on behalf of the servers from step 1.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Only those Configuration Manager Server possessing a valid Robot certificate will be able to do that. Robot certificates will be installed on them manually and following the standard through-the-website procedure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e requests from step 2 will be securely sent to CERN CA using a special web service (not a website)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e reply from CERN CA will be sent to the Server from step 1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457200" indent="-457200">
              <a:spcBef>
                <a:spcPts val="451"/>
              </a:spcBef>
              <a:buClr>
                <a:srgbClr val="000066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Obvious pros and c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With O(1000) requests, humans cannot accurately check them all for correctness: </a:t>
            </a:r>
            <a:br>
              <a:rPr sz="2400"/>
            </a:b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automated process reduces number of erro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66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Close integration with CA request process reduces number of points between admin </a:t>
            </a:r>
            <a:r>
              <a:rPr b="0" lang="en-GB" sz="1800" spc="-1" strike="noStrike">
                <a:solidFill>
                  <a:srgbClr val="00664d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664d"/>
                </a:solidFill>
                <a:latin typeface="Lucida Sans"/>
              </a:rPr>
              <a:t> </a:t>
            </a: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RA </a:t>
            </a:r>
            <a:r>
              <a:rPr b="0" lang="en-GB" sz="1800" spc="-1" strike="noStrike">
                <a:solidFill>
                  <a:srgbClr val="00664d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664d"/>
                </a:solidFill>
                <a:latin typeface="Lucida Sans"/>
              </a:rPr>
              <a:t> C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Automated processes can make errors as well, and very fast indee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Identification of ‘new’ computer hardware is 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non-trivia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Humans are good at identifying oddities, making some attack modes harder to exploi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Propos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Full discussion in January (Ljubljana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xtended description will be given by Alexey (CERN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ssess risks and opport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Needs description in CP/CP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ddress attacks on CM servers (referring to the attacks on automated CAs recently, like Comodo, DigiNotar, ...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euristics to mitigate risk (correlation with installments, domain checks, time-of-day, etc.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dentification of requesting machines?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can that be done? TPM, MAC, network,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Case should be supported – scaling really nee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9-09T15:16:53Z</dcterms:modified>
  <cp:revision>592</cp:revision>
  <dc:subject/>
  <dc:title>European Grid Policy Management Authority</dc:title>
</cp:coreProperties>
</file>