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DD34C72-3C4E-4B10-B28A-22FD293ED0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2328C90-3D14-4E5B-9486-AD0C9F902F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D54FD8A-8C91-490C-A2FC-21C9D08D21D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8B33885-52AB-4D9D-825E-FC119717BD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DA726CC-F4B6-4A1B-A411-53A9FEBC8B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5A6E10C-7499-4ED6-A821-5148711231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981A1D4-7443-4244-84E4-7C413282D04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7375A1A-311A-4940-B364-3A2E2957079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8FEDABE-2E43-432F-94D9-84673F5F338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545A623-0C7A-48C6-8530-28269D4D091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BEDBFA9-E5EE-4EA8-8536-8BB72085EC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62AE6C3-3EB0-4452-85AA-3D307060165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6B8BDEA-1E66-4A7C-A311-BA89FF12FD7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6-18, 2012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jubljana, Slove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Jožef Stefan Institute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an Jona Javorsek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and the Slovenian NGI!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Dusan for the September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 and EVO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try to host everything on EVO, but if the desktop sharing does not work well enough, we can switch 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90180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5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Karlsruhe, Ma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n Diego February 9-10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PGridPMA meeting and ISGC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TW, Feb 29 –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4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Oxford, UK,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RENA Networking Conference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Reykjavik, May 21-25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Belgrade (tentative), September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 t.b.d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Kyiv (tentative), May 2013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osef Stefan Institute, SiGNET, and local inform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ELF-AUDIT STATU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ending self-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87520" y="1295280"/>
            <a:ext cx="85564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by JCR+Do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Y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DG+Ursul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OSA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Ursula+Yur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G.ACAD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new CP/CPS, review Edgars+Bo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RGI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Emir+David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altic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will be redone in upd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UCC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resenting no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KeScienc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CP/CPS update, review Willy+Alexe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kIRIS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CP/CPS postponed since many people lef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EGIS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review done, being implement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GridIrelan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needs sending of the new CP/CPS to Nun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ending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1-15T07:53:37Z</dcterms:modified>
  <cp:revision>593</cp:revision>
  <dc:subject/>
  <dc:title>European Grid Policy Management Authority</dc:title>
</cp:coreProperties>
</file>