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move the slide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C43E-05C9-467B-8A05-639126F498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1053-4CE3-41A7-9F6E-E4E421B635CB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13FB-A7F8-4305-84C9-6B1C9BEAA0FE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5CA2-D08F-4B43-A866-8731F12181A0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A2DF-A446-46C6-8D87-68021DD2D602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FC9E-B8EF-4BF9-B35D-88D8B123559B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9A79-0ABD-410E-B67B-39AAD412A2BF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9414-BE3A-4B3D-8956-73EA1E7F9BB8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B6E4-4FBD-4585-8146-A3D6D0AC248A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545D-01F9-4009-96C5-03FACD86AE37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E812-7819-4100-9EE0-6623F07CBBB2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9A4F-57CF-49BC-8C73-DB24552108D1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EA35-D353-45BD-A47F-D5DB103001A3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25E5-C4B9-41F9-9FA4-C803313A3530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9221-2821-4FD8-9401-5F23D522C285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AD91-B6E6-4364-A773-4F21B3D753A2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9C33-A69F-4877-9FF8-EB9FE18B3594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68E1-3286-49E3-AC38-8950478A9D56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26D8-5DE7-4D5C-808E-BD0F78EF5872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36AE-A899-4D07-9803-6F2A76F24464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2E68-E25B-44EB-993C-713D6E17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F42-B266-4D59-B3BF-CECECB15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C03-582C-48E8-830C-FA596C0B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FA4-FA9D-4C6D-BA7A-5ACE8E09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C065-5AE9-4F48-B05E-571EB2AE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FDE8-3A86-42B8-A854-4D08730D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BF80-9C8F-4635-921E-7F23BAB3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417B-D36F-4774-97EA-D3B5C46D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7F86-3612-443A-9F7A-E48D63A8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C75B-74E7-4ABA-BC63-A80D3007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0C74-FEC2-4BE7-93F3-3E318530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FAC-868B-4FF8-B702-E766DB8B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3052-EA7E-4873-BAE2-428F31AC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2CED-D2A5-4094-AA58-5F04B2C7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5DE1-6B0A-4A6F-BF3E-DCDDDF5A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6328-CB38-4BA8-BD87-F86305A8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FA85-46F9-4CE7-9976-0F98DDC2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8742-7628-4F75-A04B-E459240A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68320-39D0-49EF-8C51-203ACA36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979D5-8F61-450E-B335-AE6E59F8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1F4D-266C-4C1E-94BB-C15400CA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4ACAA-59AD-4EE1-8132-F163DC1B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1DF-FC83-414E-B639-1F77E8FB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06BE-C089-41D4-8B71-E25E6FC3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00038-BC02-487C-AA47-2BEC3748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CEC01-1CD7-4BFA-A8B0-7BDD5D49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8AB6B-5D04-44E2-9CB3-8D1EDC38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A6581-2A86-4563-9617-961D89FC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5507-59FA-495B-8511-7927C33C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01CD-30C8-4371-B3A6-0311110D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F3864-FF0C-4CEC-B6D4-83F64FBF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CF6E6-7DC4-4143-B081-BC8B45B0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8FD68-8291-4292-A478-5D635842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719-902C-4D17-9B93-3CE8261B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19398-CC1E-415E-AC66-836D0CCC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0D324-CC55-44B6-9D0D-9B7C8362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7FE0A-2107-45CA-B0E0-CCDA3F42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A2DAC-AA34-442B-BCA2-0751AA83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DAE8C-C093-4C5D-845A-5F3BC2AC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05D3E-C559-4F8B-9859-2624DD45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362CB-3E50-4D2B-9F2B-6560E2BF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87B4D-7710-4863-9476-7B4D1359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D1091-F3A2-43CF-85AD-49AFE086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D3CAB-3383-45B8-800B-40D824E5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C90-5822-49F0-8369-6D9A1848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569A2-00D4-4329-8FDC-160FE5D4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4015C-29C2-44F7-8800-AC458136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283D0-56CA-4EAE-9633-CF39AAA8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41AF6-F1B2-4F45-8F0F-F54D61B1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FEB49-AF37-465F-99EC-F489C005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1E191-E44D-48CD-880A-49886E78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C827E-65ED-48FA-A656-6322B01A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FB6B9-75B0-4E2E-8D00-A386921F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9E2AF-21C5-4222-B5CE-958B5898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D6AEB-3F50-4CCD-BF95-4BB02C8C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105-F827-4F18-A0F3-5923BEAA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E383E-B08B-43AA-AD1B-A5314B1A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23CC1-9027-4F1E-BFD8-B6C75278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21FD1-0537-4142-ACA8-06672AAE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5138D-0224-4103-9A5D-CD0A0E5F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CD461-6910-48DE-9B3B-6FBC8903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EA69B-4826-4924-8CE2-29153826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BF5D6-13BB-432B-A020-6B0FC777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BD973-FFF9-4EEB-9472-583CD257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92B88-B340-405A-9EF5-C2CAC4FC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3A6C8-BD4A-43A5-8BB0-A8DD7895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5F7-9A9B-4549-A494-B08B764E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D17BB-B1AC-434B-8DD5-7A1BA577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18685-C897-4F7C-B524-8AC22045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8BD5B-A582-4844-AB8E-C8152EBD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A41F7E-D576-44A5-869B-3CAEC60E5D8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87E13-02F5-49FE-A8FA-87AE21AD4E1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62425B-1D39-4ACA-9085-05548D6D173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DF9B37-3C78-4B4A-882A-5852BCFC9CB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4F02C-7FCB-4EAE-83DA-5E43E5B649E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1FAE0C-72AD-46C9-A6EC-3F04E2FFBA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8A953-FEE5-46B3-A805-FC55D55DE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D68-4F6D-4138-82DC-E0C4738F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7ABFD-D5A2-481E-A1C7-CA983B08338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D89CD-0A80-4A8B-B91D-EF1B83E9E65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F0303-285D-4CA2-A6B2-EF0E1AFA83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7037D-D2CE-434C-B184-A032B5330B4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F109F7-B0B5-4577-8C09-BCC4FDCAB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3DB-E3A6-42CC-A32E-2E2D1DE6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B0CC-02A1-4DE1-B443-8B49450087CD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2560-25AD-4FC2-820C-1060A6C43CF8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69DB-05AA-4000-BA34-5471FD9A07BE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EB39-BF9E-4677-A8AF-03FD6CC1798C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9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10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606D-AF4B-4C0A-9DD5-EC94E7A3511D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563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IUCC – May 2009 – Eddie Aronovi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B32C-28EA-4C29-A969-F8E87A2FB7AC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0" y="5821200"/>
            <a:ext cx="896760" cy="103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1A39-08D0-4AAE-BE19-E1238E35B4E8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3E37-412E-4117-A589-71073924615F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001C-6266-4122-9D3A-582B90C3BDE2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77DD-688D-4A20-8F7E-2A418360428F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E6F1-B9F8-4728-9F19-54055B30242D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13A6-B518-4A9E-8290-FE9478BD421D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269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1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272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9"/>
          </p:nvPr>
        </p:nvSpPr>
        <p:spPr>
          <a:xfrm>
            <a:off x="3203640" y="6559200"/>
            <a:ext cx="5262480" cy="298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r>
              <a:rPr b="0" lang="en-GB" sz="1200" spc="-1" strike="noStrike">
                <a:solidFill>
                  <a:srgbClr val="bcb7a8"/>
                </a:solidFill>
                <a:latin typeface="Times New Roman"/>
              </a:rPr>
              <a:t>Grid Operation and Security by Eddie Aronovich, May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0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3F9D-5C94-4679-91D4-7FE906E2B4A5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94920" y="2781000"/>
            <a:ext cx="8464680" cy="37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Corbel"/>
              </a:rPr>
              <a:t>IUCC Certification Authority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rbel"/>
              </a:rPr>
              <a:t>Implementation of self audit findings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esented by Arad Alper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January 2012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114720" y="31680"/>
            <a:ext cx="2676600" cy="309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1888-7B2F-4E6F-ABA8-8616B582A0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Is there an end-entity obligation to protect the private key with a 12 character pass phrase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1" lang="en-US" sz="3000" spc="-1" strike="noStrike">
                <a:solidFill>
                  <a:srgbClr val="fa7d7a"/>
                </a:solidFill>
                <a:latin typeface="Corbel"/>
              </a:rPr>
              <a:t> 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7d7a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Already implemented in practice, and will be a stipulation in the next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7031-8C80-4310-B484-12B573BD37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the CA accept external auditing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4100" spc="-1" strike="noStrike">
                <a:solidFill>
                  <a:srgbClr val="ff6f61"/>
                </a:solidFill>
                <a:latin typeface="Corbel"/>
              </a:rPr>
              <a:t>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According to section our CP/CPS, no external auditing will be performed, only self-auditing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 have no problem with external auditing, and we will change the CP/CPS according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3B351-6C2F-4436-A202-A997BC8863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How does the CA guarantee that a subject name will remain unique throughout the lifetime of the CA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We do not have such a mechanism. A review of the certificates issued so far reveals no duplication of subject nam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Requesting suggestions how to deal with this stipulation.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A7D79-F7F1-4C27-A483-33B8360858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r" rtl="1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1125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an end-entity obligation include requesting revocation? -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4500"/>
            </a:br>
            <a:r>
              <a:rPr b="1" lang="en-US" sz="45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There is no mention of it in the CP/CPS, but we do stress it to the user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ill be fixed in the next CP/C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F6A80-6300-4F71-82A1-D71D5A7B4C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the CA perform operational audits of the CA/RA staff once a year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A performs a yearly self-assessment. We do not do any official RA audi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 will audit our RAs, and fix the CP/CPS according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37B47-E6E8-4938-A205-36ACA14469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Stipulations that do not appear in CP/CPS but are maintained in practice 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f61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 stipulation for certificate profiles to match GFD 125, but they do match in practic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 stipulation to issue a new CRL 7 days before expiration date, but it is performed in practic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 stipulation to maintain a list of RAs, but it is performed in practic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The stipulations will be added in the new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B6AD-5BA7-4E03-85F0-3A0C411415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Is the CP/CPS structured according to RFC 3647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No. It is structured according to RFC 2527 which was the one available when we drafted our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’ll use 3647 to write the new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0B7E-F766-4209-B894-2B7E85C052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80000"/>
              </a:lnSpc>
              <a:spcBef>
                <a:spcPts val="1125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Who can request certificate revocation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4500"/>
            </a:br>
            <a:r>
              <a:rPr b="1" lang="en-US" sz="45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CP/CPS fails to mention that RA or CA can request revocatio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ill be fix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44560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CB77-7298-46C4-99B9-B96E58A3E7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519120" y="190188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-480240">
              <a:spcBef>
                <a:spcPts val="850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Are certificates and private keys re-keyed or renewed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marL="480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8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According to CP/CPS, 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expired certificates must be re-keyed if a request is made prior to expiration.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I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n practice, we revoke a certificate when it is about to expire, and issue a new one, with a new private ke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8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8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 intend to continue this practice until the switch to TCS, then work by their rul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 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74FF-2DE6-45F6-B828-2E38369915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519120" y="190188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the CA provide their trust anchor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We assumed that EUGridPMA was our trust anchor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repository. 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 can provide our trust anchor to EUGRidPMA whe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ask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 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990A0-8AAF-4F36-96E0-D5E0192AE9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28760" y="838080"/>
            <a:ext cx="853596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UCC (Inter University Computation Center) is a member in FP7 projects - Geant and EGI and Linksce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UCC handles all Israeli grid activit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UCC CA is the authority that issues grid certific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176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EUGridPMA member since Dec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ragrid is the unit inside of IUCC that handles Grid and certific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9553-A5DD-4A43-AB9E-FDD12BF912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519120" y="190188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How does RA validate the identity of a person requesting a host/service certificate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re is no stipulation is CP/CPS. In practice, there are very few such requests, and the persons requesting are well known to the R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rbel"/>
              </a:rPr>
              <a:t>Requesting suggestio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 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58F43-30F3-498F-B7DE-DF201C21AA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755640" y="38606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3048120" y="31680"/>
            <a:ext cx="2939760" cy="339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66C1-134F-4593-82A3-558F4CD1CF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Arial"/>
              </a:rPr>
              <a:t>IUCC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Arial"/>
              </a:rPr>
              <a:t>CA</a:t>
            </a:r>
            <a:endParaRPr b="1" lang="en-US" sz="40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25" name="Content Placeholder 2"/>
          <p:cNvSpPr/>
          <p:nvPr/>
        </p:nvSpPr>
        <p:spPr>
          <a:xfrm>
            <a:off x="457200" y="1951200"/>
            <a:ext cx="822960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UCC CA handles the grid certification to all of Israel’s 8 universiti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ach university has its own RA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Isragrid/IUCC serves as a default RA, that verifies requests from non-academic bodi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Corbel"/>
              </a:rPr>
              <a:t>Question: can we use the default RA for academic users as well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51CD5-1A86-4CDE-84CC-1B9CF3D6C8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lnSpc>
                <a:spcPct val="12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 2010, IUCC decided to transfer our certificate issuance to an outside service, operated by Terena (TC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3680" indent="-283680">
              <a:lnSpc>
                <a:spcPct val="12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UCC has been a member of TCS since September 2010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3680" indent="-283680">
              <a:lnSpc>
                <a:spcPct val="12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en issuing server certificates via TCS since January 2011. User certificates are still issued using the OpenCA machin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3680" indent="-283680">
              <a:lnSpc>
                <a:spcPct val="12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e have been a member of TCS Portal since December 2011, and are in the process of moving user certificates issuance to the portal, and completing the switch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witch to TC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F471-6189-4791-A44F-CDC02F54EF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en the move is completed, a new CP/CPS will be draft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lf audit was performed using the current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7034-47F4-4C20-A5DC-18A07A3F7E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lf audit was performed using the audit document GFD 169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e used the scoring system provided in the document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: Goo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: Recommendation (minor change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: Recommendation (major change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: Advice (must change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: Could not evaluate (N/A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re we shall present the Ds, Cs &amp; B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A8634-D11F-4AFF-AE23-533AC5F7AB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the CP/CPS describe the procedure of changing CP/CPS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ill be fixed in the new CP/CPS. Requesting instructions.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00ff00"/>
                </a:solidFill>
                <a:latin typeface="Bookshelf Symbol 7"/>
                <a:ea typeface="Bookshelf Symbol 7"/>
              </a:rPr>
              <a:t>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251E-A74B-40C0-B31B-DA3E63305B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Was the secure environment of the CA machine approved by PMA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The CA machine used to be operated and located in Tel Aviv University (IUCC outsourced work). IUCC/Isragrid hired staff in 2009 and moved the machine to a safe-box in the IUCC building. However, we did not get PMA approval for the new spot.  We believe the PMA never gave approval for the previous location as wel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How do we get the approval for the new saf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5F505-3ECF-4273-9469-154F65B8EA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Is the CRL compliant with RFC5280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RFC5280 stipulates that the CRL has to be version 2. Our CRL is version 1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Should we fix this, or can we continue issuing version 1 CRLs until we take our old CA system offlin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D6C3-C720-4E53-9D68-64DB44937D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9:00:04Z</dcterms:created>
  <dc:creator>user</dc:creator>
  <dc:description/>
  <dc:language>en-US</dc:language>
  <cp:lastModifiedBy>ארד</cp:lastModifiedBy>
  <dcterms:modified xsi:type="dcterms:W3CDTF">2012-01-11T14:55:26Z</dcterms:modified>
  <cp:revision>260</cp:revision>
  <dc:subject/>
  <dc:title>הגריד האקדמי הישראלי</dc:title>
</cp:coreProperties>
</file>