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22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move the slid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23"/>
          </p:nvPr>
        </p:nvSpPr>
        <p:spPr>
          <a:xfrm>
            <a:off x="0" y="943272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24"/>
          </p:nvPr>
        </p:nvSpPr>
        <p:spPr>
          <a:xfrm>
            <a:off x="3779640" y="9432720"/>
            <a:ext cx="2889000" cy="495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B2ECD91-3B49-4342-92DD-83BE05E0F7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7D4E68-72F0-448B-BC86-872F7E71C052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699AA7-081C-4CC0-8B06-F90E9EB23D82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7BFB70-BED7-461A-BD97-38168DE95885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ECA9E7F-6D3C-461D-95D1-337FEE93CEE3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8356B9E-A710-4605-9220-169A011AA422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B11986F-4060-4BF1-BD6A-F98D020EC340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96ADAE8-A586-4654-8E9B-2FE2F5B6591F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68BC776-4B49-4633-9C38-577B3D287E99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F070B8-FFAA-4C8C-8832-7025822735E3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C4F2A74-A723-4C26-8B55-79ECFC2B29E8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7AE2-1BD4-4C4A-9917-1336B9E2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DA61-C8DD-4B75-A42F-C9BD9E58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DB788-E16B-4E6D-AAA2-42B9634033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5B77B-63A4-475F-A7A6-D25137CEFD5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ED21B-6419-4F69-A323-1145D84DF76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6010E-E74D-4A26-93FB-6EC39790E86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EB856-AB8E-4633-AEC5-50AA96F5C53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E3869-0CE6-441B-8C84-65874A448FF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D98E6-67A9-4E3D-974D-45DC622B556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C3E5B-C5E4-4405-9140-A5D34C553DE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C8291-099D-4750-ABD7-75535A12D23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3AF172-DF35-4359-B4FD-329AD7B36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77DB-2835-4631-8E2C-E4632568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8AF735-A46B-4447-A936-A480E556FE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C56702-C92A-4CB5-9C32-6F97208004F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944E7F-25F1-4BE1-BF4B-E5E906E4DD5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810CEC-0D9E-4A0E-B4B5-E618728E387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54392F-9F80-441E-8DC1-6464AE3EA9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221CD9-5764-4F9E-8C2E-4C44ACD200D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5355C2-9610-44CF-A9CD-DB427D025C6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DC68ED-0CED-4069-9E5B-8B1DDD34AA8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E6D7AD-B99E-43E8-BC96-BD22474E3F3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281450-0F77-4B43-A10A-D71EBBEA6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24D8-7046-46F3-B4EB-AD233FFF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AB011-2BF7-493B-AEA8-0179CF14E47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356B6-8888-4CB3-8AAF-A0CBDB4956E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CE1B8-B2E9-4B67-AE82-F52437E8F77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E59CA-CF62-4F75-9076-72EDD7C7BA4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4B256-EA25-4242-A1CC-E321208DF05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D623B-9B20-4943-B6D9-07AE4C05AA4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649E7-DA45-467B-B994-55187DCFF03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1E143-314B-4A23-AD4D-5D4908CCE36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7D0B7-B470-4664-8DC3-B5A439C3479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2F57E-7543-4E02-8301-B8135C08A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BF0E8-9720-450E-A59B-B62FD022149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D5773-BC9D-4E23-8E71-0A4D2A0635F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7D1C-7941-49D2-9235-0E377644770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E1D92-09AE-42A5-8BC9-BB045963E71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8CBE4-3BA1-42E1-9AAF-EDE422FC596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696ED-F432-43C6-9275-49D4F22276C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07D36-BB79-4B5B-88E5-49D4AA94B16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3E267-724A-42FD-A2B2-1F98B880B3E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4EF7D-4FB0-4A61-82F4-75AE49898DF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84590-126C-476D-9AC2-3386D4E83B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07FE9-0692-459E-B994-381A358737D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C3B4D-79BB-4C6F-A743-DD9987D09F5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4F323-ADFA-4CDF-8DF8-01085024025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7B9172-2E42-4E3C-AB6D-B558A28F125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373D1-4710-4B25-ABCF-77DA3D42F3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397F-7B85-4C38-9205-07FFA4F9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CBAE-6FDF-413A-835B-B8C170D8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DEEEB-C94C-4E8B-AF8E-E0CA9B85AB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C8357-91D9-433E-9B7F-5BAE31EDBF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8AB20-E11F-4DF6-9E95-A86E2B4EA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221B-3ACA-475E-BBE6-31CFB22D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6C50C-C28F-47DA-B341-F6EF10C259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1038E-4010-4F69-8458-7D080FFB0D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36C82-BA1D-41E3-A8A0-8EA0CD4FF1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37598-309B-49F4-8855-E15750C6EC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40B61-0940-4C2B-AFD1-911103A9F1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C9E93-3F2C-4642-9B53-9A5F2237FC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B2826-47CB-4BB4-B5DD-29198EBB87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FA705-4E0C-4559-9DE1-788FF4DE5A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0AA3F-6978-41A0-9672-E9B73203F60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162E-2523-4E4B-9C2E-42A900328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DF6B-5106-4500-BB48-AAE2A0A4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E2C4-C45F-4316-A7B4-629D01B9EDB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6722-B1FA-42F2-BC7A-C145901DC30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DCCD-3529-4FFC-A1B5-CA8B8E647D4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03A0-6AF0-4DAA-A993-FE1F385FD5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AF93-F09C-4314-8ABF-6FA81D3A3D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A8A5-1DD2-4334-850D-DFD0D22ABF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637C-FE59-402B-8B11-497F7C95417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0993-84A8-4CC1-9F68-BC56F81766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BCF5-134D-481F-AB92-958D49987F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DBB9-757B-4EDA-9CF2-C69F6FF0F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D300-D3F9-49C6-8AC3-B1C1236B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DADB-FE64-4448-ABE2-AA67F67876C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761C6-689C-4522-9B95-38A18A704AB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4898E-8C05-4C7E-BCC7-5B5520F084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090D3-3BBA-4FF2-9E66-7D3496C2737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72552-9437-48F8-B5C2-A908BE532D2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436CB-77DF-4995-A690-D9901010B9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73210-2650-47D9-8705-C0790F2631C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6113F-A3BF-4F05-BBBF-6B8EDFA8B1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084B7-B972-41C9-A7E6-A23B7ECF31F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A1C1A-D19F-426F-9F42-8AF99280F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250C-9820-4438-91A7-2817243C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419B0-BCC2-4CBA-A0B2-52B930C5A9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E116A-BA7D-4854-946A-896D54A31F4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15D63-D51A-4E63-9C90-B1EB28A120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D78F2-9C86-4BDE-B0E1-B531D384427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6E45C-5A34-487D-96CD-466802D5A3A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FCA45-46A3-42F0-89EF-6C7C3FAD2EA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920DB-4E6D-4A76-93E4-6C70D73D7FA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C6629-774E-421D-A94E-9085CB062EE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83BB4E-5EB5-40C0-B03A-0344144E619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DB944B-5C73-4BE9-AF69-3291665AA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F3A4-4E33-4470-A642-4C983826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19A07-7462-4270-BF9F-453356D9932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C2B4B-4B93-4870-92D2-5CEECFF1E06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793E26-D8AB-4675-B1DD-9147AD52F5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2992D-DC47-4E49-962D-EFC926F68A9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10F91C-84C1-4A0B-861B-006C5D3067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9E589-E744-429A-A0C2-026C0DAD646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A83D-0D20-4B71-B2A7-0A8A46A914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4731-DAD0-4B8C-A199-86EBCA2382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8A53-5A76-4CC9-A86F-2C4639870E0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D3220-B0EC-4049-AA97-21BB9B129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D02E-F1E6-4D36-93AE-66E85ECE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C721-93AC-4E17-AB68-95A2EB210F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5CC2-B0F6-42B3-8C0C-6A9B7FB0F6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225F-5708-4BC7-9784-8E83A34E855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1798-D620-4C90-B566-EF795983AD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EE7E-C253-4500-91A5-4F533CC99C5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C542-1F6B-44B0-B79A-71EC6C5F447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3CEB-A963-4482-ADD8-2F34FECA463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DBFCA7-972F-47AB-98FD-BE206B422C5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4C587-6619-49A9-AB08-2D250A74D0A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E6CCF-07BB-4F74-970A-88C9B013E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BA35-26C0-49E3-A24B-D3838D551479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  <a:ea typeface="Arial"/>
              </a:rPr>
              <a:t>21th EUGridPMA meeting, Utrecht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8989da"/>
                </a:solidFill>
                <a:latin typeface="Times New Roman"/>
                <a:cs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4DFD-B690-47AA-863E-2AAECD847B3E}" type="datetime">
              <a:rPr b="0" lang="ar-SY" sz="1200" spc="-1" strike="noStrike">
                <a:solidFill>
                  <a:srgbClr val="8989da"/>
                </a:solidFill>
                <a:latin typeface="Times New Roman"/>
                <a:cs typeface="Arial"/>
              </a:rPr>
              <a:t>١٤٤٨/٠٢/١٧</a:t>
            </a:fld>
            <a:r>
              <a:rPr b="0" lang="ar-SY" sz="1200" spc="-1" strike="noStrike">
                <a:solidFill>
                  <a:srgbClr val="8989da"/>
                </a:solidFill>
                <a:latin typeface="Times New Roman"/>
                <a:ea typeface="Arial"/>
              </a:rPr>
              <a:t> </a:t>
            </a:r>
            <a:fld id="{2E17CA9C-2495-4C43-B0EF-20AA390F2FBA}" type="datetime10">
              <a:rPr b="0" lang="ar-SY" sz="1200" spc="-1" strike="noStrike">
                <a:solidFill>
                  <a:srgbClr val="8989da"/>
                </a:solidFill>
                <a:latin typeface="Times New Roman"/>
                <a:ea typeface="Arial"/>
              </a:rPr>
              <a:t>06: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6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B1E2-1222-4BDE-918A-B340CA876501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7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8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DCE9-1AAA-4711-9981-2FC5B33B5530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9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0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9347-13B2-474F-876C-4F08B11C0530}" type="slidenum">
              <a:rPr b="0" lang="en-US" sz="1400" spc="-1" strike="noStrike">
                <a:solidFill>
                  <a:srgbClr val="0000cc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1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cc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>
            <a:lum bright="12000"/>
          </a:blip>
          <a:srcRect l="11966" t="0" r="8797" b="8705"/>
          <a:stretch/>
        </p:blipFill>
        <p:spPr>
          <a:xfrm>
            <a:off x="458640" y="663480"/>
            <a:ext cx="8244000" cy="6027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9404280" y="532440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5" name="Arc 8"/>
          <p:cNvSpPr/>
          <p:nvPr/>
        </p:nvSpPr>
        <p:spPr>
          <a:xfrm>
            <a:off x="3960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025880" y="98280"/>
            <a:ext cx="44910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" name="Arc 12"/>
          <p:cNvSpPr/>
          <p:nvPr/>
        </p:nvSpPr>
        <p:spPr>
          <a:xfrm>
            <a:off x="61920" y="5913360"/>
            <a:ext cx="1598760" cy="1222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8" name="Arc 13"/>
          <p:cNvSpPr/>
          <p:nvPr/>
        </p:nvSpPr>
        <p:spPr>
          <a:xfrm flipH="1">
            <a:off x="8501040" y="-136440"/>
            <a:ext cx="1557360" cy="788760"/>
          </a:xfrm>
          <a:custGeom>
            <a:avLst/>
            <a:gdLst/>
            <a:ahLst/>
            <a:rect l="l" t="t" r="r" b="b"/>
            <a:pathLst>
              <a:path fill="none" w="20883" h="17763">
                <a:moveTo>
                  <a:pt x="20883" y="5518"/>
                </a:moveTo>
                <a:cubicBezTo>
                  <a:pt x="19568" y="10493"/>
                  <a:pt x="16520" y="14836"/>
                  <a:pt x="12288" y="17763"/>
                </a:cubicBezTo>
              </a:path>
              <a:path stroke="0" w="20883" h="17763">
                <a:moveTo>
                  <a:pt x="20883" y="5518"/>
                </a:moveTo>
                <a:cubicBezTo>
                  <a:pt x="19568" y="10493"/>
                  <a:pt x="16520" y="14836"/>
                  <a:pt x="12288" y="17763"/>
                </a:cubicBezTo>
                <a:lnTo>
                  <a:pt x="0" y="0"/>
                </a:lnTo>
                <a:lnTo>
                  <a:pt x="20883" y="5518"/>
                </a:lnTo>
                <a:close/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9" name="Arc 14"/>
          <p:cNvSpPr/>
          <p:nvPr/>
        </p:nvSpPr>
        <p:spPr>
          <a:xfrm flipH="1" flipV="1">
            <a:off x="8178120" y="-286200"/>
            <a:ext cx="887400" cy="1086120"/>
          </a:xfrm>
          <a:custGeom>
            <a:avLst/>
            <a:gdLst/>
            <a:ahLst/>
            <a:rect l="l" t="t" r="r" b="b"/>
            <a:pathLst>
              <a:path fill="none" w="20836" h="21596">
                <a:moveTo>
                  <a:pt x="372" y="-1"/>
                </a:moveTo>
                <a:cubicBezTo>
                  <a:pt x="9969" y="164"/>
                  <a:pt x="18306" y="6644"/>
                  <a:pt x="20836" y="15903"/>
                </a:cubicBezTo>
              </a:path>
              <a:path stroke="0" w="20836" h="21596">
                <a:moveTo>
                  <a:pt x="372" y="-1"/>
                </a:moveTo>
                <a:cubicBezTo>
                  <a:pt x="9969" y="164"/>
                  <a:pt x="18306" y="6644"/>
                  <a:pt x="20836" y="15903"/>
                </a:cubicBezTo>
                <a:lnTo>
                  <a:pt x="0" y="21596"/>
                </a:lnTo>
                <a:lnTo>
                  <a:pt x="372" y="-1"/>
                </a:lnTo>
                <a:close/>
              </a:path>
            </a:pathLst>
          </a:custGeom>
          <a:noFill/>
          <a:ln w="25560">
            <a:solidFill>
              <a:srgbClr val="f4c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239760" y="382680"/>
            <a:ext cx="30258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9036000" y="781200"/>
            <a:ext cx="0" cy="2388960"/>
          </a:xfrm>
          <a:prstGeom prst="line">
            <a:avLst/>
          </a:prstGeom>
          <a:ln w="25560">
            <a:solidFill>
              <a:srgbClr val="f4c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650320" y="6561000"/>
            <a:ext cx="33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24</a:t>
            </a:r>
            <a:r>
              <a:rPr b="1" lang="nl-NL" sz="1000" spc="-1" strike="noStrike" baseline="36000">
                <a:solidFill>
                  <a:srgbClr val="ff9933"/>
                </a:solidFill>
                <a:latin typeface="Rockwell"/>
                <a:ea typeface="Rockwell"/>
              </a:rPr>
              <a:t>th </a:t>
            </a: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EUGridPMA Meeting, </a:t>
            </a:r>
            <a:r>
              <a:rPr b="1" lang="fr-FR" sz="1000" spc="-1" strike="noStrike">
                <a:solidFill>
                  <a:srgbClr val="ff9933"/>
                </a:solidFill>
                <a:latin typeface="Rockwell"/>
                <a:ea typeface="Rockwell"/>
              </a:rPr>
              <a:t>Ljubljana, Slovenia</a:t>
            </a: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, 2012</a:t>
            </a:r>
            <a:endParaRPr b="0" lang="en-US" sz="1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Straight Connector 12"/>
          <p:cNvSpPr/>
          <p:nvPr/>
        </p:nvSpPr>
        <p:spPr>
          <a:xfrm>
            <a:off x="108000" y="6556320"/>
            <a:ext cx="8928000" cy="0"/>
          </a:xfrm>
          <a:prstGeom prst="line">
            <a:avLst/>
          </a:prstGeom>
          <a:ln w="19080">
            <a:solidFill>
              <a:srgbClr val="ffe6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8259120" y="6537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7987-5123-4E3C-84E8-6F19B113544F}" type="slidenum">
              <a:rPr b="1" lang="en-US" sz="1400" spc="-1" strike="noStrike">
                <a:solidFill>
                  <a:srgbClr val="ff9933"/>
                </a:solidFill>
                <a:latin typeface="Rockwell"/>
                <a:ea typeface="Rockwell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4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E48A-AD4F-47E1-893E-BFB39C1A12D3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6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8E5D-8E3F-4DD7-AAAF-92D9ECB9EAA4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8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33D3-00A5-479F-AAF7-E5069FCA7797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9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0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9853-1412-480A-9EC3-60878F0997FA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2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5A16-7CEC-423F-AE06-9B0A0A8888F0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3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4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4B7F-9C08-4E6F-B5B2-1DF74B88CCDD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5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000" y="2300400"/>
            <a:ext cx="80643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 Black"/>
              </a:rPr>
              <a:t>TNGrid CA</a:t>
            </a:r>
            <a:endParaRPr b="1" lang="en-US" sz="44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11280" y="335592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24</a:t>
            </a:r>
            <a:r>
              <a:rPr b="1" lang="nl-NL" sz="1600" spc="-1" strike="noStrike" baseline="34000">
                <a:solidFill>
                  <a:srgbClr val="000099"/>
                </a:solidFill>
                <a:latin typeface="Rockwell"/>
              </a:rPr>
              <a:t>th</a:t>
            </a: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 EUGridPMA meeting 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Rockwell"/>
              </a:rPr>
              <a:t>Ljubljana, Slovenia</a:t>
            </a: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Rockwell"/>
              </a:rPr>
              <a:t>16-18 January, 2012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51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Rockwell"/>
              </a:rPr>
              <a:t>Heithem ABBES                Mohamed JEMNI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Rockwell"/>
              </a:rPr>
              <a:t>heithem.abbes@esstt.rnu.tn                     mohamed.jemni@fst.rnu.tn</a:t>
            </a: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Rockwell"/>
              </a:rPr>
              <a:t>Research Unit </a:t>
            </a:r>
            <a:r>
              <a:rPr b="1" lang="it-IT" sz="1200" spc="-1" strike="noStrike">
                <a:solidFill>
                  <a:srgbClr val="000099"/>
                </a:solidFill>
                <a:latin typeface="Rockwell"/>
              </a:rPr>
              <a:t>Technolgies of Information and Communication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Rockwell"/>
              </a:rPr>
              <a:t>University of Tunis </a:t>
            </a:r>
            <a:r>
              <a:rPr b="1" lang="en-US" sz="1200" spc="-1" strike="noStrike">
                <a:solidFill>
                  <a:srgbClr val="000099"/>
                </a:solidFill>
                <a:latin typeface="Rockwell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</p:txBody>
      </p:sp>
      <p:pic>
        <p:nvPicPr>
          <p:cNvPr id="520" name="Image 3" descr="TN-GRID.png"/>
          <p:cNvPicPr/>
          <p:nvPr/>
        </p:nvPicPr>
        <p:blipFill>
          <a:blip r:embed="rId1"/>
          <a:stretch/>
        </p:blipFill>
        <p:spPr>
          <a:xfrm>
            <a:off x="128520" y="477720"/>
            <a:ext cx="2139840" cy="1511280"/>
          </a:xfrm>
          <a:prstGeom prst="rect">
            <a:avLst/>
          </a:prstGeom>
          <a:ln w="0">
            <a:noFill/>
          </a:ln>
        </p:spPr>
      </p:pic>
      <p:pic>
        <p:nvPicPr>
          <p:cNvPr id="521" name="Image 2" descr="logo2.bmp"/>
          <p:cNvPicPr/>
          <p:nvPr/>
        </p:nvPicPr>
        <p:blipFill>
          <a:blip r:embed="rId2"/>
          <a:stretch/>
        </p:blipFill>
        <p:spPr>
          <a:xfrm>
            <a:off x="3973680" y="765000"/>
            <a:ext cx="885600" cy="952560"/>
          </a:xfrm>
          <a:prstGeom prst="rect">
            <a:avLst/>
          </a:prstGeom>
          <a:ln w="0">
            <a:noFill/>
          </a:ln>
        </p:spPr>
      </p:pic>
      <p:pic>
        <p:nvPicPr>
          <p:cNvPr id="522" name="Image 4" descr="eumedgrid_logo.png"/>
          <p:cNvPicPr/>
          <p:nvPr/>
        </p:nvPicPr>
        <p:blipFill>
          <a:blip r:embed="rId3"/>
          <a:stretch/>
        </p:blipFill>
        <p:spPr>
          <a:xfrm>
            <a:off x="6411960" y="739800"/>
            <a:ext cx="1905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Name Form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66560" y="1268280"/>
            <a:ext cx="8282160" cy="52689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Issuer (TNGrid CA)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/O=TNGrid/CN=TNGrid CA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User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organization name of the subject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Forename and the Surname of the subject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Host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name of the organization owning the host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DNS FQDN of the host preceded by 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‘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host/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’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Service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name of the organization owning the service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DNS FQDN of the server preceded by 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‘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serviceName/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’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where serviceName must uniquely identify the service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5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5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07640" y="232560"/>
            <a:ext cx="6635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Private Ke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9280" y="1266480"/>
            <a:ext cx="8137800" cy="51865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Asymmetric algorithm: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RSA</a:t>
            </a:r>
            <a:endParaRPr b="0" lang="en-US" sz="17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Key size: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2048 bit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4.1.2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Protected by a pass-phrase of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15 character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6.4.1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The pass-phrase is only known to CA operators</a:t>
            </a:r>
            <a:endParaRPr b="0" lang="en-US" sz="17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TNGrid CA private key is kept, encrypted, in multiple copies and in different location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6.2.4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Rockwell"/>
              </a:rPr>
              <a:t>In case the private key of the TNGrid CA is (or suspected to be) compromised , the CA shall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500" spc="-1" strike="noStrike">
                <a:solidFill>
                  <a:srgbClr val="000099"/>
                </a:solidFill>
                <a:latin typeface="Rockwell"/>
              </a:rPr>
              <a:t>[CP/CPS 5.7.3]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notify subscribers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terminate issuing certificates and CRLs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generate a new CA key pair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revoke all certificates signed using the compromised key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Certificat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2200" y="1052640"/>
            <a:ext cx="7705800" cy="525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Version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1" lang="fr-FR" sz="1800" spc="-1" strike="noStrike">
                <a:solidFill>
                  <a:srgbClr val="ff9933"/>
                </a:solidFill>
                <a:latin typeface="Rockwell"/>
              </a:rPr>
              <a:t>3 (0x2)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erial Number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2 (0x2)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ignature Algorithm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sha256WithRSAEncryption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Issuer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600" spc="-1" strike="noStrike">
                <a:solidFill>
                  <a:srgbClr val="000099"/>
                </a:solidFill>
                <a:latin typeface="Rockwell"/>
              </a:rPr>
              <a:t>CN=TNGrid CA,O=TNGrid,C=TN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Validity 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Not Before: </a:t>
            </a:r>
            <a:r>
              <a:rPr b="0" lang="pl-PL" sz="1600" spc="-1" strike="noStrike">
                <a:solidFill>
                  <a:srgbClr val="0000cc"/>
                </a:solidFill>
                <a:latin typeface="Rockwell"/>
              </a:rPr>
              <a:t>Dec 16 14:27:25 2011 GM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Not After : </a:t>
            </a:r>
            <a:r>
              <a:rPr b="0" lang="pl-PL" sz="1600" spc="-1" strike="noStrike">
                <a:solidFill>
                  <a:srgbClr val="0000cc"/>
                </a:solidFill>
                <a:latin typeface="Rockwell"/>
              </a:rPr>
              <a:t>Dec 11 14:27:25 2031 GM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ubject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CN=TNGrid CA,O=TNGrid,C=TN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ubject Public Key Info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Public Key Algorithm: </a:t>
            </a:r>
            <a:r>
              <a:rPr b="0" lang="en-US" sz="1600" spc="-1" strike="noStrike">
                <a:solidFill>
                  <a:srgbClr val="ff9933"/>
                </a:solidFill>
                <a:latin typeface="Rockwell"/>
              </a:rPr>
              <a:t>rsaEncryption 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RSA Public Key: </a:t>
            </a:r>
            <a:r>
              <a:rPr b="1" lang="en-US" sz="1600" spc="-1" strike="noStrike">
                <a:solidFill>
                  <a:srgbClr val="ff9933"/>
                </a:solidFill>
                <a:latin typeface="Rockwell"/>
              </a:rPr>
              <a:t>2048 bi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Certificat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95280" y="1257480"/>
            <a:ext cx="8282160" cy="5340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CA certificate are following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asic Constraints: </a:t>
            </a:r>
            <a:r>
              <a:rPr b="1" lang="en-US" sz="2000" spc="-1" strike="noStrike">
                <a:solidFill>
                  <a:srgbClr val="ff9933"/>
                </a:solidFill>
                <a:latin typeface="Rockwell"/>
              </a:rPr>
              <a:t>critical, CA:TRU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Key Usage: </a:t>
            </a:r>
            <a:r>
              <a:rPr b="0" lang="fr-FR" sz="2000" spc="-1" strike="noStrike">
                <a:solidFill>
                  <a:srgbClr val="ff9933"/>
                </a:solidFill>
                <a:latin typeface="Rockwell"/>
              </a:rPr>
              <a:t>critical, keyCertSign</a:t>
            </a:r>
            <a:r>
              <a:rPr b="0" lang="en-US" sz="2000" spc="-1" strike="noStrike">
                <a:solidFill>
                  <a:srgbClr val="ff9933"/>
                </a:solidFill>
                <a:latin typeface="Rockwell"/>
              </a:rPr>
              <a:t>, CRL Signing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Subject Key Identifier: </a:t>
            </a:r>
            <a:r>
              <a:rPr b="0" lang="en-US" sz="2000" spc="-1" strike="noStrike">
                <a:solidFill>
                  <a:srgbClr val="ff9933"/>
                </a:solidFill>
                <a:latin typeface="Rockwell"/>
              </a:rPr>
              <a:t>CA key ID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Authority Key Identifier: </a:t>
            </a:r>
            <a:r>
              <a:rPr b="0" lang="fr-FR" sz="2400" spc="-1" strike="noStrike">
                <a:solidFill>
                  <a:srgbClr val="ff9933"/>
                </a:solidFill>
                <a:latin typeface="Rockwell"/>
              </a:rPr>
              <a:t>keyid,issuer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Rockwell"/>
              </a:rPr>
              <a:t>crlDistributionPoints = </a:t>
            </a:r>
            <a:r>
              <a:rPr b="0" lang="fr-FR" sz="2400" spc="-1" strike="noStrike">
                <a:solidFill>
                  <a:srgbClr val="ff9933"/>
                </a:solidFill>
                <a:latin typeface="Rockwell"/>
              </a:rPr>
              <a:t>URI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4360" y="1413000"/>
            <a:ext cx="7775280" cy="4851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Key size &gt;=1024 bits [CP/CPS 6.1.5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Life time :1 year plus one month (395 days) [CP/CPS 6.3.2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ser certificate must not be shared  [CP/CPS 4.5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Each entity must generate its key pair [CP/CPS 6.1.1, 6.1.2]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End entity should protect his/her passphrase according to   </a:t>
            </a:r>
            <a:r>
              <a:rPr b="0" lang="ja-JP" sz="2400" spc="-1" strike="noStrike">
                <a:solidFill>
                  <a:srgbClr val="ff0000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Guidelines on Private Key Protection</a:t>
            </a:r>
            <a:r>
              <a:rPr b="0" lang="ja-JP" sz="2400" spc="-1" strike="noStrike">
                <a:solidFill>
                  <a:srgbClr val="ff0000"/>
                </a:solidFill>
                <a:latin typeface="Rockwell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[CP/CPS 4.1.2]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280" y="352080"/>
            <a:ext cx="82803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Enrollment process &amp; responsibilitie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68000" y="1267920"/>
            <a:ext cx="8351640" cy="51246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Rockwell"/>
              </a:rPr>
              <a:t>For </a:t>
            </a:r>
            <a:r>
              <a:rPr b="1" lang="en-GB" sz="2600" spc="-1" strike="noStrike">
                <a:solidFill>
                  <a:srgbClr val="ff0000"/>
                </a:solidFill>
                <a:latin typeface="Rockwell"/>
              </a:rPr>
              <a:t>user certificates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ser certificate requests is submitted by an online procedure on TNGrid CA secure website (https://www.tngrid.tn/index/ca/), using a web browser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key pairs are generated by the web browser locally on the user's machine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certificate (public key signed by the CA) can only be downloaded using the same browser, including the key pair, on the same machine, by a secure URL from TNGrid CA website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611280" y="1196640"/>
            <a:ext cx="813744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r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host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service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certificat</a:t>
            </a:r>
            <a:r>
              <a:rPr b="1" lang="en-US" sz="2300" spc="-1" strike="noStrike">
                <a:solidFill>
                  <a:srgbClr val="ff0000"/>
                </a:solidFill>
                <a:latin typeface="Rockwell"/>
              </a:rPr>
              <a:t>es</a:t>
            </a:r>
            <a:endParaRPr b="0" lang="en-US" sz="23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host or service administrator creates key pair and certificate request file using </a:t>
            </a:r>
            <a:r>
              <a:rPr b="0" i="1" lang="en-US" sz="2100" spc="-1" strike="noStrike">
                <a:solidFill>
                  <a:srgbClr val="000099"/>
                </a:solidFill>
                <a:latin typeface="Rockwell"/>
              </a:rPr>
              <a:t>OpenSSL</a:t>
            </a: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 packages, submit certificate request file to the TNGrid CA by a signed e-mail.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private key is kept by the host or service administrator. 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certificate request will be verified by the appropriate RA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If the request is approved by the RA, the requester will then receive an e-mail, containing his/her certificate or information needed to download using a browser by a secure URL on the TNGrid CA website.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280" y="352080"/>
            <a:ext cx="82803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Enrollment process &amp; responsibilitie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000" y="439920"/>
            <a:ext cx="7343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ertificate issuanc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30280"/>
            <a:ext cx="8507520" cy="4662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certificate request shall be transferred to the machine which holds the private key of TNGrid CA and which is offline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n this machine the certificate is created and signed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signed certificate shall then be transferred back to the online CA server and an email will be sent to the relevant RA manager informing him/her about the action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lifetime of the certificate is one year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ertificate acceptanc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94920" y="1267920"/>
            <a:ext cx="8280360" cy="49690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The subscriber must send an e-mail within 15 days from the day that his/her certificate was issued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He/she will sign his/her e-mail with issued certificate confirming the acceptance of the certificated his/her adhesion to the policy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Upon receipt of a certificate acceptance the TNGrid CA will make available the certificate on its repository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230040"/>
            <a:ext cx="80647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39280" y="1123920"/>
            <a:ext cx="8425080" cy="5400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user certificates 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are following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basicConstraints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CA:FALS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digitalSignature, keyEncipherment, dataEncipher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extended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lientAuth, emailProtec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rlDistributionPoint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URI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ertificatePolicie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Your_OID, Authentication_Profile_OI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has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authority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keyid,issu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AltName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email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120" y="354240"/>
            <a:ext cx="7140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: Tunisian National Grid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pic>
        <p:nvPicPr>
          <p:cNvPr id="524" name="Image 3" descr="TN-GRID.png"/>
          <p:cNvPicPr/>
          <p:nvPr/>
        </p:nvPicPr>
        <p:blipFill>
          <a:blip r:embed="rId1"/>
          <a:stretch/>
        </p:blipFill>
        <p:spPr>
          <a:xfrm>
            <a:off x="3635280" y="5013360"/>
            <a:ext cx="2140200" cy="1511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395280" y="1339560"/>
            <a:ext cx="8353440" cy="41050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8000"/>
          </a:bodyPr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TNGrid project is an initiative of the research unit of Technologies of Information and Communication (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UTIC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) at the Higher School of Sciences and Technology of Tunis</a:t>
            </a:r>
            <a:r>
              <a:rPr b="0" i="1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ESSTT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) of the University of Tunis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NGrid offers an open and free Tunisian National Grid for researchers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grid computing platform is based on institutional resources and volunteer participations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10920" y="1268280"/>
            <a:ext cx="8281800" cy="52675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host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service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certificates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are following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basicConstraints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CA:FALS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digitalSignature, keyEncipherment, dataEncipher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extended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lientAuth,</a:t>
            </a: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 </a:t>
            </a:r>
            <a:r>
              <a:rPr b="1" lang="fr-FR" sz="1800" spc="-1" strike="noStrike">
                <a:solidFill>
                  <a:srgbClr val="008000"/>
                </a:solidFill>
                <a:latin typeface="Rockwell"/>
              </a:rPr>
              <a:t>serverAut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rlDistributionPoint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URI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ertificatePolicie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Your_OID, Authentication_Profile_OI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has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authority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keyid,issu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AltName=</a:t>
            </a:r>
            <a:r>
              <a:rPr b="1" lang="fr-FR" sz="1800" spc="-1" strike="noStrike">
                <a:solidFill>
                  <a:srgbClr val="008000"/>
                </a:solidFill>
                <a:latin typeface="Rockwell"/>
              </a:rPr>
              <a:t>DNS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95280" y="1196640"/>
            <a:ext cx="8424720" cy="51246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ertificate Renewal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4.6]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TNGrid CA does not permit certificate signing request with the same key as the previous certificat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ertificate Re-key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4.7.3]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After a certificate has been revoked, expired, will be expired in one month, or the private key is compromised 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If the certificate has been revoked, expired, or compromised, it must follow enrolment process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94920" y="1125360"/>
            <a:ext cx="8497800" cy="532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7000"/>
          </a:bodyPr>
          <a:p>
            <a:pPr marL="332640" indent="-33264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an be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requested by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certificate subscrib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ny other entity presenting proof of knowledge of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2" marL="1108440" indent="-221400">
              <a:spcAft>
                <a:spcPts val="601"/>
              </a:spcAft>
              <a:buClr>
                <a:srgbClr val="f1af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Rockwell"/>
              </a:rPr>
              <a:t>private key compromise</a:t>
            </a:r>
            <a:endParaRPr b="0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2" marL="1108440" indent="-221400">
              <a:spcAft>
                <a:spcPts val="601"/>
              </a:spcAft>
              <a:buClr>
                <a:srgbClr val="f1af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Rockwell"/>
              </a:rPr>
              <a:t>modification of the subscriber's data</a:t>
            </a:r>
            <a:endParaRPr b="0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32640" indent="-33264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 certificate 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will be 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revoked in the following circumstances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of the certificate has ceased being an eligible end entity for certifi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does not require the certificate any mor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private key has been lost or compromis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information in the certificate is wrong or inaccur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ystem to which the certificate has been issued has been retir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has failed to comply with the rules of TNGrid CP/CPS Polic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68360" y="1197000"/>
            <a:ext cx="8353440" cy="52689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Procedure for Revocation Reques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[CP/CPS 4.9.3]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 revocation request must be made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the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owner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 of the certificate in an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e-mail signed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with the private key associated with the (still not expired) certificate,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on behalf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of the owner who has lost his/her private key in an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e-mail signed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an authorized person of the organization/unit that consented to the certificat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the RA using a secure web interfac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The TNGrid CA must process revocation requests with the highest priority within one working day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[CP/CPS 4.9.5]</a:t>
            </a: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 Lis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68360" y="981000"/>
            <a:ext cx="820728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Lifetime is 30 days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4.9.7]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CRL issuance </a:t>
            </a:r>
            <a:r>
              <a:rPr b="1" lang="en-US" sz="1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4.9.7] 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RLs are issued after every certificate revo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t least every month, 7 days before the month-long validity of the CRL has expir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vailable at online repository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3" marL="120024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Rockwell"/>
              </a:rPr>
              <a:t>http://www.tngrid.tn/pki/pub/crl/cacrl.crl  </a:t>
            </a:r>
            <a:endParaRPr b="0" i="1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3" marL="120024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https://www.tngrid.tn/pki/pub/crl/cacrl.pem </a:t>
            </a:r>
            <a:endParaRPr b="0" i="1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Rockwell"/>
              </a:rPr>
              <a:t>Version: </a:t>
            </a:r>
            <a:r>
              <a:rPr b="1" lang="de-DE" sz="1800" spc="-1" strike="noStrike">
                <a:solidFill>
                  <a:srgbClr val="ff0000"/>
                </a:solidFill>
                <a:latin typeface="Rockwell"/>
              </a:rPr>
              <a:t>x509 v3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[CP/CPS 7.2] 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0920" y="-15840"/>
            <a:ext cx="784836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ompromise and Disaster Recover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6360" y="1196640"/>
            <a:ext cx="8496360" cy="51958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CA private key is (or suspect to be) compromised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nform the RA, subscribers and relying parties of which the CA is awar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erminate the certificates and CRL distribution services for certificates and CRLs issued using the compromised ke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Notify relevant security contact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a RA Operator</a:t>
            </a:r>
            <a:r>
              <a:rPr b="1" lang="fr-FR" sz="2000" spc="-1" strike="noStrike">
                <a:solidFill>
                  <a:srgbClr val="000099"/>
                </a:solidFill>
                <a:latin typeface="Rockwell"/>
              </a:rPr>
              <a:t>’</a:t>
            </a: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s private key is (or suspected to be) compromised 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the RA Operator or Manager must inform the CA and request the revocation of the RA Operator</a:t>
            </a:r>
            <a:r>
              <a:rPr b="0" lang="fr-FR" sz="1600" spc="-1" strike="noStrike">
                <a:solidFill>
                  <a:srgbClr val="0000cc"/>
                </a:solidFill>
                <a:latin typeface="Rockwell"/>
              </a:rPr>
              <a:t>’</a:t>
            </a: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s certificate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Entity Private Key is compromised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RA has to be informed immediately in order to start the certificate revocation process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Publication &amp; Repositor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95280" y="1125360"/>
            <a:ext cx="8424720" cy="5183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NGrid CA will publish the following information on its website 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[CP/CPS 2.2]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neral information about TNGrid CA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E-mail addresses for inquiries and fault reporting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Mailing address of CA Administration lo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NGrid CA root certific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EM format of the TNGrid CA certific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d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ertificate Revocation Lis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P/CPS docu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s web repository is available 24x7 on a best effort basis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Achieved work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6200" y="1125360"/>
            <a:ext cx="8426520" cy="5183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Preparation CP/CPS Documen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P/CPS is revised (3 times) by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Feyza Eryol from TUBITAK ULAKBIM,Turkey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omments from Fayza were implemented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oftware for CA setup  (both for online and offline CA)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esting the CA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nerate CA private ke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CA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a user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a host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nline web repository is operationa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Image 1" descr="Image 2.png"/>
          <p:cNvPicPr/>
          <p:nvPr/>
        </p:nvPicPr>
        <p:blipFill>
          <a:blip r:embed="rId1"/>
          <a:stretch/>
        </p:blipFill>
        <p:spPr>
          <a:xfrm>
            <a:off x="592200" y="511200"/>
            <a:ext cx="7796160" cy="60134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1763640" y="-27360"/>
            <a:ext cx="5400720" cy="6476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0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http://www.tngrid.tn/index/ca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79280" y="765000"/>
            <a:ext cx="7632720" cy="64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1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https://www.tngrid.tn/pki/pub/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  <p:pic>
        <p:nvPicPr>
          <p:cNvPr id="581" name="Image 1" descr="Image 3.png"/>
          <p:cNvPicPr/>
          <p:nvPr/>
        </p:nvPicPr>
        <p:blipFill>
          <a:blip r:embed="rId1"/>
          <a:stretch/>
        </p:blipFill>
        <p:spPr>
          <a:xfrm>
            <a:off x="17640" y="1484280"/>
            <a:ext cx="9151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99640" y="211320"/>
            <a:ext cx="73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: Tunisian National Grid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pic>
        <p:nvPicPr>
          <p:cNvPr id="527" name="Image 3" descr="Image 5.png"/>
          <p:cNvPicPr/>
          <p:nvPr/>
        </p:nvPicPr>
        <p:blipFill>
          <a:blip r:embed="rId1"/>
          <a:stretch/>
        </p:blipFill>
        <p:spPr>
          <a:xfrm>
            <a:off x="1044720" y="1052640"/>
            <a:ext cx="6983280" cy="54147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1619280" y="549000"/>
            <a:ext cx="5400720" cy="647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216000" rIns="198000" tIns="216000" bIns="216000" anchor="t">
            <a:normAutofit fontScale="70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http://www.tngrid.tn/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52560" y="2876040"/>
            <a:ext cx="6859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 Black"/>
              </a:rPr>
              <a:t>Thanks for your Atten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CA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8360" y="981000"/>
            <a:ext cx="820728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TIC research unit is involved in grid computing research axis since 2004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TIC research unit is working and is participating in EUMEDGRID projects coordinated by INFN (Italy) since 2006 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We have started as Registration Authority, managed by Mohamed Jemni, with INFN CA and still using INFN CA services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We have prepared to set up the</a:t>
            </a: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 TNGrid CA and to be fully operational  just after our accreditation process with EuGridPMA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usage 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24000" y="1125360"/>
            <a:ext cx="8496000" cy="489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Rockwell"/>
              </a:rPr>
              <a:t>Certificates issued by the TNGrid CA are only valid in the context of scientific activities:</a:t>
            </a:r>
            <a:endParaRPr b="0" lang="en-US" sz="2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User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issued to authenticate the users who benefit from academic and research resources, services and activities.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Host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used for the machines of clusters inside TNGrid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Service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used to recognize services used inside TNGrid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A Manager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5280" y="1197000"/>
            <a:ext cx="8282160" cy="4751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Rockwell"/>
              </a:rPr>
              <a:t>TNGrid CA will be managed by UTIC which manages TNGrid infrastructure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Rockwell"/>
              </a:rPr>
              <a:t>The Manager of the TNGrid CA is: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    </a:t>
            </a:r>
            <a:r>
              <a:rPr b="1" lang="en-US" sz="2200" spc="-1" strike="noStrike">
                <a:solidFill>
                  <a:srgbClr val="0000cc"/>
                </a:solidFill>
                <a:latin typeface="Rockwell"/>
              </a:rPr>
              <a:t>Mohamed Jemni  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(mohamed.jemni@fst.rnu.tn)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The alternate representative is: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    </a:t>
            </a:r>
            <a:r>
              <a:rPr b="1" lang="en-US" sz="2200" spc="-1" strike="noStrike">
                <a:solidFill>
                  <a:srgbClr val="0000cc"/>
                </a:solidFill>
                <a:latin typeface="Rockwell"/>
              </a:rPr>
              <a:t>Heithem Abb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(heithem.abbes@esstt.rnu.tn)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P/CP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0920" y="1123920"/>
            <a:ext cx="8064360" cy="1152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5000"/>
          </a:bodyPr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ID: </a:t>
            </a:r>
            <a:r>
              <a:rPr b="1" lang="en-US" sz="2000" spc="-1" strike="noStrike">
                <a:solidFill>
                  <a:srgbClr val="ff0000"/>
                </a:solidFill>
                <a:latin typeface="Rockwell"/>
              </a:rPr>
              <a:t>1.3.6.1.4.1.37660.1.1.1.0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7.1.6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tructured as defined in </a:t>
            </a: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RFC 3647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1.1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187280" y="2852640"/>
          <a:ext cx="6840720" cy="2592360"/>
        </p:xfrm>
        <a:graphic>
          <a:graphicData uri="http://schemas.openxmlformats.org/drawingml/2006/table">
            <a:tbl>
              <a:tblPr/>
              <a:tblGrid>
                <a:gridCol w="3421080"/>
                <a:gridCol w="34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OID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1.3.6.1.4.1.37660.1.1.1.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IANA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1.3.6.1.4.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UTIC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3766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TNGrid CA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.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CP/CPS documen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CP/CPS Version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P/CP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94920" y="1197000"/>
            <a:ext cx="8280360" cy="489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Policy Administration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1.5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UTIC research unit (ESSTT University) is responsible for the management, registration, maintenance and interpretation of TNGrid CA. It is reachable at: http://www.utic.rnu.t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ll major changes related to policy, technology or security must be approved by TNGRID CA before signing any certificates under the new CP/CP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ll versions will be available at online repository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https://www.tngrid.tn/pki/pub/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KI Info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t CA Policy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http://www.tngrid.tn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ertification Authority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olicy Document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System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50920" y="1041480"/>
            <a:ext cx="864216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Uses 2 dedicated machines:</a:t>
            </a: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One offline signing server (</a:t>
            </a:r>
            <a:r>
              <a:rPr b="1" lang="en-US" sz="1700" spc="-1" strike="noStrike">
                <a:solidFill>
                  <a:srgbClr val="ff0000"/>
                </a:solidFill>
                <a:latin typeface="Rockwell"/>
              </a:rPr>
              <a:t>Offline CA server</a:t>
            </a: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)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Intel Core 2 Duo 2,33GHZ, 3GB RAM ;300 GB HD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perating System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Debian 5.0.5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Softwar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OpenCA v1.1.1, OpenSSL V2.0.31, Apache V2.2.9, MySQL v 5.1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One online web server (</a:t>
            </a:r>
            <a:r>
              <a:rPr b="1" lang="en-US" sz="1700" spc="-1" strike="noStrike">
                <a:solidFill>
                  <a:srgbClr val="ff0000"/>
                </a:solidFill>
                <a:latin typeface="Rockwell"/>
              </a:rPr>
              <a:t>Online CA server</a:t>
            </a: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):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cc"/>
                </a:solidFill>
                <a:latin typeface="Rockwell"/>
              </a:rPr>
              <a:t>https://www.tngrid.tn/pki/pub/ 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For Subscribers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cc"/>
                </a:solidFill>
                <a:latin typeface="Rockwell"/>
              </a:rPr>
              <a:t>https://www.tngrid.tn/pki/ra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:For RA Manager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Intel Core 2 Duo 2,33GHZ, 3GB RAM ; 200 GB HD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perating System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Debian 5.0.5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Softwar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OpenCA v1.1.1, OpenSSL V2.0.31, Apache V2.2.9, MySQL v 5.1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Located at Grid Center Room, ESSTT </a:t>
            </a: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Rockwell"/>
              </a:rPr>
              <a:t>Only CA managers and CA operators can be granted physical access to CA machines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Rockwell"/>
              </a:rPr>
              <a:t>A secure environment where access is controlled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8:57:16Z</dcterms:created>
  <dc:creator>Ghassan SABA</dc:creator>
  <dc:description/>
  <dc:language>en-US</dc:language>
  <cp:lastModifiedBy>Heithem Abbes</cp:lastModifiedBy>
  <dcterms:modified xsi:type="dcterms:W3CDTF">2012-01-17T09:29:40Z</dcterms:modified>
  <cp:revision>602</cp:revision>
  <dc:subject/>
  <dc:title>Presentation of HIAST GRID 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33</vt:lpwstr>
  </property>
</Properties>
</file>