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AF1-184F-465E-99C3-D3BF4790F04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CF8A-807F-44D2-924D-6BB6EE3239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B1CB-5530-4E75-B496-56071A80EC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D848-0056-47A4-A4B2-C0FE325604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671-CE3F-44E4-B702-92355FAAEC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2C2B-758F-435F-9509-1405728D0D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6312-CDF8-4761-A10C-6369896DEC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CFAC-5C97-4129-8B25-07285D2732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14AE-34E8-429B-BBCE-FDCA6DDD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B1013-51D6-4AC3-9B88-92F4F957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630A-B618-46D7-99B7-4FD69388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8BE9D-4D14-4415-8CB8-8F87F1B3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A27E7-3889-488A-9542-C23A03D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C81D2-BDAE-4870-9828-C5988BAB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86138-A740-436E-9E3C-F05911E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8B8C5-5259-47C0-8823-48D1D55B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E854D-AFB7-4649-B8FE-B1891E15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06023-2382-4924-86A2-4E83119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BD2E5-53FE-4BE7-B217-CB6A232B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94693-9991-48FE-B078-5C81CF71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A2F3-98A0-4E1D-94DC-E244629FFD83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54D4-A95E-40AD-AC19-C199070A6D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 #24, Ljubljana, Slove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17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4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484360" y="6237360"/>
            <a:ext cx="5048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since October 20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1052640"/>
          <a:ext cx="7129440" cy="5499000"/>
        </p:xfrm>
        <a:graphic>
          <a:graphicData uri="http://schemas.openxmlformats.org/drawingml/2006/table">
            <a:tbl>
              <a:tblPr/>
              <a:tblGrid>
                <a:gridCol w="2024280"/>
                <a:gridCol w="525240"/>
                <a:gridCol w="1862280"/>
                <a:gridCol w="2717640"/>
              </a:tblGrid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+ SLCS (propos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giCert(2) – US, TACC - US, UFF BrGrid &amp; UFF LACGrid -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SLCS (NCSA x 2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Classic pending (SENAMHI – Peru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OSG, XSEDE(TeraGrid)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accredited since last F2F in October, 2011 Oak Rigde, T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CS UTK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Cert – Classic x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Overhaul under way – several items require updating…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(s)://tagpma.es.net/wiki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14</a:t>
            </a:r>
            <a:r>
              <a:rPr b="1" lang="en-US" sz="16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TAGPMA F2F </a:t>
            </a: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NICS, Oak Ridge, T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Oct 11 – 12, 201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://indico.rnp.br/conferenceOtherViews.py?view=standard&amp;confId=1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NICS UTK – SLCS (MyProxy with 2-factor authentication token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igiCert – Classic x 2, HLCA x 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One new member (NCAR, Steve Beaty) has requested accreditation of 2 CAs (MICS, SLCS) – Jim Basney, me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Membership Review under 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No recent upda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TAGPMA F2F planned for February 9-10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sted by San Diego Supercomputer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da items inclu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GPMA Membership Review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from EUGridPMA and APGrid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SA 2-Factor CA (Jim Basney, NC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LCA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 of Registration Practice Stat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LCG Timetable for move to SHA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Authority Prof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gular Video Conference Calls are now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thl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at 12noon Eastern on th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nd Wednesda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of each mon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after TAGPMA 15 will be March 14,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VO – look for TAGP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we may be dropping the ESNet support in favor of 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all for agenda items goes out 1 week before the next c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e-mail list no later than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dcterms:modified xsi:type="dcterms:W3CDTF">2012-01-17T14:48:14Z</dcterms:modified>
  <cp:revision>135</cp:revision>
  <dc:subject>F2F12 Lubbock TX</dc:subject>
  <dc:title>TAGPMA Update</dc:title>
</cp:coreProperties>
</file>