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6B36D64-3283-4452-8731-AF1523FEF8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40C1C3D-AE6E-4C56-A99C-95E0582BC4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DA60BF52-409C-4B93-B4C5-066DBA6174B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00BF72E5-2E55-41B5-B6B4-0882ADB7AB4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466AAD61-C0DB-48D7-9B25-C560BDF450D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F8B4030-65A8-4D45-A543-1217F9BA2E7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7543AA90-060B-4B0E-B9B8-2AD779C6ED8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0165E3DB-FFEB-464B-8D9F-66FE219FA8E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F94DF9A3-2923-4E06-ADA1-1795507B147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00FD6CAF-475E-4600-A48C-C6C42D1E20F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AC84C7A7-D088-42FF-8127-8D5598AFA1C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0073EE38-682D-446D-BC8F-07D1C42B3BF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C1E864C2-313E-4DA6-92B7-CAD441C2761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5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and 3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r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IGTF All Hand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7-9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Karlsruhe, German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Lucida Sans"/>
              </a:rPr>
              <a:t>KIT </a:t>
            </a: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STEINBUCH CENTRE FOR COMPUTING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Ursula Epting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Hardi and Nuno for the January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2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 via Adob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811080" y="1996920"/>
            <a:ext cx="7728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document sharing will be used to collaborate on documents - especially during editing sessio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6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yon, FR September 10-12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5 (and HPDC and EEF AAI FedWS)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Delft , NL, 18-20 June 2012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Nijmegen, NL, 21-22 June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6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hicago, IL, 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7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Lucida Sans"/>
              </a:rPr>
              <a:t>(to be discussed), January 2012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KI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15840" y="690480"/>
            <a:ext cx="912816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0" y="960480"/>
            <a:ext cx="913608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C:\Users\davidg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0" y="730080"/>
            <a:ext cx="9118440" cy="441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5-06T16:44:20Z</dcterms:modified>
  <cp:revision>595</cp:revision>
  <dc:subject/>
  <dc:title>European Grid Policy Management Authority</dc:title>
</cp:coreProperties>
</file>