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213b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2A06-66CF-4004-99AE-5EBC9EB4E27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97C0-5019-446B-AC96-C9113766AD7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7E9F-0E8E-410A-B9C4-E1A457E6DA5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2D49-26E0-45EC-8CBC-5083D3ED934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AF78-F65E-45D5-85CC-43B1A0B567B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A794-BE9E-464C-AAB2-090A9E4DAE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C22D-113B-467F-911B-71C26320AF3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5BCF-FA47-4817-B73D-C8AFB3F9A8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0E1-06C3-4EC1-B649-C702B293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EFF-6B33-4DE9-B476-E14B2F38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504-5AC8-4A65-8673-FE184001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9EBD-F9C8-4BB9-BAAE-3F0F86A9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73F3-605C-496C-864D-5EEC0748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C218-E206-4A16-8DE0-3EC138E8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7254-F7FC-4EA6-9554-8553AF8D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C062-F7B8-4DC8-B9B7-BC903B95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5F15-90E8-46FE-8D35-E9E9488C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B2B3-9E11-4DFF-B2A0-429D2978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D9E2-278E-451D-8EC2-ADB66FF5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AE4E-1A1B-412E-949C-3B1C3C16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213b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>
            <a:off x="1187280" y="98100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8DA9-9A74-4F92-B079-21CBC07BF72C}" type="slidenum">
              <a:rPr b="1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TAGPMA-med"/>
          <p:cNvPicPr/>
          <p:nvPr/>
        </p:nvPicPr>
        <p:blipFill>
          <a:blip r:embed="rId2"/>
          <a:stretch/>
        </p:blipFill>
        <p:spPr>
          <a:xfrm>
            <a:off x="324000" y="260280"/>
            <a:ext cx="2011320" cy="1371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213b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2DB9-D69D-4951-844E-E0E58C8A4E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dsimmel@psc.edu" TargetMode="External"/><Relationship Id="rId2" Type="http://schemas.openxmlformats.org/officeDocument/2006/relationships/hyperlink" Target="mailto:Scott@DigiCert.com" TargetMode="External"/><Relationship Id="rId3" Type="http://schemas.openxmlformats.org/officeDocument/2006/relationships/hyperlink" Target="mailto:astolk@ula.v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gtf.net/" TargetMode="External"/><Relationship Id="rId2" Type="http://schemas.openxmlformats.org/officeDocument/2006/relationships/hyperlink" Target="http://www.tagpm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2923920"/>
            <a:ext cx="5545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09213b"/>
                </a:solidFill>
                <a:latin typeface="Impact"/>
              </a:rPr>
              <a:t>TAGPMA Update</a:t>
            </a:r>
            <a:br>
              <a:rPr sz="3200"/>
            </a:br>
            <a:r>
              <a:rPr b="0" lang="en-GB" sz="2800" spc="-1" strike="noStrike">
                <a:solidFill>
                  <a:srgbClr val="0000ff"/>
                </a:solidFill>
                <a:latin typeface="Impact"/>
              </a:rPr>
              <a:t>Derek Simmel</a:t>
            </a:r>
            <a:br>
              <a:rPr sz="2800"/>
            </a:br>
            <a:endParaRPr b="0" lang="en-US" sz="28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4941720"/>
            <a:ext cx="7983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25</a:t>
            </a:r>
            <a:r>
              <a:rPr b="0" lang="en-GB" sz="2800" spc="-1" strike="noStrike" baseline="30000">
                <a:solidFill>
                  <a:srgbClr val="008000"/>
                </a:solidFill>
                <a:latin typeface="Impact"/>
              </a:rPr>
              <a:t>th</a:t>
            </a: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 EUGridPMA / IGTF All-Hands Meeting</a:t>
            </a:r>
            <a:br>
              <a:rPr sz="2800"/>
            </a:b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Karlsruhe, German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mpact"/>
              </a:rPr>
              <a:t>May 7-9,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4572000" y="765000"/>
            <a:ext cx="3527280" cy="1287000"/>
            <a:chOff x="4572000" y="765000"/>
            <a:chExt cx="3527280" cy="1287000"/>
          </a:xfrm>
        </p:grpSpPr>
        <p:sp>
          <p:nvSpPr>
            <p:cNvPr id="93" name="WordArt 5"/>
            <p:cNvSpPr txBox="1"/>
            <p:nvPr/>
          </p:nvSpPr>
          <p:spPr>
            <a:xfrm>
              <a:off x="4626000" y="7650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4" name="Text Box 6"/>
            <p:cNvSpPr/>
            <p:nvPr/>
          </p:nvSpPr>
          <p:spPr>
            <a:xfrm>
              <a:off x="4572000" y="14094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eadership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Current Offi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Chair: 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Derek Simmel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(PS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1"/>
              </a:rPr>
              <a:t>dsimmel@psc.ed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Vice Chair: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Scott Rea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(DigiCert + REB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2"/>
              </a:rPr>
              <a:t>Scott@DigiCer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Secretary(s): 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Ale Stolk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(ULAGri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3"/>
              </a:rPr>
              <a:t>astolk@ula.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Membership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77920" y="1011240"/>
          <a:ext cx="7066080" cy="5586480"/>
        </p:xfrm>
        <a:graphic>
          <a:graphicData uri="http://schemas.openxmlformats.org/drawingml/2006/table">
            <a:tbl>
              <a:tblPr/>
              <a:tblGrid>
                <a:gridCol w="1666800"/>
                <a:gridCol w="1656000"/>
                <a:gridCol w="2158920"/>
                <a:gridCol w="158436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ke Hel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ctor Hazlew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D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to Huiman Carras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haniel Mendoz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uben Aqui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S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bie Bucc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e Altuna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RA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rry Perez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an Si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L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27 Members from North, Central and South Americ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Covering Canada, US, Mexico, Venezuela, Chile, Peru Argentina, Brazil, and Colombia. Two Catchall CAs cover the remaining countr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23 IGTF Accredited C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13 Classic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3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a58"/>
                </a:solidFill>
                <a:latin typeface="Verdana"/>
              </a:rPr>
              <a:t>DigiCert(2) – US, TACC - US, UFF BrGrid &amp; UFF LACGrid - Brazil, ANSPGrid – Brazil, UNLPGrid - Argentina, REUNA – Chile, ULAGrid – Venezuela, GridCanada, UNAM – Mexico, UNIANDES - Colombia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3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a58"/>
                </a:solidFill>
                <a:latin typeface="Verdana"/>
              </a:rPr>
              <a:t>NOTE: DOE Grid accredited by EUGridP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7 SLCS (NCSA x 3, FermiLabs, NERSC, PSC, NICS UTK -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3 MICS (NCSA - US, CILogin - US and TACC -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2 CAs in-process, pending accredi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1 Classic pending (SENAMHI – Peru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1 MICS pending (SDSC – US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7 Relying Par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(OSG, XSEDE, THEgrid, LCG, REBCA, NIH, SURA Gri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2 CAs accredited since last F2F in February, 2012 at SCSC, La Jolla, CA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NCSA Two-Factor CA – U.S. – SLC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ANSPGrid CA – Brazil – Class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mmunication Infrastructure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IGTF Website 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1"/>
              </a:rPr>
              <a:t>http://www.igtf.n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TAGPMA Website 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2"/>
              </a:rPr>
              <a:t>http://www.tagpma.org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Hosts static, public information &amp; profi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Overhaul overdue </a:t>
            </a:r>
            <a:r>
              <a:rPr b="0" lang="en-US" sz="1800" spc="-1" strike="noStrike">
                <a:solidFill>
                  <a:srgbClr val="244a58"/>
                </a:solidFill>
                <a:latin typeface="Wingdings"/>
                <a:ea typeface="Wingdings"/>
              </a:rPr>
              <a:t>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 - plan to have it done by August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TAGPMA twiki </a:t>
            </a:r>
            <a:r>
              <a:rPr b="0" lang="en-GB" sz="1800" spc="-1" strike="noStrike">
                <a:solidFill>
                  <a:srgbClr val="244a58"/>
                </a:solidFill>
                <a:latin typeface="Verdana"/>
              </a:rPr>
              <a:t>http(s)://tagpma.es.net/wiki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hosts in-process TAGPMA documents, notes, tutorial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Contains agenda and minutes from monthly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Mailing li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tagpma-genera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Mailing lists have been moved over to Google Apps for Education, also enabling Calendar, Docs &amp; Si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E-mail any issues direct to the Chair (dsimmel@psc.edu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44a58"/>
                </a:solidFill>
                <a:latin typeface="Verdana"/>
              </a:rPr>
              <a:t>TAGPMA Voted to ACCEPT the Updated Classic Profile v4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44a58"/>
                </a:solidFill>
                <a:latin typeface="Verdana"/>
              </a:rPr>
              <a:t>Most Recent Accredit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[USA] NCSA Two-Factor CA – SLCS (MyProxy with 2-factor authentication token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[Brazil] ANSPGrid CA - Classi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2 CAs (SENAMHI &amp; SDSC) are still in process for accredi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NCAR is pursuing development of its planned 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XSEDE is developing a new HLCA (to be hosted by NC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May permit consolidation of some XSEDE member C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XSEDE Service Providers would become RAs for the XSEDE C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Membership Revi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One RP still suspended – no response received to date – if they do not restore their participation by the August meeting, we will remove them from membership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686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Previous F2F Meeting: TAGPMA 15 at SDSC, San Diego, 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February 9-10, 20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Details can be found he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indico.rnp.br/conferenceDisplay.py?confId=13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Planning for TAGPMA 16 at UTP, Ciudad de Panama, Panam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Week of August 27-31, 20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TAGPMA 16 will be co-located with the CLCAR conference at the Technological University of Panama (Universidad Tecnológica de Panamá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CLCAR (Conferencia Latinoamericana de Computación de Alto Rendimento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Latin American Conference on High Performance Comput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Call for papers available: Full papers and Poster abstracts DUE MAY 15,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Papers may be submitted in English, Spanish, or Portugue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See www.clcar.org for detai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16 / CLCAR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pic>
        <p:nvPicPr>
          <p:cNvPr id="108" name="Picture 3" descr="Screen Shot 2012-05-07 at May 7 3.54.16 AM.png"/>
          <p:cNvPicPr/>
          <p:nvPr/>
        </p:nvPicPr>
        <p:blipFill>
          <a:blip r:embed="rId1"/>
          <a:stretch/>
        </p:blipFill>
        <p:spPr>
          <a:xfrm>
            <a:off x="826920" y="1014480"/>
            <a:ext cx="745344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onference Calls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Regular Video Conference Calls are now 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Monthly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, at 12noon Eastern on the 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2nd Wednesday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of each month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Next one will be June 13, 20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Video arrangements: EVO – look for TAGP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Video ESNet 884483 or GDS 0011349884483 or phone 1-510-883-7860 884483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Call for agenda items goes out 1 week before the next c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The agenda is usually posted on tagpma-general e-mail list no later than 1 day before th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Feel free to join to attend meeting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Scott Rea</dc:creator>
  <dc:description/>
  <dc:language>en-US</dc:language>
  <cp:lastModifiedBy>Derek Simmel</cp:lastModifiedBy>
  <cp:lastPrinted>2012-05-07T08:19:40Z</cp:lastPrinted>
  <dcterms:modified xsi:type="dcterms:W3CDTF">2012-05-07T09:14:06Z</dcterms:modified>
  <cp:revision>157</cp:revision>
  <dc:subject>F2F12 Lubbock TX</dc:subject>
  <dc:title>TAGPMA Update</dc:title>
</cp:coreProperties>
</file>