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41C48-4E62-4B26-A01B-9EF217189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0790C-B13A-42B7-8483-0506B4E41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D74EA-A6E1-43C0-9DA1-80BAFC05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7A422-88F3-4A33-85C3-F42538682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7DE8F-A71A-4873-910F-46D72B874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DA63A-5162-4DCC-9C4A-7E33EA7AE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654DD-C9D4-4097-B850-72DF454E5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C5B9-D6EF-451B-922B-7CE71811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A8B2-C9B8-4F66-A247-CA12474A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BA933-1E13-4623-BCBB-60655D01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1F7EF-CE45-4F84-9F5F-B966F5E5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7F13-9798-4DDF-8497-B58FBC9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85EC5-AC00-437B-87C0-361F48C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27D0C-7D21-4B05-A3BE-BEDFCD41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C75A2-62FF-4B81-91BA-386F37A3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EF2BA-5BAB-4870-BD91-1825681C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40A46-5F49-4513-8DD6-13034BA3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F43F1-BCB1-4B6A-8AE2-1D933B3E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73E12-9822-4A0C-B318-ADE450B8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341E5-FCF3-42B8-A856-1FB8540C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21635-3B43-4501-9405-3CAAA263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A433A-8DE8-475D-965B-8518CAE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E5751-707B-4980-BE9D-DDAB7893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1D9DA-FC9B-4DFB-B7B2-AC736A68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7BDEC-0359-4013-B715-1543A785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6A17A-F6E2-4A38-B565-960B304F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6325A-EA9C-4B0D-9A38-5869BD17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1C31B-D1B3-465C-82B6-82884FC5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56061-CCBB-4CC9-9069-85F54236F6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10CDD-39F1-4290-ACF4-D06BB4FC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5A674-AAB5-47BF-92FC-07412598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1DE6A-72AE-4E73-AE46-7C1B1C8D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A5E3A-CC39-4605-97ED-1FDB5E2C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777C6-45BF-4861-B14D-04540C3F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88FC5-8F23-48FC-923F-11447102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C4BD3-DD2D-47E6-98BD-A33E95F6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C6A9A-4FF4-49A5-B496-E1430A89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5327E-D6CE-4392-ADC1-EAE4A28E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7F3F6-5E26-40F0-A74D-83ECBAE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E4080-1F2B-4F46-B982-97C6E5436C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3CDE36-A175-49A3-A1EC-7C2AF0A81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4F867-00E7-4859-90F9-79612695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B57E2C-1233-4920-8957-63F91C39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5E244E-ECF0-41AC-9071-C87EC68A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377F87-ECFB-44A2-9D80-F2A4964B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3B1301-ADC9-4984-BC3C-C1C3CCC7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4DCA23-35ED-4E26-A473-5A87DBCF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7CA889-CD7C-4EA5-84F2-1C812F55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1EAD41-55E4-4990-8537-3513D4ED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90CACA-DF37-4E0A-812F-F32A7123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31200C-8065-4818-93B8-46CF0C13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3C63AD-E1AC-4254-AE50-1BDCDC1F9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EED2B-0532-49B9-9EC4-862CFD704B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F40C9-D6DE-464E-BF4D-2135ECA8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FAA6-6AE0-4EC5-B44D-82B1E2C1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55E67-B7FB-4DB9-AC12-539E531D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103E3-8F99-48BB-A43A-8E7151DA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9A54D-51D7-472D-A7D6-F6F64C64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B303B-5370-4744-8B0F-A642EDB3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28AE-ED6D-41EC-AC1A-DD4418C8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72267-664A-457A-90C1-4ABA5530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8FD2B-2F7C-4F77-B8CA-25F33341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5C708-441D-447E-9D4C-71C6B72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C8BE8-7351-4F68-9741-CFF5584506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4121C9-359C-43A1-98BC-8626C5F370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23975-99FA-4666-8125-4224327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922384-C075-42D4-9A33-052C47AB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973D5D-A8AD-4E76-80B6-5A14F7E7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4AB559-6ED7-4C59-9E5F-DD23D7E8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FEA0C-803B-407D-9E53-638D252A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35CAC6-318A-48A1-A958-CAD1C719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E84BC1-B59C-4870-ADBA-E376AAB4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201B03-87A1-47A1-A235-784695D8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45608-5709-4DFE-A6B7-AB7D22E3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AABDFB-3BF0-4E50-A0CD-51C34F3A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951E2B-E755-43A8-85C1-3CA318D6CB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4AC87-D67C-4419-8003-7C259FA4F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AF19C-6488-49AB-8532-916E97DE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58E76-EE86-4E0B-8418-9961D81E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E2ADB-B855-4948-9DE6-922E1A7E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1600A-B46D-4BB5-93AD-17176284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2F1D4-73B7-4556-A386-E93AA695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566E2-2A97-4F2E-A05D-33F518D2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27D8A-AD9A-462D-8C3D-7139ED7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B00FC-001D-4DB2-95A5-4C0ACA3C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BD507-CF79-4BCF-8380-CEFF9AA8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CBDCD-C9E2-4A2E-AE00-67C2043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95BF0-F6FE-4B61-9E14-431E09996F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0AB92-0794-4C83-93C8-E794554122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ED0B1-5905-4D0E-A66C-3D9CBF0D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CEF6B-AA0D-44EC-AA26-FFCD20A4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D4B52-F381-4FB9-A759-43CF2DA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446D7-A2FC-41DE-A6A4-92834E52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0F91B-E41F-442E-AE3F-A4240681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2AA9D-72A1-4139-AE31-D22F6176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D1E8F-F6F1-40FC-B527-46F1F086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1C866-7D46-46DB-8A34-E4FE4A7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6AA9B-9921-442B-8A1A-797AF8A0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2B018-346A-4B61-BB08-F7B980A7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70A68-55FA-4365-BB69-28E4A63E9B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AA87D6-0289-44E8-ACCA-DB66033C86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628B8E-55BE-4EE0-9626-EC5951F7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BA503B-F650-4346-9BE7-53B29653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C042A6-AAA1-473D-BAFF-60DA3EB6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D078AB-F817-4920-BE24-0CE6B73A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B0BEF8-0890-4267-96FB-FC682DAB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521970-A278-413F-B400-A739E4A4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01EC31-EAA6-423D-BE73-EAB1239C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658445-9D1C-43A7-93C4-B28D2643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97B849-27C4-4199-AD3B-424B9D8C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D4D3DB-CF9D-4750-85A5-17997A2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8121E2-9874-4A76-BF0B-3D47C5793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5D0F9-E2DD-4FF1-A45E-0C0B26A7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A6C6C-363B-4D5B-9DFC-CE113B84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9D397-621D-4164-A8CD-66E30001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FA3A9-20A9-480E-B8A4-09165ECE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43B58-CB1B-4F33-B95D-6E7C19CA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A1A61-54C7-44C1-A7A0-BA504F4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2A4F8-E54A-47BA-9938-8B452DE0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974A2-B777-4FDF-8028-A59A2EE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B3910-7AB7-4EB8-ABAE-F4FF888D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B2AC6-CFB8-4A51-9D4A-75A41EE1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1AC57-B2E8-49D2-BA80-83F3A115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D8906-3398-46DE-8A44-FFBE4B29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8D8AC7-EA4A-4F51-BA56-C3216D76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2B38D0-2BC7-43F6-8EC4-A7F2493E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8F6632-D6DA-430B-B8DF-595B0C02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937B75-2EA0-4CAC-9DE3-6768B5D5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FB8D57-CF19-4E0B-AEBB-08626D0B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7539CF-DE1C-4EE7-A73F-4EF1778B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8BE2C2-1ED1-4DBF-8BAA-0E92EF9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BA514F-40AA-419B-BC7F-B5365940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E04861-453C-464F-A042-1FC86A17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8625E5-81BA-45EC-8ECA-577DA785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D9FC19-6782-4DF7-8073-C3780A47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ABBDCE-2691-4C1B-B4A6-C79FABD7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632-FC34-4037-B711-F64D05C6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93B-1E23-468C-83FE-0521EB46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B7E-573A-4F68-ADD0-C004769D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7B3-CA19-4333-B927-75B63E26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6BE-20DB-4714-97F7-D9B3E653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896-421A-4EF1-B4BB-84403D0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AB4-3FF1-4CED-A597-F478663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098-B701-42D9-8D69-3E02D42B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DBF-F13D-4B81-B234-FE7E1C90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7CE-526B-4F17-B83E-76E88A5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B4C-D499-4989-8706-8DDA9A87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07B-2833-4E66-A8D6-25B721D5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B057-AE5B-449F-99C5-A3C340E4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C44B-3ABC-48F3-8A10-A4868BFB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FA1E-5975-4F4A-9EDD-34D6B56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33BE-F3C6-482D-A48C-8399211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9DF4-CC33-4959-97F0-238812DB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F53B-C740-4AF6-99DD-17B87923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064F-8753-4638-B439-C7BAFE66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6307-B893-4854-9ED7-6A74406D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7CA8-52A8-4A2B-B2DE-4BB6E0FA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CD3E-BE6B-434F-90AE-31DB2DFE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AE0C-D83D-4CC6-B75E-974DB4A5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3D68-5309-4358-AF48-97BDD3DF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93C0-CE06-4D27-8FD4-B1D74964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D397-5F54-49B2-BDB2-C6077F34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D3F6-9548-48B7-8DFE-07EFDF25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CE38-7268-4DF2-863E-FB406DA6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A759-20DF-4817-AB62-DA6FD91F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47DF-5FC6-4EDC-8A3B-752F9C73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816B-11D8-4AD9-92D7-48188B9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79A2-D5FC-4FA0-944A-5501A0D2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EEC1-D9C2-4209-B542-8FA8809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8057-12B1-4E10-AD08-9FFD46F8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5E47-0881-4F49-88AB-AF2BD544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F02B1-1076-4039-8686-88744AA1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2B8A-D60B-4F3C-8DF0-72D2FE8D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A62D-DC0A-4916-9B7B-1CCC3D35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592C-C918-4965-978D-11D0D0E7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5A92-E1DC-4D4F-AD25-4F47300F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0720-C430-423C-85BB-B01F693E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569F-25EE-42C3-A181-3F1A9067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6DE9-4984-4A3F-9A68-203704A4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C465-5BE6-49E2-A30E-BA4EB6D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E3BC-2CEF-408F-AF5D-008B2922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F275-88C0-48FA-9BBD-554DDF25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AFAA-214B-4BB2-A7AB-31A29321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A254-B23F-4867-B9C4-E787EAAD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9671F-C735-4CF2-AE4D-01B77B77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FA30-4B4F-40A5-B7C2-F17F38C3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5A697-EC51-4988-9A8E-8CB87B83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F73F4-F4D4-4BEE-A273-615D0395455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7" descr="Slide-Master-Background---Title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1676520" y="6545160"/>
            <a:ext cx="58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Arial"/>
                <a:ea typeface="新細明體"/>
              </a:rPr>
              <a:t>sales@digicert.com                 www.digicert.com                 +1 (801) 877-21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7" descr=""/>
          <p:cNvPicPr/>
          <p:nvPr/>
        </p:nvPicPr>
        <p:blipFill>
          <a:blip r:embed="rId3"/>
          <a:stretch/>
        </p:blipFill>
        <p:spPr>
          <a:xfrm>
            <a:off x="1509840" y="5902200"/>
            <a:ext cx="6135480" cy="642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4"/>
          <a:stretch/>
        </p:blipFill>
        <p:spPr>
          <a:xfrm>
            <a:off x="1141560" y="6321600"/>
            <a:ext cx="2592360" cy="4474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BD68F-D5CA-433D-B4EB-FECBD5177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57A21-2015-4A09-85D4-59A43FBF9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9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EC7F2-AC25-42C5-AFCE-57BD0E5C8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5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4402B-D039-45EA-914F-14DCB513F2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3CA81-0818-4776-B36B-A933B4C5C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5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6B994-3515-41BF-BD2E-28073F159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61271-6070-4085-8DD5-7F035A5BC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771CE-5B22-4AD1-A60F-EF1B6659B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9E9B1-E511-463A-8BE0-CDF65B700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10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2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861aa"/>
                </a:solidFill>
                <a:latin typeface="Calibri"/>
              </a:rPr>
              <a:t>Federated Identity Management Workshop - Tim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3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85B48-BA7B-4332-B79D-36C83D9650C6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9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Federated Identity Management Workshop -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6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696F8-940D-4135-B732-9B2A83A05C43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7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9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8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Federated Identity Management Workshop -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9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D1E48-D64D-4CB7-A5F5-3363705271C5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298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4 Oc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Kelsey/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613E8-F2ED-49AD-A4D7-5786594204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egi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I-InSPIRE RI-2613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347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3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4 Oc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Kelsey/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5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115D9-871B-4502-BB9C-688D6489F8C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egi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I-InSPIRE RI-2613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A Transferral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&amp; IGTF All Hands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IT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May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User/Host Cert and RA have to move out from a C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2"/>
          <p:cNvSpPr/>
          <p:nvPr/>
        </p:nvSpPr>
        <p:spPr>
          <a:xfrm>
            <a:off x="71280" y="907920"/>
            <a:ext cx="896472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e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tus/Management Change of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is running out it’s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I re-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olicy change of the CA Host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ition of RA established before a national 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inimize the impact to Users and Gri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rmalize the procedures to CA, User/Host and 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some case, RA is more stable than CA, as RA is part of the user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ood strategy to take advantage of multiple service providers (multiple CAs)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us Change of a Production 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228600" y="1066680"/>
          <a:ext cx="8763120" cy="4875480"/>
        </p:xfrm>
        <a:graphic>
          <a:graphicData uri="http://schemas.openxmlformats.org/drawingml/2006/table">
            <a:tbl>
              <a:tblPr/>
              <a:tblGrid>
                <a:gridCol w="1295280"/>
                <a:gridCol w="1543320"/>
                <a:gridCol w="1542960"/>
                <a:gridCol w="1095480"/>
                <a:gridCol w="1095120"/>
                <a:gridCol w="2190960"/>
              </a:tblGrid>
              <a:tr h="762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ut of Service for som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ansition to another Instit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hutdow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Key and facility is secure &amp; CRL is in ser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Key and facility is secure &amp; CRL is NOT in ser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me Root Key and Facility 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New 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It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w issuance is allow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/guide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3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User/Host Cert and RA have to transfer to another C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 possible: all have to re-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/Host C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whole process of new application has to be going again ? Or a new cert could be issued with the current ID by another C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whole process of new application has to be exercised ? Or a new cert will be issued with the current ID by another C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about having an RA serving multiple CA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the formal procedure/guideline is available ? Anything could be abide by for the moment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gistration Practice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RPS can be considered as a subordinate document to the 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RPS should use the RFC 3647 Framework of 9 defined areas that mirrors the structure of a CP and/or CP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easy comparisons of the relative policy and practi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completeness of the material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pplicable areas of RFC 3647 for an RPS can be designated as 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"/>
          <p:cNvSpPr/>
          <p:nvPr/>
        </p:nvSpPr>
        <p:spPr>
          <a:xfrm>
            <a:off x="0" y="0"/>
            <a:ext cx="5410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f RPS is a good solution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0:41:55Z</dcterms:created>
  <dc:creator>David Groep</dc:creator>
  <dc:description/>
  <dc:language>en-US</dc:language>
  <cp:lastModifiedBy>Eric Yen</cp:lastModifiedBy>
  <dcterms:modified xsi:type="dcterms:W3CDTF">2012-05-08T08:43:51Z</dcterms:modified>
  <cp:revision>302</cp:revision>
  <dc:subject/>
  <dc:title>International Grid Trust Federation Session  GGF 18 Washington, DC, USA</dc:title>
</cp:coreProperties>
</file>