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9BA8-B5D3-4548-B8E3-6659D4FD079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EC99-C0BB-46FB-8805-BA842CCDDD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that “a new host cert would need to be propagated to all users” (CA cer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Illinois has no plans to support IPv6 – would have to find an external provider to host if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AGPMA have a procedure to test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help with OpenCA OCSP responder 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512 and 256 now – no support planned for 384/224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run OCSP as needed over last 8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capable but not on IPv6 supported network, CRL available via IPv6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B8CE-0D22-4E21-BCDE-68F08F0B51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337B-240A-404B-B6FD-7B1EBDA7EE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397C-7421-4885-BA38-BB3F163DEF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414B-7C06-47D3-AFCD-DD6ECAD516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859-8E2C-4739-8401-92289284FF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6B1B-69A9-456A-8BE7-2BC853E114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A3C4-7169-4825-B4E5-8B7C6B6896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0A3-3A79-42E6-8CB8-CD29C8FE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90A-53BE-4FD1-ABD0-04FFD574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CB9-BEFF-49F7-93F3-0FCCA894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E41-B8A8-4EB7-99C3-89F0CFEF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748-F7BA-481B-86BB-B13AAD97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5B3-7E17-495C-9823-00604EE2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2B0-BD03-4E78-9A1E-C524DEDD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6BE-972A-4150-94B0-6597B95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DA0-3592-445F-A857-F81505F7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295-9EA5-4AD3-8D94-8B030056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11A-3EC0-4C48-BC58-A8AFFCCF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B31-DD87-4F42-9133-6059AE26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BDDA-9F07-4D94-93F3-2C7A5A1D4D4F}" type="slidenum">
              <a:rPr b="1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TAGPMA-med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213b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55DC-CFAA-4767-96F7-7F3E52053F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hyperlink" Target="mailto:astolk@ula.v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923920"/>
            <a:ext cx="5545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9213b"/>
                </a:solidFill>
                <a:latin typeface="Impact"/>
              </a:rPr>
              <a:t>TAGPMA Update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Derek Simmel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presented by Dave Kelsey</a:t>
            </a:r>
            <a:br>
              <a:rPr sz="2800"/>
            </a:br>
            <a:endParaRPr b="0" lang="en-US" sz="28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56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6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th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 Meeting</a:t>
            </a:r>
            <a:br>
              <a:rPr sz="2800"/>
            </a:b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Lyon, F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September 10-12, 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93" name="WordArt 5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a58"/>
                </a:solidFill>
                <a:latin typeface="Verdana"/>
              </a:rPr>
              <a:t>TAGPMA Authentication Providers were ask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SHA2 (SHA-512/384/256/224): When will your CA be able to generate/sign using a SHA2 (as opposed to SHA-1)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OCSP: When will your CA be able to provide an OCSP (Online Certificate Status Protocol) servic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47840">
              <a:spcBef>
                <a:spcPts val="550"/>
              </a:spcBef>
              <a:buClr>
                <a:srgbClr val="244a5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IPv6: When will your CA's online services (e.g., CRL download server, OCSP service, CA website) be accessible via IPv6 network addressing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44480" y="1197000"/>
          <a:ext cx="7655040" cy="5203800"/>
        </p:xfrm>
        <a:graphic>
          <a:graphicData uri="http://schemas.openxmlformats.org/drawingml/2006/table">
            <a:tbl>
              <a:tblPr/>
              <a:tblGrid>
                <a:gridCol w="1914480"/>
                <a:gridCol w="1913040"/>
                <a:gridCol w="1913040"/>
                <a:gridCol w="191448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CA O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A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Pv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c7c9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ULA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0 Sep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0 Sep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1 Dec 20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P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0 Sep 20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15 Sep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SD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&lt;1 month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F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/Dec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LBN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01 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C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Ci-Log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default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DigiC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in service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UN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testing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plan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v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LAC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1 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 (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Br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31 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no plans (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Grid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planned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Oct 20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7d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DOEGri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in service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244a58"/>
                          </a:solidFill>
                          <a:latin typeface="Verdana"/>
                        </a:rPr>
                        <a:t>ready now(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a58"/>
                </a:solidFill>
                <a:latin typeface="Verdana"/>
              </a:rPr>
              <a:t>Survey no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oncern that “a new host cert would need to be propagated to all users” (CA cert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U Illinois has no plans to support IPv6 – would have to find an external provider to host if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Does TAGPMA have a procedure to test th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ed help with OpenCA OCSP responder set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testing 512 and 256 now – no support planned for 384/224 vari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have run OCSP as needed over last 8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1001"/>
              </a:spcBef>
              <a:buClr>
                <a:srgbClr val="244a58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A capable but not on IPv6 supported network, CRL available via IPv6 n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6360" indent="-45432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HA-2, OCSP, IPv6 Survey</a:t>
            </a:r>
            <a:endParaRPr b="0" lang="en-US" sz="36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a58"/>
                </a:solidFill>
                <a:latin typeface="Verdan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Most TAGPMA CAs are prepared to enable SHA-2 signatures with their infrastructures by December 201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Not all plan to support SHA-384 and SHA-2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Are these necessar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Why not just pick one, e.g., SHA-512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Only one TAGPMA CA provides OCSP service n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others have no demand for it from their R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44a58"/>
                </a:solidFill>
                <a:latin typeface="Verdana"/>
              </a:rPr>
              <a:t>About half of the TAGPMA CAs have no current plans to support IPv6 (yet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Lead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Derek Simmel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PS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dsimmel@psc.e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DigiCert + R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2"/>
              </a:rPr>
              <a:t>Scott@DigiCer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Secretary: 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Ale Stolk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(ULAGr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3"/>
              </a:rPr>
              <a:t>astolk@ula.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87280" y="1125360"/>
          <a:ext cx="7066080" cy="53899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e2751d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aece7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e2751d"/>
                      </a:solidFill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e2751d"/>
                      </a:solidFill>
                    </a:lnR>
                    <a:lnT w="5760">
                      <a:solidFill>
                        <a:srgbClr val="e2751d"/>
                      </a:solidFill>
                    </a:lnT>
                    <a:lnB w="5760">
                      <a:solidFill>
                        <a:srgbClr val="e2751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26 Members from North, Central and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vering Canada, US, Mexico, Venezuela, Chile, Peru, Argentina, Brazil, Colombia and Pan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giSela project has en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23 IGTF Accredited 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13 Classi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DigiCert(2) – US, TACC -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DOE Grid accredited by EUGridP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7 SL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SA x 3, FermiLabs, NERSC, PSC, NICS UTK - 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3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NCSA - US, CILogin - US and TACC - 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TACC CAs to be retired (Date TB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3 CA accreditations in-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1 Classic pending (SENAMHI – Per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2 MICS pending (SDSC, NCAR – 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8 Relying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(FNAL, OSG, XSEDE, THEgrid, LCG, REBCA, CIDETYS/UTP, redCLAR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IH and SURAGrid retired their member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CIDETYS/UTP (Panama) is a new RP member as of September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dCLARA (based in Chile but covering several Latin American Countries) is a new RP member as of September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IGTF Website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Website http://www.tagpma.or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static, public information &amp; pro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Overhaul overdue </a:t>
            </a:r>
            <a:r>
              <a:rPr b="0" lang="en-US" sz="1800" spc="-1" strike="noStrike">
                <a:solidFill>
                  <a:srgbClr val="244a58"/>
                </a:solidFill>
                <a:latin typeface="Wingdings"/>
                <a:ea typeface="Wingdings"/>
              </a:rPr>
              <a:t>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TAGPMA twiki </a:t>
            </a:r>
            <a:r>
              <a:rPr b="0" lang="en-GB" sz="1800" spc="-1" strike="noStrike">
                <a:solidFill>
                  <a:srgbClr val="244a58"/>
                </a:solidFill>
                <a:latin typeface="Verdana"/>
              </a:rPr>
              <a:t>http(s)://tagpma.es.net/wiki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s in-process TAGPMA documents, note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ontains agenda and minutes from month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agpma-general, tagpma-privat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E-mail any issues direct to the Chair (dsimmel@psc.ed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3 CAs (SENAMHI, SDSC and NCAR) are still in process for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IDETYS/UTP Panama made a presentation at TAGPMA 16 and was voted in as a new RP mem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redCLARA made a presentation at TAGPMA 16 and was voted in as a new RP mem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XSEDE is developing a new HLCA (to be hosted by NC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May permit consolidation of some XSEDE member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XSEDE Service Providers would become RAs for the XSEDE C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Membership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NIH and SURAGrid have resigned their membershi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TACC plans to retire its CA(s) and retire its membership so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Verdana"/>
              </a:rPr>
              <a:t>Most Recent F2F Meeting: TAGPMA 16 at Panama City, Pan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August 29-30, 20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Details can be found her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indico.rnp.br/conferenceDisplay.py?confId=14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Hosted with the CLCAR conference August 27-31, 2012 at the Technological University of Panama (Universidad Tecnológica de Panamá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a58"/>
                </a:solidFill>
                <a:latin typeface="Verdana"/>
              </a:rPr>
              <a:t>CLCAR (Conferencia Latinoamericana de Computación de Alto Rendiment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Latin American Conference on High Performance Compu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See www.clcar.org for detai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244a5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Derek, Scott R. and Ale submitted a paper, “</a:t>
            </a:r>
            <a:r>
              <a:rPr b="0" i="1" lang="en-US" sz="1600" spc="-1" strike="noStrike">
                <a:solidFill>
                  <a:srgbClr val="244a58"/>
                </a:solidFill>
                <a:latin typeface="Verdana"/>
              </a:rPr>
              <a:t>An Introduction to The Americas Grid Policy Management Authority (TAGPMA) and the International Grid Trust Federation (IGTF)</a:t>
            </a:r>
            <a:r>
              <a:rPr b="0" lang="en-US" sz="1600" spc="-1" strike="noStrike">
                <a:solidFill>
                  <a:srgbClr val="244a58"/>
                </a:solidFill>
                <a:latin typeface="Verdana"/>
              </a:rPr>
              <a:t>” which was accepted for publication and a presentation: http://www.tagpma.org/files/CLCAR-Paper15-Simmel-Rae-Stolk.pd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9213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Regular Video Conference Calls are now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Monthl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, at 12noon Eastern on the </a:t>
            </a:r>
            <a:r>
              <a:rPr b="1" lang="en-US" sz="2000" spc="-1" strike="noStrike">
                <a:solidFill>
                  <a:srgbClr val="244a58"/>
                </a:solidFill>
                <a:latin typeface="Verdana"/>
              </a:rPr>
              <a:t>2nd Wednesday</a:t>
            </a: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 of each mont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a58"/>
                </a:solidFill>
                <a:latin typeface="Verdana"/>
              </a:rPr>
              <a:t>Next one will be September 12,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Video arrangements: EVO – look for TAGP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Call for agenda items goes out ~1 week before the next 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44a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The agenda is usually posted on tagpma-general e-mail list no later than 1 day before th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244a5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44a58"/>
                </a:solidFill>
                <a:latin typeface="Verdana"/>
              </a:rPr>
              <a:t>We welcome all IGTF members and prospective TAGPMA members to attend our TAGPMA meeting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Derek Simmel</cp:lastModifiedBy>
  <cp:lastPrinted>2012-08-29T08:25:06Z</cp:lastPrinted>
  <dcterms:modified xsi:type="dcterms:W3CDTF">2012-09-09T20:53:25Z</dcterms:modified>
  <cp:revision>179</cp:revision>
  <dc:subject>F2F12 Lubbock TX</dc:subject>
  <dc:title>TAGPMA Update</dc:title>
</cp:coreProperties>
</file>