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3716F3C-8268-4A28-9F88-30C2A39FDF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73253CD-4397-40FA-AC9F-1078AAE3BD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6BB9B553-3CBC-4CE8-B33A-71E33E84DAC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88CD863B-0EEC-4C7D-A6D9-56F6F103B2B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E67DC8D0-56B5-480E-A9DC-1A8DB392707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E8F15B25-B329-4A05-9145-DA44DF511C6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50E10184-63CA-425D-A36C-0F85A954903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002FB2A7-D7DD-4A03-A895-5DE44C95EAB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14679D52-3841-4BB9-A447-C847B67F0CC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3E4B0F42-4AF0-43DF-BF51-A23A2931311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177943D8-2D7B-4AB5-8DCA-883CE78AA7A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9E7322BA-6607-4A8A-91BB-32B32C6F167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arlsruhe – May 2012- </a:t>
              </a:r>
              <a:fld id="{96F14521-2B61-4CA1-939E-D38E5013EB1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6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SHA-2 statement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10-12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yon, FR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HA-2 conclusions from Ly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he recommendation is that CAs will not issue general availability SHA-2 certs before </a:t>
            </a:r>
            <a:r>
              <a:rPr b="1" lang="en-US" sz="1600" spc="-1" strike="noStrike">
                <a:solidFill>
                  <a:srgbClr val="000066"/>
                </a:solidFill>
                <a:latin typeface="Lucida Sans"/>
              </a:rPr>
              <a:t>1 August 2013 </a:t>
            </a: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[RP datum point]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If SHA-1 is broken, revocation and transition will be immediate as inspired by the categorization in the HASHRAT document (seconds to few months)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he scheduled end of life for SHA-1 EECs is 1 September 2014, meaning that SHA-1 EECs SHOULD have a validUntil date no later than that date.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If there are CAs with EECs having a later date, the primary mitigation of the risk in case SHA-1 is broken will be removal of said CA from the IGTF distributio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CAs SHOULD have SHA-2 issuing capability by October 1</a:t>
            </a:r>
            <a:r>
              <a:rPr b="0" lang="en-US" sz="1600" spc="-1" strike="noStrike" baseline="30000">
                <a:solidFill>
                  <a:srgbClr val="000066"/>
                </a:solidFill>
                <a:latin typeface="Lucida Sans"/>
              </a:rPr>
              <a:t>st</a:t>
            </a: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 2012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No need to move any existing CA self-signed root certs to SHA-2 if we rely only on the distributed metadata.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ince intermediate CAs are distributed but the distribution may be superseded by dynamic CA chains (subject to the namespace constraints) … SHOULD be SHA-2 after 31 March 2014, and if SHA-1 it MUST be revoked and re-issued if and when SHA-1 is broken (like for EECs).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Once broken, the new intermediates will be distributed or both the intermediates and root removed from the distributio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New CA certs generated after April 2014 SHOULD be SHA-512 from, noting that existing (self-signed) CA certs MAY be SHA-1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Only SHA-256 and SHA-512, and not 224 nor 384. Each CA MAY pick its own variant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CRLs on the default CDP SHOULD be SHA-1 until at least 1 September 2014. CAs MAY start distributing SHA-2 based CRLs after that date, and MAY have SHA-2 based CRLs available on alternate CDPs after 1 October 2012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If same subject is signed twice (once SHA-1 once SHA-2) must use different cert serial numbers. Same is true of CRLs with same data. Must be different sequence number. 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Breakage of the SHA-1 algorithm in a way that allows trivial generation of plaintexts with a specific hash necessitates removal of SHA-1 algo support. This is a software vulnerability issue outside of our scope and SHOULD be dealt with using regular vulnerability mechanisms of the RPs. It then WILL necessitate SHA-2 based root certs as well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The ‘end-of-life’ SHA-2 migration recommendation does not apply to certificates with a short life time (for SLCS CAs) until at least 1 September 2014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is recommendation does not address attribute authorit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CSP will continue to use SHA-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2-09-10T15:41:24Z</dcterms:modified>
  <cp:revision>603</cp:revision>
  <dc:subject/>
  <dc:title>European Grid Policy Management Authority</dc:title>
</cp:coreProperties>
</file>