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CE4372A-C8F7-411B-96CB-2E0256462E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5E6EB9B-663B-4976-AABE-9152ADDA04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22FC491D-5C19-462C-ADFF-D39858E64BC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36009E76-6BA5-4D6B-A046-869DAF67F12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E80E64C6-6B44-4D1A-AFD3-ECEB7EB4ECF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447B2805-590D-4E13-8315-81889C602A4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DA29439F-BCEA-45C7-A808-53C4DB6B9E2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935F285A-7319-4D14-8BC2-C6C988C56C6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2C48D126-BE2A-4CAD-B653-4CD08DBAADE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5C8CC259-18B6-4FEE-887E-CF6AA660A97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AE310DBB-04B5-4E1D-95A5-59621E6B31D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D0788BBB-70C0-453F-A31F-68AEA977E1B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7B787CDB-560E-41E0-BFBF-D09EAC06838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6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 SHA-2 statement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Sept 10-12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yon, FR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HA-2 conclusions from Lyo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The recommendation is that CAs will not issue general availability SHA-2 certs before </a:t>
            </a:r>
            <a:r>
              <a:rPr b="1" lang="en-US" sz="1600" spc="-1" strike="noStrike">
                <a:solidFill>
                  <a:srgbClr val="000066"/>
                </a:solidFill>
                <a:latin typeface="Lucida Sans"/>
              </a:rPr>
              <a:t>1 August 2013 </a:t>
            </a: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[RP datum point]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If SHA-1 is broken, revocation and transition will be immediate as inspired by the categorization in the HASHRAT document (seconds to few months)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The scheduled end of life for SHA-1 EECs is 1 September 2014, meaning that SHA-1 EECs SHOULD have a validUntil date no later than that date.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If there are CAs with EECs having a later date, the primary mitigation of the risk in case SHA-1 is broken will be removal of said CA from the IGTF distribution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CAs SHOULD have SHA-2 issuing capability by October 1</a:t>
            </a:r>
            <a:r>
              <a:rPr b="0" lang="en-US" sz="1600" spc="-1" strike="noStrike" baseline="30000">
                <a:solidFill>
                  <a:srgbClr val="000066"/>
                </a:solidFill>
                <a:latin typeface="Lucida Sans"/>
              </a:rPr>
              <a:t>st</a:t>
            </a: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 2012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No need to move any existing CA self-signed root certs to SHA-2 if we rely only on the distributed metadata.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ince intermediate CAs are distributed but the distribution may be superseded by dynamic CA chains (subject to the namespace constraints) … SHOULD be SHA-2 after 31 March 2014, and if SHA-1 it MUST be revoked and re-issued if and when SHA-1 is broken (like for EECs). 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Once broken, the new intermediates will be distributed or both the intermediates and root removed from the distribution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New CA certs generated after April 2014 SHOULD be SHA-512 from, noting that existing (self-signed) CA certs MAY be SHA-1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Only SHA-256 and SHA-512, and not 224 nor 384. Each CA MAY pick its own variant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CRLs on the default CDP SHOULD be SHA-1 until at least 1 September 2014. CAs MAY start distributing SHA-2 based CRLs after that date, and MAY have SHA-2 based CRLs available on alternate CDPs after 1 October 2012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If same subject is signed twice (once SHA-1 once SHA-2) must use different cert serial numbers. Same is true of CRLs with same data. Must be different sequence number. 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Breakage of the SHA-1 algorithm in a way that allows trivial generation of plaintexts with a specific hash necessitates removal of SHA-1 algo support. This is a software vulnerability issue outside of our scope and SHOULD be dealt with using regular vulnerability mechanisms of the RPs. It then WILL necessitate SHA-2 based root certs as well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The ‘end-of-life’ SHA-2 migration recommendation does not apply to certificates with a short life time (for SLCS CAs) until at least 1 September 2014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is recommendation does not address attribute authoriti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CSP will continue to use SHA-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2-09-10T15:41:24Z</dcterms:modified>
  <cp:revision>603</cp:revision>
  <dc:subject/>
  <dc:title>European Grid Policy Management Authority</dc:title>
</cp:coreProperties>
</file>