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982D-9ABB-4173-AFB7-1500E7447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A6F4-B5C5-479A-B763-A277F41B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C459-8480-4DF9-8EF0-CAB33BD4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9B21-C85C-40FE-B922-FDA807269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D87D-92F9-43D4-A965-845F9B1C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B6CE-96DA-4CC0-A209-A6C8FD46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F370-F09E-44F8-9C8A-74DAE2EE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E0D9-6D2C-433D-9777-DD5DA040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76E2-C9A9-41DB-A265-A55D0E44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2766-A155-4C39-930F-16D26483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035C-39E0-4D2B-AC2F-441748B4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EE4C-B969-4D7F-A803-CE7D4D69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EDE5-3D20-491C-9D1D-0DB40A2FF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KGrid CA Self-Audit 20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838080" y="3711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eel-ur-Rehm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soor Sheik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0CAF-7660-4970-8AFA-EAC36DB81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”: 3/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es the RA maintain the archive of these records in an auditable form?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(RA item 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n RA does not maintain such records in auditable for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e archival for requests and confirmations is currently done by the CA, as we have a small user communit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073B-12D2-4AF0-8972-7D93629A2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X”: 1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s the CA system completely off-line or one-line which uses FIPS 140-2 level 3 capable HSM operated in FIPS 140-2 level 3 mode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CA item 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 machine is completely off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erefore, We do not have HS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EE89-CF1A-4306-B5F6-33E593196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X”: 2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es the on-line CA provide a log of issued certificates and a signed revocation list? Is the log tamper-protected?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CA item 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 server is not an online machi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051A-0839-4081-981A-952EA5624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X”: 3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re new EE certificates signed by a new cryptographic data?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(CA item 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es, new certificates are signed by new cryptographic dat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s the old but still valid certificate available if there are still valid certificates signed by the old private k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CA item 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, as the transition period is not due yet!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so, old certificates and old key is not valid any mor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DA61-10D5-4441-9DAC-6084E9FEB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X”: 4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w is the re-new process described?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(CA item 4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e do not have a renewal policy for certificates as PK-GRID CA does not renew certificates rather it only rekey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219320" y="2666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/Suggestions are wel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4C73-2099-4BC3-90FD-ADF02FF0F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3321-181C-49E8-A411-F617C9C90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rief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K-Grid CA was ﬁrst presented and accredited during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EuGridPMA meeting (held in September 2004) at Bruss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or updates until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rastructure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chine specs, kernel version, openss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 secure prem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gressively restrictive access privileges among multiple physical t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CA95-5620-4BE9-9EFA-67814D11E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udit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dit guidelines used: GFD.125 (dated: March 31, 20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policy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: 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: 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: 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: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7857-E1A1-4EBD-B632-B7A323977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”: 1/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s a CRL issued at least 7 days before expiration (for off-line) or 3 days before expiration (for on-line)?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(CA item 2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e missed it a couple of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D3C1-1FB1-4440-9C62-9AC49BFAC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”: 2/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e repository must be run at least on a best-effort basis, with an intended availability of 24x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(CA item 4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e had few un-announced downti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1754-3509-418F-9760-2ECBF6703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”: 3/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ver the entire lifetime of the CA it must not be linked to any other entit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w does the CA guarantee this requirement?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RA item 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is guarantee is not explicitly mentioned in the CP/CP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EC1E-EBDC-4D10-84FE-857310741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”: 1/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very CA should perform operational audits of the CA/RA staff at least once per year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CA item 4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is has not been practiced regularl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480C-3BB5-4070-A909-93CFEC2A3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”: 1/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es the CA or RA have documented evidence on retaining the same identity over time?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(RA item 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e need to have a documented evide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on retaining the same identity over tim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8574-BA5E-4FE5-805E-41F49BD39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”: 2/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es the RA record and archive all requests and confirmations?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(RA item 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e archival for requests and confirmations is currently done by the CA, as we have a small user communit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06:26:38Z</dcterms:created>
  <dc:creator>NCP</dc:creator>
  <dc:description/>
  <dc:language>en-US</dc:language>
  <cp:lastModifiedBy>Mansoor-ul-Islam</cp:lastModifiedBy>
  <dcterms:modified xsi:type="dcterms:W3CDTF">2012-09-11T07:54:52Z</dcterms:modified>
  <cp:revision>73</cp:revision>
  <dc:subject/>
  <dc:title>PKGrid CA self Audit</dc:title>
</cp:coreProperties>
</file>