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DC82D-1034-49C2-AFE2-976F6609F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2B96B-6FC5-49A9-99E3-8D7654099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B79A61-7E43-4471-A80E-952AEE4659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414916-215C-4FAC-ABD9-2930156471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C75952-E333-454C-88D5-CAC46A3C29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C2F582-9597-4D7E-86EE-5F840DE2D7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A4E1E4-B584-462E-9D2E-732D4E00B7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5E1D14-2C7B-4CDB-94F8-2DD4D0A93C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653959-6A09-4957-94CD-3599D64DC3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A4A0BA-19A8-41E1-8E9B-8B72A32549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76ECEB-EE6C-45C8-B24D-027A74D57D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23E545-CC90-4BB5-8EAD-98CBE49DFC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2259F-D61C-43DF-AFAF-9BF6E8CF3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AABC72-B118-4FA2-B573-D7D005FBBC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22C97C-D5CB-458A-899B-3D880300D8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1E7E93-7DD5-4675-B191-362B9FFCDE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9C177F-655E-460D-B682-7A4AFB7917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3A3B92-5067-4026-BF41-5436EB0640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A955AB-03B0-4FF3-90B9-8DFA4CB120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7016E-56C8-4D4E-B454-4C982CCF5B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B4654-B658-479E-B84C-CD0ADB8AF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184E3E-9D03-43FF-BB46-220FF098B2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BE4ACD-135F-4F0A-957D-55684981C7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BF501-706E-47A9-B6EF-36D9BF216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3B0F33-DB70-4AE7-A4C3-B554F2BDF1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5B7EAC-4EDC-49F0-91AC-21D7D95A67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A62C7C-1AFD-4688-AE9F-9CA1C6C17A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2C08D0-A87F-4C62-9A69-4C108400B4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1E095F-2C15-40F6-B9B5-9D3A1E2F26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4C37B7-4636-4630-98DA-BFD37C2DA1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2EE595-D542-4248-BAE6-3EFD5F90DD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1B039B-B799-49B6-8657-90B7F4D9A8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1F4ED4-4CC4-4A58-9A93-5B9BE9B5BE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62DA03-D13D-45E8-84F3-D67C442E64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36B279-06B9-405E-B3AE-43CD348FBB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C6BC7D-23A0-4537-8B83-6D9A6E3DFA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D4868D-5D72-4393-A377-41A093CDB7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3118585-207A-4613-B5AE-C0FDEEC5EB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FE5C2B-1A40-4EBC-BFBB-109C2E1D5A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B021E1-F00D-4ADA-BA81-64FBDC9DCB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4BB7F5-AAD8-420C-A1AA-9B83AB9BD4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CBC221-3AA0-4F5C-A8DF-7506D6E705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B32A32-B6C8-43EB-8DC9-A75E2CC3EE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A50F63-EADB-48D1-82FE-F01F6590D8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2B14CB-2354-4917-9DD3-E9E3567C50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B3E1A5-8DE7-44A5-B1A6-8242B9FA55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166A84-1A55-4B2B-80F4-DB1C8A28F3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DB2F2C-5763-488C-8396-97AC14D662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4E7EC2-BC7C-4C9D-BCD0-A69BDEC613E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7C4BDD-6381-4419-A2D6-90227E71657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A5B266-FE86-41A2-98CF-2DAFC342C5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A75FBE-CC50-4C07-80AC-A39F9605C0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72090F-2CC3-437B-96A3-29357F0D1F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7CA0E9-EF18-40BE-93CE-8483185688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4AE5DD-FF88-4C68-A89F-F0FB85C869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22FB36-B6A6-457F-B834-651ED45208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B495DC-3E0D-4035-B38A-008473EB83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38FAA9-31D1-46DF-A463-6831CE7D6C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73C4BA-F3E7-4B9E-BB69-B4D14F45E5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E11B008-343F-477D-B1B2-D865F57CE1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0912ACE-E3AC-49A9-A8D0-CBD823A560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5E3A63-D7D8-4C07-9A3F-524D5FDDE3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EBC410-11D2-43A6-9F5E-1CE414D91E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23A2A9-E8BD-4197-BBD2-4D2EE29177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887997-4FB6-46E5-8C9D-3EAC4DC273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9FC693-968D-43E0-9B94-9218AD482E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56549A-B9AB-4B5E-95DB-DCFF3D6808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BED9EC-E358-4D4D-B7DF-D71A5289B9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F725AE-6A78-4D04-B1C9-228F910104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E8A902-5440-4D5C-839E-F6B85C616D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4F46F3-A4EB-4A46-B24D-28EE8E4C35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F42F15-12BB-48A8-B55E-6C70F67036A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00725E-A95E-414E-A1E4-1D496C91E30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DFAF7AA-17A5-45B4-ACB3-DA8A715238C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F5B114-D015-4A32-8B03-73AE10642F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299346-AA69-4AE9-A342-ABF1F28981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6E20A5-82E0-45A2-9DDF-CA2096AFB6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D63A1A-4149-48E2-843E-C2A26FFAD1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BC29AA-5023-43E7-8D68-F761CF4E8D7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6F9299-6C10-4117-9289-181F043038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C18787-EBF5-44E2-9D7C-EAECA5ECB2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55CB7F-A042-4F7B-91BA-1F17B4ACB7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04B97B-94C3-4B8E-B3A6-30E64ABAE5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7D7F64B-7A13-4AC3-B33D-8FF304CB95C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833D697-31F0-405B-9F90-E5AD7A234E6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FB68EF6-47BA-4256-A982-FC329954AEB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199D668-632D-4FC7-A7E6-40969E571F0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5B3FF2-4083-4302-85D4-D66B6877E1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A2CCB7-2D17-4783-8955-287E143B31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81BCA0F-5205-4F27-BF8E-0B2FE29B234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925C4EA-0E82-4EF1-A4B4-A20AF3C370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E6CAA1-C834-4F3F-A88D-F88275D134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7D079A-6D54-4D35-ACFE-19598869B4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38E683-10CE-46C0-A4A7-E50796DA64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1910B1-005E-4C0C-92E7-B19A27DD76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4C87766-7B78-4C0A-8BD8-C1F73E82C18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A9BCEDB-0729-4DCC-BD3C-1B388FE37BF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081E908-7115-4DFD-B84A-ED8006A892C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E99A9A2-B05D-45DF-A0D1-A38A83F439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640E04B-FB8F-4617-B817-EB88FFDC384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2921E3A-9563-42FA-B46D-8D49F385BE6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7491088-519C-4E03-B3C8-596362BB020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E8A2EC-8E6F-4389-BD09-D9932F1FF55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09299EC-472E-42FD-A9A3-8F2ACA995F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EDB02-AFF8-419C-9234-98D224AAB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152072-305B-4ADF-B359-450CB46358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6F847D-26D5-4BF4-8DE9-697D684CC3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23C16E0-9F70-4F13-86EF-D5E50F39B72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BF19B09-90EB-4062-83E6-FE85A2D5AC6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E60566A-736E-432C-88AA-5B254E4A2CA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76F23D0-448A-401B-90E2-060D16A5FE6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491928E-8DAD-416F-8A85-8A30A8B6D5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7137BDB-FB2A-436D-813E-2E73DC62593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2485B7F-9FD7-45C0-9D22-92C135FA64D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9A1F0FD-DF62-4F07-B2F7-B49223E060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5B03A74-39B1-4599-9381-67628045820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4655415-0E5F-45AE-B7EE-3DBB03E8D5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38A2A7-4379-4D1B-95B2-0A5E65CB96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B210F5-27C0-4180-97DD-390552BF6C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07DC811-DEAE-4730-84A9-8A53B17BDD6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9A4A223-EF5F-4C88-B0AC-C3953B3B27A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6F8F7B5-42F2-443C-9C83-80B6CD32C09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6516EF1-357E-43F5-8D54-F841DB68591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0A21211-1F51-4207-9BC6-FC43CD9BDE7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C90451F-90A8-4B91-A8B0-3BC8CE2BEAB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218958B-1C32-4138-824C-F9D8F3D1694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0D3D141-18F3-4BD6-845C-4992406BA19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6075FCA-5C95-46BB-8F21-6042F031A40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EC1CB3B-6212-4711-9651-F19270E540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67716E3-6224-49AD-ABA9-088ABC48141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E969F9C-B4EC-4FF4-957B-8588C84C500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5C99F4A-BD06-433F-9AA3-9E40FE7B466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45ADEE9-0A3C-4739-964C-5A5B9A9306C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6E5CEA6-1517-423E-80C7-00DDD316571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4C0B4BA-740C-47D1-918D-01BFC5C9029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1B29665-DAFE-4798-9C98-2ED66DD12A1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4DF6170-961A-4E68-9BF2-5A6805166FC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D9A23D9-9E21-4E59-97AF-AE4500EF73C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4167B95-BE4B-437B-9812-43F709495A8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F3F2CC1-C1C6-4B3D-BEE7-AE27DD21921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D1D544A-CD04-4689-A3CF-608C34F42F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5AE5E61-9909-4EF3-9F69-72B249C98E7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4EF583-537C-41F6-802F-3B2C1F8DDCC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A3837F8-B4D5-4494-819B-A5D76A9EB21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00C6B8C-7C48-4E9A-A8F5-0D49C619964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EB8C65E-C457-4415-9AB3-A113DF597BC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DE785E3-E795-477C-8C0C-2E0DACE63CC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2AAAF79-5217-4776-A601-FB759AD69CC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5AA5852-8F30-4FA5-8BD6-EA940B6B1DD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3C2ED78-1424-4D02-B09C-6E08BBE87B8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3BB1817-2980-40D1-AC73-05324C9A651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397FE0F-6632-4145-BD47-E97009FA3FE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3536AE8-FE82-49F5-829B-FE19ACB0F98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92FF70F-80D1-4D54-A356-DAA844BE03C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7A0B646-5D2A-4ACF-B778-C02DAA61438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1A930A7-AB1D-48A0-A27D-834490F8791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2D55555-6D6B-40A7-B2C2-43F0E29B29E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9D88F5C-AB36-41FB-8946-6894E5E0ED7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AF4EACE-1974-4389-868E-288657DB4B5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0CE0059-0291-4E1A-8DE3-385820299B5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629E900-9F02-4E2A-A092-8D63C46B3EC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4110CBE-C5E7-4E29-BB82-E551577A502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709F835-C6FA-4AD4-B005-A3F35123053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0186559-7654-47CA-9021-A9B38765B71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78BBF4E-5067-4A2C-8A52-929B558C7A1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3C5FEB3-8832-4B8D-B5A0-BB8124A4458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299D084-0664-4F24-99AF-85D17395C93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0E93246-68C5-46B2-8B7C-257E7DFF0A7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7043DF6-2830-4D1F-B953-B9BBCA9176C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D2C6854-10DB-4E47-8031-F59F4F7C15F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66CDB8B-7F61-4B37-A556-DFE0D0E4E8B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3311025-24E1-4746-8D53-F19EF1E7AAD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F0ACFD0-ABC4-4E5E-8C56-EA95EA41C3B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74BAD9D-4862-4F7B-A9AD-562DEF41ADE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216AEBB-92D4-4DC7-8C17-78B8B77D635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1E5B32D-EFF0-422C-B724-38DB4CD8460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D2D3BD1-E480-4300-9F5F-6CF4BB07DD0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469D55D-561F-450B-BE12-AB07AA0C673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31D9B54-9AF7-48F5-9D0E-4F0C1D181C3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BF2E094-2917-4112-AA31-A63B3D94EDC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E621914-1622-485A-BEDE-E3DFD319B8E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13CE71D-E425-43C8-A581-FF5E503A4D4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9B3D55C-28FD-4F6E-8D98-80F02905E28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5674B9A-CD04-48A1-8383-971797C5FC7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653F8DC-5FC2-4DC8-AEF2-19C0EAAB96A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08659A0-83F6-4C5A-AB8D-9BFA811E37E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1EADF8C-8876-4B65-B628-277D3BB19F0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5A62A3A-70AA-4992-8C53-38691E9D139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58671DA-29D9-4D85-9B26-46001DBA246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AE9615C-43D6-489A-9E7D-0372F9C3B64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E57B6DC-3FB9-40E4-92C2-46046A60FC8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406011F-B689-42F7-80F5-C43770F7201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FEABC3F-7D60-4CC5-8C16-E3742F8233F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8CB664F-E42F-441C-808B-87D22649A34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0D8FD27-BC92-4AA4-A584-9F642D419A0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3F12F33-F394-431E-97AF-5108AD6E650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C56DA51-5BBC-49F8-A669-AB8C3BB659C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D4142FA-02AE-4894-9D46-D27C5EF66F5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A5045E5-73E1-40F9-A28F-3F7BA1E49A6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FB1A123-7682-438A-AAEA-FE9F5601651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3C65A4D-E59B-4D5F-B73A-CE9043D2A59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42D1766-0A41-461D-A66F-0D5DA777AE2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0879CA1-C354-4712-BC7D-7061175CC0D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17DDD14-7B52-4396-901D-B7D3299CAE5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01F8930-1BAF-4985-AE79-82BE2F63B75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ABFFF-A0E7-4C20-8913-687900B5B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2CF5FEA-1E98-4470-8A2D-5271695EC37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C33A6-10D4-4563-87D8-B7038E1A6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3A6C1-F178-449D-9CF9-5ABBFAB33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8C098-ACD5-45B6-B8FB-ACA468BC7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535FD-9424-4795-AE37-4FFC8E574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95F19-19FA-4345-AB52-2E3A95003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11C52-869C-483F-BD9C-8EC11A983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E5E96-E16E-4DBC-B0B3-423D87D5E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260A5-8E13-4370-BDDB-78FD829FA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758F8-960F-4D18-8BCD-E0F9FC486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C6A06-7C39-412E-9E4F-10EC7F663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6857D-768E-4611-8464-E6BC11AA7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699EB-F8E9-4A81-AC48-C8AB0794E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0C5DE-FE65-47C8-A215-E292EA69F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AC429B-6567-4857-ABD0-9A6654BC7B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850F4-46A7-4E72-9F39-08E51C671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BBC64-133A-4693-83DF-5B6381840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5393A9-9346-403F-9A37-E5B0E30D7A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4FD992-CF5D-4278-AF5A-8CDA3AEB3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EB38CD-2202-4101-ABD0-3280D95489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FC7914-84D1-42FF-933C-F176B162DB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A28870-ACE2-4B74-AEF8-C76727B59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2F86B-7961-4A2E-A93F-982DA683C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41DCF-939F-4FEB-AC4E-0ABF39B9B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11A7C4-6D92-4360-9233-F7F94282E2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EC67FF-4296-45AF-96F2-F4DA2C4082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9891C-8C4B-4B43-BA26-D4B584E86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F5BEC2-1DFF-43CD-A595-45402B6F1E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0B41EF-74D0-403A-AC2A-27B5455D09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3F6437-BC5F-429A-ABB8-CF8F42C4E6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EFE43F-2CDD-428F-A7BB-623CD04ACB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1FECA2-1C03-4BB4-8E54-E0487A2AA7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271E57-51F0-4D42-A398-DDC5401273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D2B112-40CB-4885-BE1C-23AED98FFF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62542-A076-401F-85FE-71F9D548FD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72EEC2-15FA-4185-91C7-F95EAD27A8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52A34-DF2B-4698-B461-DB78717FD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164DA-259E-418F-845B-62E9A6908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F7709D-485C-44CE-ABF4-24F058B14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2B0C58-7120-455B-85E0-C4365B0212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A20E9A-1495-42B1-9058-B7CDFBF752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D085FC-B73E-41B4-929F-24880F15F2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99609-C468-4A27-AE57-9602E1DF04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D4248B-5461-4DB9-A2C9-4871B54F1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F50262-6D86-4D87-84D3-B402BB7C43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3908B6-114F-4185-8E2C-4498A2CDA9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C8DF51-E1AD-426F-BA35-33FB8AA83B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5299FB-5158-462C-9C82-86BDAB14C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C3025-5CDC-44A8-841E-BB33E2891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296706-7D88-43BA-8668-7EA2B5921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9AEEAD-8E95-4642-AC93-77BA45500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5350B3-BC08-4C22-BE7E-3EF1B5490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6AE63D-7231-464B-B463-7EEDE90BB8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E3A9B5-A56D-44E0-A812-49A6383220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F70171-5047-4FE0-B68A-0DD4827B45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621EAB-8D99-4A60-A9FD-E3661CBD7C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4C2A20-2844-4FE4-BF66-0C3D14BCAE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912EF7-1C9A-43D1-ABB1-22702E4779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B18B3B-A655-408A-BB97-BA565A4E5E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5ED8A-FB93-430D-85A7-E23407FCC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BCB344-2E16-4DBA-B77B-F959EF1AB9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55465-53AA-48BC-93A7-0573F53206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42F894-AA28-4A58-AE54-80C8CD6BDE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4AFDF-8027-49C5-91D2-380A8012D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847C04-6EAC-44B4-B99F-3825485713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E841F7-FE7F-46A5-852D-DF66A5E96C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E48047-FA5D-4645-BD20-758C138698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E510DD-E16C-4878-BD43-47D8AC70CF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744E86-0547-4577-ADDC-56CC22ADE1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EE1FE3-CF09-4B3B-BC1A-9006BE0DBCD1}"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C808-C0A7-4448-A2DB-C88E81BF7147}"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6" name="Round Diagonal Corner Rectangle 10"/>
          <p:cNvSpPr/>
          <p:nvPr/>
        </p:nvSpPr>
        <p:spPr>
          <a:xfrm>
            <a:off x="179280" y="44280"/>
            <a:ext cx="8785440" cy="576360"/>
          </a:xfrm>
          <a:custGeom>
            <a:avLst/>
            <a:gdLst>
              <a:gd name="textAreaLeft" fmla="*/ 28080 w 8785440"/>
              <a:gd name="textAreaRight" fmla="*/ 8757360 w 8785440"/>
              <a:gd name="textAreaTop" fmla="*/ 28080 h 576360"/>
              <a:gd name="textAreaBottom" fmla="*/ 548280 h 576360"/>
            </a:gdLst>
            <a:ahLst/>
            <a:rect l="textAreaLeft" t="textAreaTop" r="textAreaRight" b="textAreaBottom"/>
            <a:pathLst>
              <a:path w="8785225" h="576263">
                <a:moveTo>
                  <a:pt x="96046" y="0"/>
                </a:moveTo>
                <a:lnTo>
                  <a:pt x="8785225" y="0"/>
                </a:lnTo>
                <a:lnTo>
                  <a:pt x="8785225" y="480217"/>
                </a:lnTo>
                <a:lnTo>
                  <a:pt x="8785225" y="480217"/>
                </a:lnTo>
                <a:arcTo wR="96046" hR="96046" stAng="0" swAng="5400000"/>
                <a:lnTo>
                  <a:pt x="0" y="576263"/>
                </a:lnTo>
                <a:lnTo>
                  <a:pt x="0" y="96046"/>
                </a:lnTo>
                <a:lnTo>
                  <a:pt x="0" y="96046"/>
                </a:lnTo>
                <a:arcTo wR="96046" hR="96046"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370"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1"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900A-3287-4D6E-8025-AB729F936B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411"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2"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6887-46D4-45FE-AF4B-FDA6C28294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45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5D20-A089-4FC3-8536-4B098CE3587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493"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94"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4F57-B0FB-4294-8107-9D0818D39A9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534" name="PlaceHolder 1"/>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35" name="PlaceHolder 2"/>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3"/>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63CA-6C43-47BD-B9E9-5CE9597DE6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4" name="Picture 4" descr="ArmeSFo_Logo"/>
          <p:cNvPicPr/>
          <p:nvPr/>
        </p:nvPicPr>
        <p:blipFill>
          <a:blip r:embed="rId2"/>
          <a:stretch/>
        </p:blipFill>
        <p:spPr>
          <a:xfrm>
            <a:off x="3828960" y="73080"/>
            <a:ext cx="1390680" cy="476280"/>
          </a:xfrm>
          <a:prstGeom prst="rect">
            <a:avLst/>
          </a:prstGeom>
          <a:ln w="0">
            <a:noFill/>
          </a:ln>
        </p:spPr>
      </p:pic>
      <p:sp>
        <p:nvSpPr>
          <p:cNvPr id="575"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576" name="PlaceHolder 1"/>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7" name="PlaceHolder 2"/>
          <p:cNvSpPr>
            <a:spLocks noGrp="1"/>
          </p:cNvSpPr>
          <p:nvPr>
            <p:ph type="ftr" idx="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3"/>
          <p:cNvSpPr>
            <a:spLocks noGrp="1"/>
          </p:cNvSpPr>
          <p:nvPr>
            <p:ph type="sldNum" idx="3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E1B7-89BA-43B8-A1BF-E34A8457BA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6" name="Picture 4" descr="ArmeSFo_Logo"/>
          <p:cNvPicPr/>
          <p:nvPr/>
        </p:nvPicPr>
        <p:blipFill>
          <a:blip r:embed="rId2"/>
          <a:stretch/>
        </p:blipFill>
        <p:spPr>
          <a:xfrm>
            <a:off x="3828960" y="73080"/>
            <a:ext cx="1390680" cy="476280"/>
          </a:xfrm>
          <a:prstGeom prst="rect">
            <a:avLst/>
          </a:prstGeom>
          <a:ln w="0">
            <a:noFill/>
          </a:ln>
        </p:spPr>
      </p:pic>
      <p:sp>
        <p:nvSpPr>
          <p:cNvPr id="617"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618" name="PlaceHolder 1"/>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19" name="PlaceHolder 2"/>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3"/>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F5E7-59EC-4B26-87C3-A09FF6B472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8" name="Picture 4" descr="ArmeSFo_Logo"/>
          <p:cNvPicPr/>
          <p:nvPr/>
        </p:nvPicPr>
        <p:blipFill>
          <a:blip r:embed="rId2"/>
          <a:stretch/>
        </p:blipFill>
        <p:spPr>
          <a:xfrm>
            <a:off x="3828960" y="73080"/>
            <a:ext cx="1390680" cy="476280"/>
          </a:xfrm>
          <a:prstGeom prst="rect">
            <a:avLst/>
          </a:prstGeom>
          <a:ln w="0">
            <a:noFill/>
          </a:ln>
        </p:spPr>
      </p:pic>
      <p:sp>
        <p:nvSpPr>
          <p:cNvPr id="659"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660" name="PlaceHolder 1"/>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61" name="PlaceHolder 2"/>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3"/>
          <p:cNvSpPr>
            <a:spLocks noGrp="1"/>
          </p:cNvSpPr>
          <p:nvPr>
            <p:ph type="sldNum" idx="4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D0C9-8737-4886-8389-9B655ADE60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6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2" name="Picture 4" descr="ArmeSFo_Logo"/>
          <p:cNvPicPr/>
          <p:nvPr/>
        </p:nvPicPr>
        <p:blipFill>
          <a:blip r:embed="rId2"/>
          <a:stretch/>
        </p:blipFill>
        <p:spPr>
          <a:xfrm>
            <a:off x="3828960" y="73080"/>
            <a:ext cx="1390680" cy="476280"/>
          </a:xfrm>
          <a:prstGeom prst="rect">
            <a:avLst/>
          </a:prstGeom>
          <a:ln w="0">
            <a:noFill/>
          </a:ln>
        </p:spPr>
      </p:pic>
      <p:sp>
        <p:nvSpPr>
          <p:cNvPr id="703"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704" name="PlaceHolder 1"/>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05" name="PlaceHolder 2"/>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3"/>
          <p:cNvSpPr>
            <a:spLocks noGrp="1"/>
          </p:cNvSpPr>
          <p:nvPr>
            <p:ph type="sldNum" idx="4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7600-53F1-47D2-ACB5-B5C95E9CF9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44" name="Picture 4" descr="ArmeSFo_Logo"/>
          <p:cNvPicPr/>
          <p:nvPr/>
        </p:nvPicPr>
        <p:blipFill>
          <a:blip r:embed="rId2"/>
          <a:stretch/>
        </p:blipFill>
        <p:spPr>
          <a:xfrm>
            <a:off x="3828960" y="73080"/>
            <a:ext cx="1390680" cy="476280"/>
          </a:xfrm>
          <a:prstGeom prst="rect">
            <a:avLst/>
          </a:prstGeom>
          <a:ln w="0">
            <a:noFill/>
          </a:ln>
        </p:spPr>
      </p:pic>
      <p:sp>
        <p:nvSpPr>
          <p:cNvPr id="745"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746" name="PlaceHolder 1"/>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47" name="PlaceHolder 2"/>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3"/>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A3DD-20E4-4693-998C-5DA208F3860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6" name="Picture 4" descr="ArmeSFo_Logo"/>
          <p:cNvPicPr/>
          <p:nvPr/>
        </p:nvPicPr>
        <p:blipFill>
          <a:blip r:embed="rId2"/>
          <a:stretch/>
        </p:blipFill>
        <p:spPr>
          <a:xfrm>
            <a:off x="3828960" y="73080"/>
            <a:ext cx="1390680" cy="476280"/>
          </a:xfrm>
          <a:prstGeom prst="rect">
            <a:avLst/>
          </a:prstGeom>
          <a:ln w="0">
            <a:noFill/>
          </a:ln>
        </p:spPr>
      </p:pic>
      <p:sp>
        <p:nvSpPr>
          <p:cNvPr id="787"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788"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89" name="PlaceHolder 2"/>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EE35-EE34-4622-8832-28E7A1EDEC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8" name="Picture 4" descr="ArmeSFo_Logo"/>
          <p:cNvPicPr/>
          <p:nvPr/>
        </p:nvPicPr>
        <p:blipFill>
          <a:blip r:embed="rId2"/>
          <a:stretch/>
        </p:blipFill>
        <p:spPr>
          <a:xfrm>
            <a:off x="3828960" y="73080"/>
            <a:ext cx="1390680" cy="476280"/>
          </a:xfrm>
          <a:prstGeom prst="rect">
            <a:avLst/>
          </a:prstGeom>
          <a:ln w="0">
            <a:noFill/>
          </a:ln>
        </p:spPr>
      </p:pic>
      <p:sp>
        <p:nvSpPr>
          <p:cNvPr id="829"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830" name="PlaceHolder 1"/>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1" name="PlaceHolder 2"/>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E26A-ECC9-4BED-B2C2-B784233ECF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70" name="Picture 4" descr="ArmeSFo_Logo"/>
          <p:cNvPicPr/>
          <p:nvPr/>
        </p:nvPicPr>
        <p:blipFill>
          <a:blip r:embed="rId2"/>
          <a:stretch/>
        </p:blipFill>
        <p:spPr>
          <a:xfrm>
            <a:off x="3828960" y="73080"/>
            <a:ext cx="1390680" cy="476280"/>
          </a:xfrm>
          <a:prstGeom prst="rect">
            <a:avLst/>
          </a:prstGeom>
          <a:ln w="0">
            <a:noFill/>
          </a:ln>
        </p:spPr>
      </p:pic>
      <p:sp>
        <p:nvSpPr>
          <p:cNvPr id="871"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872" name="PlaceHolder 1"/>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73" name="PlaceHolder 2"/>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PlaceHolder 3"/>
          <p:cNvSpPr>
            <a:spLocks noGrp="1"/>
          </p:cNvSpPr>
          <p:nvPr>
            <p:ph type="sldNum" idx="6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5EB0-B9FE-4457-A0BC-C8EB23C3A3F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12" name="Picture 4" descr="ArmeSFo_Logo"/>
          <p:cNvPicPr/>
          <p:nvPr/>
        </p:nvPicPr>
        <p:blipFill>
          <a:blip r:embed="rId2"/>
          <a:stretch/>
        </p:blipFill>
        <p:spPr>
          <a:xfrm>
            <a:off x="3828960" y="73080"/>
            <a:ext cx="1390680" cy="476280"/>
          </a:xfrm>
          <a:prstGeom prst="rect">
            <a:avLst/>
          </a:prstGeom>
          <a:ln w="0">
            <a:noFill/>
          </a:ln>
        </p:spPr>
      </p:pic>
      <p:sp>
        <p:nvSpPr>
          <p:cNvPr id="913"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914" name="PlaceHolder 1"/>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15" name="PlaceHolder 2"/>
          <p:cNvSpPr>
            <a:spLocks noGrp="1"/>
          </p:cNvSpPr>
          <p:nvPr>
            <p:ph type="ftr" idx="6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PlaceHolder 3"/>
          <p:cNvSpPr>
            <a:spLocks noGrp="1"/>
          </p:cNvSpPr>
          <p:nvPr>
            <p:ph type="sldNum" idx="6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E5A2-281C-405B-9E58-09FA0DE545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4" name="Picture 4" descr="ArmeSFo_Logo"/>
          <p:cNvPicPr/>
          <p:nvPr/>
        </p:nvPicPr>
        <p:blipFill>
          <a:blip r:embed="rId2"/>
          <a:stretch/>
        </p:blipFill>
        <p:spPr>
          <a:xfrm>
            <a:off x="3828960" y="73080"/>
            <a:ext cx="1390680" cy="476280"/>
          </a:xfrm>
          <a:prstGeom prst="rect">
            <a:avLst/>
          </a:prstGeom>
          <a:ln w="0">
            <a:noFill/>
          </a:ln>
        </p:spPr>
      </p:pic>
      <p:sp>
        <p:nvSpPr>
          <p:cNvPr id="955"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956" name="PlaceHolder 1"/>
          <p:cNvSpPr>
            <a:spLocks noGrp="1"/>
          </p:cNvSpPr>
          <p:nvPr>
            <p:ph type="dt" idx="6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57" name="PlaceHolder 2"/>
          <p:cNvSpPr>
            <a:spLocks noGrp="1"/>
          </p:cNvSpPr>
          <p:nvPr>
            <p:ph type="ftr" idx="6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PlaceHolder 3"/>
          <p:cNvSpPr>
            <a:spLocks noGrp="1"/>
          </p:cNvSpPr>
          <p:nvPr>
            <p:ph type="sldNum" idx="6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07FC-CAD7-41F5-8D10-F695DD7624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6" name="Picture 4" descr="ArmeSFo_Logo"/>
          <p:cNvPicPr/>
          <p:nvPr/>
        </p:nvPicPr>
        <p:blipFill>
          <a:blip r:embed="rId2"/>
          <a:stretch/>
        </p:blipFill>
        <p:spPr>
          <a:xfrm>
            <a:off x="3828960" y="73080"/>
            <a:ext cx="1390680" cy="476280"/>
          </a:xfrm>
          <a:prstGeom prst="rect">
            <a:avLst/>
          </a:prstGeom>
          <a:ln w="0">
            <a:noFill/>
          </a:ln>
        </p:spPr>
      </p:pic>
      <p:sp>
        <p:nvSpPr>
          <p:cNvPr id="997"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
        <p:nvSpPr>
          <p:cNvPr id="998" name="PlaceHolder 1"/>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99" name="PlaceHolder 2"/>
          <p:cNvSpPr>
            <a:spLocks noGrp="1"/>
          </p:cNvSpPr>
          <p:nvPr>
            <p:ph type="ftr" idx="6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PlaceHolder 3"/>
          <p:cNvSpPr>
            <a:spLocks noGrp="1"/>
          </p:cNvSpPr>
          <p:nvPr>
            <p:ph type="sldNum" idx="6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54D6-8AC6-4A13-896A-6CF4C939A2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 Diagonal Corner Rectangle 7"/>
          <p:cNvSpPr/>
          <p:nvPr/>
        </p:nvSpPr>
        <p:spPr>
          <a:xfrm>
            <a:off x="2627280" y="2924280"/>
            <a:ext cx="3600360" cy="1081080"/>
          </a:xfrm>
          <a:custGeom>
            <a:avLst/>
            <a:gdLst>
              <a:gd name="textAreaLeft" fmla="*/ 52560 w 3600360"/>
              <a:gd name="textAreaRight" fmla="*/ 3547800 w 3600360"/>
              <a:gd name="textAreaTop" fmla="*/ 52560 h 1081080"/>
              <a:gd name="textAreaBottom" fmla="*/ 1028520 h 1081080"/>
            </a:gdLst>
            <a:ahLst/>
            <a:rect l="textAreaLeft" t="textAreaTop" r="textAreaRight" b="textAreaBottom"/>
            <a:pathLst>
              <a:path w="3600450" h="1081088">
                <a:moveTo>
                  <a:pt x="180185" y="0"/>
                </a:moveTo>
                <a:lnTo>
                  <a:pt x="3600450" y="0"/>
                </a:lnTo>
                <a:lnTo>
                  <a:pt x="3600450" y="900903"/>
                </a:lnTo>
                <a:lnTo>
                  <a:pt x="3600450" y="900903"/>
                </a:lnTo>
                <a:arcTo wR="180185" hR="180185" stAng="0" swAng="5400000"/>
                <a:lnTo>
                  <a:pt x="0" y="1081088"/>
                </a:lnTo>
                <a:lnTo>
                  <a:pt x="0" y="180185"/>
                </a:lnTo>
                <a:lnTo>
                  <a:pt x="0" y="180185"/>
                </a:lnTo>
                <a:arcTo wR="180185" hR="180185"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4" descr="ArmeSFo_Logo"/>
          <p:cNvPicPr/>
          <p:nvPr/>
        </p:nvPicPr>
        <p:blipFill>
          <a:blip r:embed="rId2"/>
          <a:stretch/>
        </p:blipFill>
        <p:spPr>
          <a:xfrm>
            <a:off x="3828960" y="73080"/>
            <a:ext cx="1390680" cy="476280"/>
          </a:xfrm>
          <a:prstGeom prst="rect">
            <a:avLst/>
          </a:prstGeom>
          <a:ln w="0">
            <a:noFill/>
          </a:ln>
        </p:spPr>
      </p:pic>
      <p:sp>
        <p:nvSpPr>
          <p:cNvPr id="83" name="Rectangle 9"/>
          <p:cNvSpPr/>
          <p:nvPr/>
        </p:nvSpPr>
        <p:spPr>
          <a:xfrm>
            <a:off x="2232000" y="69228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121" name="Round Diagonal Corner Rectangle 10"/>
          <p:cNvSpPr/>
          <p:nvPr/>
        </p:nvSpPr>
        <p:spPr>
          <a:xfrm>
            <a:off x="179280" y="44280"/>
            <a:ext cx="8785440" cy="576360"/>
          </a:xfrm>
          <a:custGeom>
            <a:avLst/>
            <a:gdLst>
              <a:gd name="textAreaLeft" fmla="*/ 28080 w 8785440"/>
              <a:gd name="textAreaRight" fmla="*/ 8757360 w 8785440"/>
              <a:gd name="textAreaTop" fmla="*/ 28080 h 576360"/>
              <a:gd name="textAreaBottom" fmla="*/ 548280 h 576360"/>
            </a:gdLst>
            <a:ahLst/>
            <a:rect l="textAreaLeft" t="textAreaTop" r="textAreaRight" b="textAreaBottom"/>
            <a:pathLst>
              <a:path w="8785225" h="576263">
                <a:moveTo>
                  <a:pt x="96046" y="0"/>
                </a:moveTo>
                <a:lnTo>
                  <a:pt x="8785225" y="0"/>
                </a:lnTo>
                <a:lnTo>
                  <a:pt x="8785225" y="480217"/>
                </a:lnTo>
                <a:lnTo>
                  <a:pt x="8785225" y="480217"/>
                </a:lnTo>
                <a:arcTo wR="96046" hR="96046" stAng="0" swAng="5400000"/>
                <a:lnTo>
                  <a:pt x="0" y="576263"/>
                </a:lnTo>
                <a:lnTo>
                  <a:pt x="0" y="96046"/>
                </a:lnTo>
                <a:lnTo>
                  <a:pt x="0" y="96046"/>
                </a:lnTo>
                <a:arcTo wR="96046" hR="96046"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5D96-FB2B-4550-A424-1BC6A5CA3F9C}"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165"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6"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8BC3-ABC5-48BB-97EB-3E1B01E558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206"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7"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14DD-1D85-402F-A657-C542124F78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247"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8"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F128-39CD-4D4F-A2D4-CDEF08F36D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28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AA14-67D9-4D6C-9CE2-737BA5A15E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 Diagonal Corner Rectangle 6"/>
          <p:cNvSpPr/>
          <p:nvPr/>
        </p:nvSpPr>
        <p:spPr>
          <a:xfrm>
            <a:off x="179280" y="2133720"/>
            <a:ext cx="8785440" cy="1366560"/>
          </a:xfrm>
          <a:custGeom>
            <a:avLst/>
            <a:gdLst>
              <a:gd name="textAreaLeft" fmla="*/ 66600 w 8785440"/>
              <a:gd name="textAreaRight" fmla="*/ 8718840 w 8785440"/>
              <a:gd name="textAreaTop" fmla="*/ 66600 h 1366560"/>
              <a:gd name="textAreaBottom" fmla="*/ 1299960 h 1366560"/>
            </a:gdLst>
            <a:ahLst/>
            <a:rect l="textAreaLeft" t="textAreaTop" r="textAreaRight" b="textAreaBottom"/>
            <a:pathLst>
              <a:path w="8785225" h="1366838">
                <a:moveTo>
                  <a:pt x="227811" y="0"/>
                </a:moveTo>
                <a:lnTo>
                  <a:pt x="8785225" y="0"/>
                </a:lnTo>
                <a:lnTo>
                  <a:pt x="8785225" y="1139027"/>
                </a:lnTo>
                <a:lnTo>
                  <a:pt x="8785225" y="1139027"/>
                </a:lnTo>
                <a:arcTo wR="227811" hR="227811" stAng="0" swAng="5400000"/>
                <a:lnTo>
                  <a:pt x="0" y="1366838"/>
                </a:lnTo>
                <a:lnTo>
                  <a:pt x="0" y="227811"/>
                </a:lnTo>
                <a:lnTo>
                  <a:pt x="0" y="227811"/>
                </a:lnTo>
                <a:arcTo wR="227811" hR="227811" stAng="10800000" swAng="5400000"/>
                <a:close/>
              </a:path>
            </a:pathLst>
          </a:custGeom>
          <a:solidFill>
            <a:srgbClr val="009900"/>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Footer Placeholder 4"/>
          <p:cNvSpPr/>
          <p:nvPr/>
        </p:nvSpPr>
        <p:spPr>
          <a:xfrm>
            <a:off x="682560" y="6524640"/>
            <a:ext cx="73454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26th EUGridPMA and IGTF All Hands meeting, Lyon, France</a:t>
            </a:r>
            <a:r>
              <a:rPr b="0" lang="ru-RU" sz="1600" spc="-1" strike="noStrike">
                <a:solidFill>
                  <a:srgbClr val="009900"/>
                </a:solidFill>
                <a:latin typeface="Arial"/>
              </a:rPr>
              <a:t>, 1</a:t>
            </a:r>
            <a:r>
              <a:rPr b="0" lang="en-US" sz="1600" spc="-1" strike="noStrike">
                <a:solidFill>
                  <a:srgbClr val="009900"/>
                </a:solidFill>
                <a:latin typeface="Arial"/>
              </a:rPr>
              <a:t>0</a:t>
            </a:r>
            <a:r>
              <a:rPr b="0" lang="ru-RU" sz="1600" spc="-1" strike="noStrike">
                <a:solidFill>
                  <a:srgbClr val="009900"/>
                </a:solidFill>
                <a:latin typeface="Arial"/>
              </a:rPr>
              <a:t>-</a:t>
            </a:r>
            <a:r>
              <a:rPr b="0" lang="en-US" sz="1600" spc="-1" strike="noStrike">
                <a:solidFill>
                  <a:srgbClr val="009900"/>
                </a:solidFill>
                <a:latin typeface="Arial"/>
              </a:rPr>
              <a:t>12</a:t>
            </a:r>
            <a:r>
              <a:rPr b="0" lang="ru-RU" sz="1600" spc="-1" strike="noStrike">
                <a:solidFill>
                  <a:srgbClr val="009900"/>
                </a:solidFill>
                <a:latin typeface="Arial"/>
              </a:rPr>
              <a:t> </a:t>
            </a:r>
            <a:r>
              <a:rPr b="0" lang="en-US" sz="1600" spc="-1" strike="noStrike">
                <a:solidFill>
                  <a:srgbClr val="009900"/>
                </a:solidFill>
                <a:latin typeface="Arial"/>
              </a:rPr>
              <a:t>Sep</a:t>
            </a:r>
            <a:r>
              <a:rPr b="0" lang="ru-RU" sz="1600" spc="-1" strike="noStrike">
                <a:solidFill>
                  <a:srgbClr val="009900"/>
                </a:solidFill>
                <a:latin typeface="Arial"/>
              </a:rPr>
              <a:t> 201</a:t>
            </a:r>
            <a:r>
              <a:rPr b="0" lang="en-US" sz="1600" spc="-1" strike="noStrike">
                <a:solidFill>
                  <a:srgbClr val="009900"/>
                </a:solidFill>
                <a:latin typeface="Arial"/>
              </a:rPr>
              <a:t>2</a:t>
            </a:r>
            <a:endParaRPr b="0" lang="en-US" sz="1600" spc="-1" strike="noStrike">
              <a:solidFill>
                <a:srgbClr val="000000"/>
              </a:solidFill>
              <a:latin typeface="Arial"/>
            </a:endParaRPr>
          </a:p>
        </p:txBody>
      </p:sp>
      <p:sp>
        <p:nvSpPr>
          <p:cNvPr id="32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0"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3578-DBB1-4FA5-9778-77BD94923E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0" y="2421000"/>
            <a:ext cx="9144000" cy="65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rmeSFo CA update</a:t>
            </a:r>
            <a:br>
              <a:rPr sz="4400"/>
            </a:br>
            <a:endParaRPr b="0" lang="en-US" sz="4400" spc="-1" strike="noStrike">
              <a:solidFill>
                <a:srgbClr val="000000"/>
              </a:solidFill>
              <a:latin typeface="Calibri"/>
            </a:endParaRPr>
          </a:p>
        </p:txBody>
      </p:sp>
      <p:sp>
        <p:nvSpPr>
          <p:cNvPr id="1038" name="PlaceHolder 2"/>
          <p:cNvSpPr>
            <a:spLocks noGrp="1"/>
          </p:cNvSpPr>
          <p:nvPr>
            <p:ph type="subTitle"/>
          </p:nvPr>
        </p:nvSpPr>
        <p:spPr>
          <a:xfrm>
            <a:off x="1371600" y="3885840"/>
            <a:ext cx="6400800" cy="119844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Armenuhi Abramyan, Narine Manukyan</a:t>
            </a:r>
            <a:endParaRPr b="0" lang="en-US" sz="28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eada"/>
                </a:solidFill>
                <a:latin typeface="Calibri"/>
              </a:rPr>
              <a:t>aabramya@escience.am, nmanukya@escience.am</a:t>
            </a:r>
            <a:endParaRPr b="0" lang="en-US" sz="1800" spc="-1" strike="noStrike">
              <a:solidFill>
                <a:srgbClr val="000000"/>
              </a:solidFill>
              <a:latin typeface="Calibri"/>
            </a:endParaRPr>
          </a:p>
        </p:txBody>
      </p:sp>
      <p:pic>
        <p:nvPicPr>
          <p:cNvPr id="1039" name="Picture 4" descr="ArmeSFo_Logo"/>
          <p:cNvPicPr/>
          <p:nvPr/>
        </p:nvPicPr>
        <p:blipFill>
          <a:blip r:embed="rId1"/>
          <a:stretch/>
        </p:blipFill>
        <p:spPr>
          <a:xfrm>
            <a:off x="3828960" y="73080"/>
            <a:ext cx="1390680" cy="476280"/>
          </a:xfrm>
          <a:prstGeom prst="rect">
            <a:avLst/>
          </a:prstGeom>
          <a:ln w="0">
            <a:noFill/>
          </a:ln>
        </p:spPr>
      </p:pic>
      <p:sp>
        <p:nvSpPr>
          <p:cNvPr id="1040" name="Rectangle 4"/>
          <p:cNvSpPr/>
          <p:nvPr/>
        </p:nvSpPr>
        <p:spPr>
          <a:xfrm>
            <a:off x="2232000" y="765000"/>
            <a:ext cx="45720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menian e-Science Foundation Certification Autho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lide Number Placeholder 2"/>
          <p:cNvSpPr/>
          <p:nvPr/>
        </p:nvSpPr>
        <p:spPr>
          <a:xfrm>
            <a:off x="8271000" y="6437160"/>
            <a:ext cx="761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B5A6-DA43-49CC-8540-8D37B65DB48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70" name="TextBox 6"/>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Educational programme</a:t>
            </a:r>
            <a:endParaRPr b="0" lang="en-US" sz="3600" spc="-1" strike="noStrike">
              <a:solidFill>
                <a:srgbClr val="000000"/>
              </a:solidFill>
              <a:latin typeface="Arial"/>
            </a:endParaRPr>
          </a:p>
        </p:txBody>
      </p:sp>
      <p:sp>
        <p:nvSpPr>
          <p:cNvPr id="1071" name="Rectangle 3"/>
          <p:cNvSpPr/>
          <p:nvPr/>
        </p:nvSpPr>
        <p:spPr>
          <a:xfrm>
            <a:off x="285840" y="1428840"/>
            <a:ext cx="8358120" cy="3904920"/>
          </a:xfrm>
          <a:prstGeom prst="rect">
            <a:avLst/>
          </a:prstGeom>
          <a:noFill/>
          <a:ln w="0">
            <a:noFill/>
          </a:ln>
        </p:spPr>
        <p:style>
          <a:lnRef idx="0"/>
          <a:fillRef idx="0"/>
          <a:effectRef idx="0"/>
          <a:fontRef idx="minor"/>
        </p:style>
        <p:txBody>
          <a:bodyPr lIns="90000" rIns="90000" tIns="46800" bIns="46800" anchor="t">
            <a:spAutoFit/>
          </a:bodyPr>
          <a:p>
            <a:pPr marL="343080" indent="-228600" algn="just">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alibri"/>
                <a:ea typeface="Arial"/>
              </a:rPr>
              <a:t>An educational web portal </a:t>
            </a:r>
            <a:r>
              <a:rPr b="1" i="1" lang="en-US" sz="2000" spc="-1" strike="noStrike" u="sng">
                <a:solidFill>
                  <a:srgbClr val="ff3300"/>
                </a:solidFill>
                <a:uFillTx/>
                <a:latin typeface="Calibri"/>
                <a:ea typeface="Arial"/>
              </a:rPr>
              <a:t>WhyPKI</a:t>
            </a:r>
            <a:r>
              <a:rPr b="1" lang="en-US" sz="2000" spc="-1" strike="noStrike">
                <a:solidFill>
                  <a:srgbClr val="000000"/>
                </a:solidFill>
                <a:latin typeface="Calibri"/>
                <a:ea typeface="Arial"/>
              </a:rPr>
              <a:t> </a:t>
            </a:r>
            <a:r>
              <a:rPr b="1" lang="en-US" sz="2000" spc="-1" strike="noStrike">
                <a:solidFill>
                  <a:srgbClr val="008000"/>
                </a:solidFill>
                <a:latin typeface="Calibri"/>
                <a:ea typeface="Arial"/>
              </a:rPr>
              <a:t>dedicated to the security in cyberspace has been created </a:t>
            </a:r>
            <a:r>
              <a:rPr b="0" lang="en-US" sz="2000" spc="-1" strike="noStrike">
                <a:solidFill>
                  <a:srgbClr val="000000"/>
                </a:solidFill>
                <a:latin typeface="Calibri"/>
                <a:ea typeface="Arial"/>
              </a:rPr>
              <a:t>(http://www.escience.am/whypki/). </a:t>
            </a:r>
            <a:r>
              <a:rPr b="1" lang="en-US" sz="2000" spc="-1" strike="noStrike">
                <a:solidFill>
                  <a:srgbClr val="008000"/>
                </a:solidFill>
                <a:latin typeface="Calibri"/>
                <a:ea typeface="Arial"/>
              </a:rPr>
              <a:t>The portal is bilingual, in Armenian and English, which is important for the development of the Armenian cybersecurity vocabulary</a:t>
            </a:r>
            <a:endParaRPr b="0" lang="en-US" sz="2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28600" algn="just">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Arial"/>
              </a:rPr>
              <a:t>An educational CA, </a:t>
            </a:r>
            <a:r>
              <a:rPr b="1" i="1" lang="en-US" sz="2000" spc="-1" strike="noStrike" u="sng">
                <a:solidFill>
                  <a:srgbClr val="ff3300"/>
                </a:solidFill>
                <a:uFillTx/>
                <a:latin typeface="Calibri"/>
                <a:ea typeface="Arial"/>
              </a:rPr>
              <a:t>ToyCA</a:t>
            </a:r>
            <a:r>
              <a:rPr b="1" lang="en-US" sz="2000" spc="-1" strike="noStrike">
                <a:solidFill>
                  <a:srgbClr val="1f497d"/>
                </a:solidFill>
                <a:latin typeface="Calibri"/>
                <a:ea typeface="Arial"/>
              </a:rPr>
              <a:t>, providing certificates for any requestor has been created</a:t>
            </a:r>
            <a:endParaRPr b="0" lang="en-US" sz="2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he </a:t>
            </a:r>
            <a:r>
              <a:rPr b="1" i="1" lang="en-US" sz="2000" spc="-1" strike="noStrike" u="sng">
                <a:solidFill>
                  <a:srgbClr val="ff3300"/>
                </a:solidFill>
                <a:uFillTx/>
                <a:latin typeface="Calibri"/>
                <a:ea typeface="Arial"/>
              </a:rPr>
              <a:t>WhyPKI</a:t>
            </a:r>
            <a:r>
              <a:rPr b="1" lang="ru-RU" sz="2000" spc="-1" strike="noStrike">
                <a:solidFill>
                  <a:srgbClr val="000000"/>
                </a:solidFill>
                <a:latin typeface="Calibri"/>
                <a:ea typeface="Arial"/>
              </a:rPr>
              <a:t> </a:t>
            </a:r>
            <a:r>
              <a:rPr b="1" lang="en-US" sz="2000" spc="-1" strike="noStrike">
                <a:solidFill>
                  <a:srgbClr val="000000"/>
                </a:solidFill>
                <a:latin typeface="Calibri"/>
                <a:ea typeface="Arial"/>
              </a:rPr>
              <a:t>portal provides for </a:t>
            </a:r>
            <a:r>
              <a:rPr b="1" i="1" lang="en-US" sz="2000" spc="-1" strike="noStrike" u="sng">
                <a:solidFill>
                  <a:srgbClr val="ff3300"/>
                </a:solidFill>
                <a:uFillTx/>
                <a:latin typeface="Calibri"/>
                <a:ea typeface="Arial"/>
              </a:rPr>
              <a:t>ToyCA</a:t>
            </a:r>
            <a:r>
              <a:rPr b="1" lang="en-US" sz="2000" spc="-1" strike="noStrike">
                <a:solidFill>
                  <a:srgbClr val="000000"/>
                </a:solidFill>
                <a:latin typeface="Calibri"/>
                <a:ea typeface="Arial"/>
              </a:rPr>
              <a:t> an interface for generation of private keys and certificate requests (http://www.escience.am/whypki/?q=node/135)</a:t>
            </a:r>
            <a:endParaRPr b="0" lang="en-US" sz="2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Bachelor student has been actively involved in the creation of </a:t>
            </a:r>
            <a:r>
              <a:rPr b="1" i="1" lang="en-US" sz="2000" spc="-1" strike="noStrike" u="sng">
                <a:solidFill>
                  <a:srgbClr val="ff3300"/>
                </a:solidFill>
                <a:uFillTx/>
                <a:latin typeface="Calibri"/>
                <a:ea typeface="Arial"/>
              </a:rPr>
              <a:t>WhyPKI</a:t>
            </a:r>
            <a:r>
              <a:rPr b="1" lang="en-US" sz="2000" spc="-1" strike="noStrike">
                <a:solidFill>
                  <a:srgbClr val="000000"/>
                </a:solidFill>
                <a:latin typeface="Calibri"/>
                <a:ea typeface="Arial"/>
              </a:rPr>
              <a:t> </a:t>
            </a:r>
            <a:r>
              <a:rPr b="0" lang="en-US" sz="2000" spc="-1" strike="noStrike">
                <a:solidFill>
                  <a:srgbClr val="000000"/>
                </a:solidFill>
                <a:latin typeface="Calibri"/>
                <a:ea typeface="Arial"/>
              </a:rPr>
              <a:t>and </a:t>
            </a:r>
            <a:r>
              <a:rPr b="1" i="1" lang="en-US" sz="2000" spc="-1" strike="noStrike" u="sng">
                <a:solidFill>
                  <a:srgbClr val="ff3300"/>
                </a:solidFill>
                <a:uFillTx/>
                <a:latin typeface="Calibri"/>
                <a:ea typeface="Arial"/>
              </a:rPr>
              <a:t>Toy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Slide Number Placeholder 2"/>
          <p:cNvSpPr/>
          <p:nvPr/>
        </p:nvSpPr>
        <p:spPr>
          <a:xfrm>
            <a:off x="8211960" y="6400800"/>
            <a:ext cx="824040" cy="341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C269-7AF9-4237-B8CB-647D72D0E07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73" name="TextBox 4"/>
          <p:cNvSpPr/>
          <p:nvPr/>
        </p:nvSpPr>
        <p:spPr>
          <a:xfrm>
            <a:off x="285840" y="1214280"/>
            <a:ext cx="8665920" cy="4115880"/>
          </a:xfrm>
          <a:prstGeom prst="rect">
            <a:avLst/>
          </a:prstGeom>
          <a:noFill/>
          <a:ln w="0">
            <a:noFill/>
          </a:ln>
        </p:spPr>
        <p:style>
          <a:lnRef idx="0"/>
          <a:fillRef idx="0"/>
          <a:effectRef idx="0"/>
          <a:fontRef idx="minor"/>
        </p:style>
        <p:txBody>
          <a:bodyPr lIns="90000" rIns="90000" tIns="46800" bIns="46800" anchor="t">
            <a:spAutoFit/>
          </a:bodyPr>
          <a:p>
            <a:pPr indent="291960">
              <a:lnSpc>
                <a:spcPct val="15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Transition to the issuance of SHA-2 based certs and preparation of appropriate user explanatory documents (by January 1, 2013);</a:t>
            </a:r>
            <a:endParaRPr b="0" lang="en-US" sz="1800" spc="-1" strike="noStrike">
              <a:solidFill>
                <a:srgbClr val="000000"/>
              </a:solidFill>
              <a:latin typeface="Arial"/>
            </a:endParaRPr>
          </a:p>
          <a:p>
            <a:pPr indent="291960">
              <a:lnSpc>
                <a:spcPct val="15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91960">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Deployment of a production OCSP responder on ArmeSFo CA server (b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January 1, 2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91960">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Enabling IPv6 for the end-point of CRL and OCSP responder;</a:t>
            </a:r>
            <a:endParaRPr b="0" lang="en-US" sz="1800" spc="-1" strike="noStrike">
              <a:solidFill>
                <a:srgbClr val="000000"/>
              </a:solidFill>
              <a:latin typeface="Arial"/>
            </a:endParaRPr>
          </a:p>
          <a:p>
            <a:pPr indent="291960">
              <a:lnSpc>
                <a:spcPct val="15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91960">
              <a:lnSpc>
                <a:spcPct val="150000"/>
              </a:lnSpc>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Arial"/>
              </a:rPr>
              <a:t>Generation of a new 4096-bit ArmeSFo CA private key;</a:t>
            </a:r>
            <a:endParaRPr b="0" lang="en-US" sz="1800" spc="-1" strike="noStrike">
              <a:solidFill>
                <a:srgbClr val="000000"/>
              </a:solidFill>
              <a:latin typeface="Arial"/>
            </a:endParaRPr>
          </a:p>
          <a:p>
            <a:pPr indent="291960">
              <a:lnSpc>
                <a:spcPct val="150000"/>
              </a:lnSpc>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91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ance of new version of the CP/CPS;</a:t>
            </a:r>
            <a:endParaRPr b="0" lang="en-US" sz="1800" spc="-1" strike="noStrike">
              <a:solidFill>
                <a:srgbClr val="000000"/>
              </a:solidFill>
              <a:latin typeface="Arial"/>
            </a:endParaRPr>
          </a:p>
          <a:p>
            <a:pPr indent="291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9196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Preparation of the new instructions for ArmeSFo CA operators, RAs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subscribers compatible with new CP/CPS.</a:t>
            </a:r>
            <a:endParaRPr b="0" lang="en-US" sz="1800" spc="-1" strike="noStrike">
              <a:solidFill>
                <a:srgbClr val="000000"/>
              </a:solidFill>
              <a:latin typeface="Arial"/>
            </a:endParaRPr>
          </a:p>
        </p:txBody>
      </p:sp>
      <p:sp>
        <p:nvSpPr>
          <p:cNvPr id="1074" name="TextBox 4"/>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Next ste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2857680" y="3143160"/>
            <a:ext cx="3063600" cy="665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THANK YOU!</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0DE7-00E9-422E-88EC-A40AE1C5433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42" name="TextBox 5"/>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About Narine Manukyan</a:t>
            </a:r>
            <a:endParaRPr b="0" lang="en-US" sz="3600" spc="-1" strike="noStrike">
              <a:solidFill>
                <a:srgbClr val="000000"/>
              </a:solidFill>
              <a:latin typeface="Arial"/>
            </a:endParaRPr>
          </a:p>
        </p:txBody>
      </p:sp>
      <p:sp>
        <p:nvSpPr>
          <p:cNvPr id="1043" name="Rectangle 6"/>
          <p:cNvSpPr/>
          <p:nvPr/>
        </p:nvSpPr>
        <p:spPr>
          <a:xfrm>
            <a:off x="642960" y="1643040"/>
            <a:ext cx="8064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This presentation was planned to be presented by Narine Manuky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However, after a bicycle accident, happened ten days ago at CERN, she was strongly advised by physicians not to travel for some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4"/>
          <p:cNvSpPr/>
          <p:nvPr/>
        </p:nvSpPr>
        <p:spPr>
          <a:xfrm>
            <a:off x="8256600" y="6410160"/>
            <a:ext cx="7621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C23F-02A6-4528-9EE3-58B865A9DDA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45" name="TextBox 6"/>
          <p:cNvSpPr/>
          <p:nvPr/>
        </p:nvSpPr>
        <p:spPr>
          <a:xfrm>
            <a:off x="611280" y="1628640"/>
            <a:ext cx="7389720" cy="3751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Updates after January 2010, last presentation of ArmeSFo CA to EUGridPMA (in  Dublin)</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Status of self- and external audits</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OCSP  responder implementation</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SHA-2 based certificate profile</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Educational programme of ArmeSFo CA</a:t>
            </a:r>
            <a:endParaRPr b="0" lang="en-US" sz="2000" spc="-1" strike="noStrike">
              <a:solidFill>
                <a:srgbClr val="000000"/>
              </a:solidFill>
              <a:latin typeface="Arial"/>
            </a:endParaRPr>
          </a:p>
          <a:p>
            <a:pPr marL="287280" indent="-287280">
              <a:lnSpc>
                <a:spcPct val="15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Calibri"/>
              </a:rPr>
              <a:t>Next steps</a:t>
            </a:r>
            <a:endParaRPr b="0" lang="en-US" sz="2000" spc="-1" strike="noStrike">
              <a:solidFill>
                <a:srgbClr val="000000"/>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TextBox 4"/>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Cont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Slide Number Placeholder 2"/>
          <p:cNvSpPr/>
          <p:nvPr/>
        </p:nvSpPr>
        <p:spPr>
          <a:xfrm>
            <a:off x="8271000" y="6437160"/>
            <a:ext cx="761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9B3C-1477-4504-91E1-5DBCC64979A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48" name="TextBox 4"/>
          <p:cNvSpPr/>
          <p:nvPr/>
        </p:nvSpPr>
        <p:spPr>
          <a:xfrm>
            <a:off x="235080" y="1198440"/>
            <a:ext cx="8729640" cy="3179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Calibri"/>
                <a:ea typeface="Arial"/>
              </a:rPr>
              <a:t>The actual personnel of  ArmeSFo CA:</a:t>
            </a:r>
            <a:endParaRPr b="0" lang="en-US" sz="2400" spc="-1" strike="noStrike">
              <a:solidFill>
                <a:srgbClr val="000000"/>
              </a:solidFill>
              <a:latin typeface="Arial"/>
            </a:endParaRPr>
          </a:p>
          <a:p>
            <a:pPr>
              <a:lnSpc>
                <a:spcPct val="150000"/>
              </a:lnSpc>
              <a:buClr>
                <a:srgbClr val="bf1b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bf1b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f1bab"/>
                </a:solidFill>
                <a:latin typeface="Calibri"/>
                <a:ea typeface="Arial"/>
              </a:rPr>
              <a:t>Ara Grigoryan </a:t>
            </a:r>
            <a:r>
              <a:rPr b="0" i="1" lang="en-US" sz="2000" spc="-1" strike="noStrike">
                <a:solidFill>
                  <a:srgbClr val="bf1bab"/>
                </a:solidFill>
                <a:latin typeface="Arial"/>
                <a:ea typeface="Arial"/>
              </a:rPr>
              <a:t>–</a:t>
            </a:r>
            <a:r>
              <a:rPr b="0" i="1" lang="en-US" sz="2000" spc="-1" strike="noStrike">
                <a:solidFill>
                  <a:srgbClr val="bf1bab"/>
                </a:solidFill>
                <a:latin typeface="Calibri"/>
                <a:ea typeface="Arial"/>
              </a:rPr>
              <a:t> manager</a:t>
            </a:r>
            <a:endParaRPr b="0" lang="en-US" sz="2000" spc="-1" strike="noStrike">
              <a:solidFill>
                <a:srgbClr val="000000"/>
              </a:solidFill>
              <a:latin typeface="Arial"/>
            </a:endParaRPr>
          </a:p>
          <a:p>
            <a:pPr>
              <a:lnSpc>
                <a:spcPct val="15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Calibri"/>
                <a:ea typeface="Arial"/>
              </a:rPr>
              <a:t>Arsen Hayrapetyan </a:t>
            </a:r>
            <a:r>
              <a:rPr b="0" i="1" lang="en-US" sz="2000" spc="-1" strike="noStrike">
                <a:solidFill>
                  <a:srgbClr val="008000"/>
                </a:solidFill>
                <a:latin typeface="Calibri"/>
                <a:ea typeface="Arial"/>
              </a:rPr>
              <a:t>– alternate manager</a:t>
            </a:r>
            <a:endParaRPr b="0" lang="en-US" sz="2000" spc="-1" strike="noStrike">
              <a:solidFill>
                <a:srgbClr val="000000"/>
              </a:solidFill>
              <a:latin typeface="Arial"/>
            </a:endParaRPr>
          </a:p>
          <a:p>
            <a:pPr>
              <a:lnSpc>
                <a:spcPct val="15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Calibri"/>
                <a:ea typeface="Arial"/>
              </a:rPr>
              <a:t>Narine Manukyan </a:t>
            </a:r>
            <a:r>
              <a:rPr b="0" i="1" lang="en-US" sz="2000" spc="-1" strike="noStrike">
                <a:solidFill>
                  <a:srgbClr val="008000"/>
                </a:solidFill>
                <a:latin typeface="Calibri"/>
                <a:ea typeface="Arial"/>
              </a:rPr>
              <a:t>– senior operator</a:t>
            </a:r>
            <a:endParaRPr b="0" lang="en-US" sz="2000" spc="-1" strike="noStrike">
              <a:solidFill>
                <a:srgbClr val="000000"/>
              </a:solidFill>
              <a:latin typeface="Arial"/>
            </a:endParaRPr>
          </a:p>
          <a:p>
            <a:pPr>
              <a:lnSpc>
                <a:spcPct val="150000"/>
              </a:lnSpc>
              <a:buClr>
                <a:srgbClr val="bf1b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f1bab"/>
                </a:solidFill>
                <a:latin typeface="Calibri"/>
                <a:ea typeface="Arial"/>
              </a:rPr>
              <a:t>Armenuhi Abramyan </a:t>
            </a:r>
            <a:r>
              <a:rPr b="0" i="1" lang="en-US" sz="2000" spc="-1" strike="noStrike">
                <a:solidFill>
                  <a:srgbClr val="bf1bab"/>
                </a:solidFill>
                <a:latin typeface="Calibri"/>
                <a:ea typeface="Arial"/>
              </a:rPr>
              <a:t>– operator</a:t>
            </a:r>
            <a:endParaRPr b="0" lang="en-US" sz="2000" spc="-1" strike="noStrike">
              <a:solidFill>
                <a:srgbClr val="000000"/>
              </a:solidFill>
              <a:latin typeface="Arial"/>
            </a:endParaRPr>
          </a:p>
          <a:p>
            <a:pPr>
              <a:lnSpc>
                <a:spcPct val="150000"/>
              </a:lnSpc>
              <a:buClr>
                <a:srgbClr val="bf1b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f1bab"/>
                </a:solidFill>
                <a:latin typeface="Calibri"/>
                <a:ea typeface="Arial"/>
              </a:rPr>
              <a:t>Vardanush Papikyan </a:t>
            </a:r>
            <a:r>
              <a:rPr b="0" i="1" lang="en-US" sz="2000" spc="-1" strike="noStrike">
                <a:solidFill>
                  <a:srgbClr val="bf1bab"/>
                </a:solidFill>
                <a:latin typeface="Calibri"/>
                <a:ea typeface="Arial"/>
              </a:rPr>
              <a:t>– operator</a:t>
            </a:r>
            <a:endParaRPr b="0" lang="en-US" sz="2000" spc="-1" strike="noStrike">
              <a:solidFill>
                <a:srgbClr val="000000"/>
              </a:solidFill>
              <a:latin typeface="Arial"/>
            </a:endParaRPr>
          </a:p>
        </p:txBody>
      </p:sp>
      <p:sp>
        <p:nvSpPr>
          <p:cNvPr id="1049" name="TextBox 5"/>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Updates: ArmeSFo CA personnel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Slide Number Placeholder 2"/>
          <p:cNvSpPr/>
          <p:nvPr/>
        </p:nvSpPr>
        <p:spPr>
          <a:xfrm>
            <a:off x="8271000" y="6437160"/>
            <a:ext cx="761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E85F-B337-416E-AC90-7969A7F68AA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51" name="TextBox 6"/>
          <p:cNvSpPr/>
          <p:nvPr/>
        </p:nvSpPr>
        <p:spPr>
          <a:xfrm>
            <a:off x="179280" y="1214280"/>
            <a:ext cx="8640720" cy="25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ugust 2007 ArmesFo CA established first RA unit for the users working in any structure of National Academy of Sciences of the Republic of Armenia (NAS RA), the largest in Armenia network of scientific institutions – </a:t>
            </a:r>
            <a:r>
              <a:rPr b="1" lang="en-US" sz="2000" spc="-1" strike="noStrike" u="sng">
                <a:solidFill>
                  <a:srgbClr val="bf1bab"/>
                </a:solidFill>
                <a:uFillTx/>
                <a:latin typeface="Calibri"/>
              </a:rPr>
              <a:t>RA of ArmeSFo CA in NAS R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alibri"/>
              </a:rPr>
              <a:t>In October 2010 ArmeSFo CA established second RA unit for the users working in the other Armenian organizations – </a:t>
            </a:r>
            <a:r>
              <a:rPr b="1" lang="en-US" sz="2000" spc="-1" strike="noStrike" u="sng">
                <a:solidFill>
                  <a:srgbClr val="bf1bab"/>
                </a:solidFill>
                <a:uFillTx/>
                <a:latin typeface="Calibri"/>
              </a:rPr>
              <a:t>RA of ArmeSFo CA in ArmeSFo</a:t>
            </a:r>
            <a:endParaRPr b="0" lang="en-US" sz="2000" spc="-1" strike="noStrike">
              <a:solidFill>
                <a:srgbClr val="000000"/>
              </a:solidFill>
              <a:latin typeface="Arial"/>
            </a:endParaRPr>
          </a:p>
        </p:txBody>
      </p:sp>
      <p:sp>
        <p:nvSpPr>
          <p:cNvPr id="1052" name="TextBox 7"/>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Updates: New RA and new instructions</a:t>
            </a:r>
            <a:endParaRPr b="0" lang="en-US" sz="3600" spc="-1" strike="noStrike">
              <a:solidFill>
                <a:srgbClr val="000000"/>
              </a:solidFill>
              <a:latin typeface="Arial"/>
            </a:endParaRPr>
          </a:p>
        </p:txBody>
      </p:sp>
      <p:sp>
        <p:nvSpPr>
          <p:cNvPr id="1053" name="TextBox 8"/>
          <p:cNvSpPr/>
          <p:nvPr/>
        </p:nvSpPr>
        <p:spPr>
          <a:xfrm>
            <a:off x="1143000" y="4857840"/>
            <a:ext cx="600084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rmeSFo CA does not fulfill anymore the duties of RA.</a:t>
            </a:r>
            <a:endParaRPr b="0" lang="en-US" sz="1800" spc="-1" strike="noStrike">
              <a:solidFill>
                <a:srgbClr val="000000"/>
              </a:solidFill>
              <a:latin typeface="Arial"/>
            </a:endParaRPr>
          </a:p>
        </p:txBody>
      </p:sp>
      <p:sp>
        <p:nvSpPr>
          <p:cNvPr id="1054" name="TextBox 9"/>
          <p:cNvSpPr/>
          <p:nvPr/>
        </p:nvSpPr>
        <p:spPr>
          <a:xfrm>
            <a:off x="285840" y="3857760"/>
            <a:ext cx="8640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ach RA, detailed certificate request instructions for subscribers have bee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blish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534960" y="1213920"/>
            <a:ext cx="8609040" cy="2643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cc"/>
                </a:solidFill>
                <a:uFillTx/>
                <a:latin typeface="Calibri"/>
                <a:ea typeface="Arial"/>
              </a:rPr>
              <a:t>Major</a:t>
            </a:r>
            <a:r>
              <a:rPr b="1" i="1" lang="en-US" sz="2000" spc="-1" strike="noStrike">
                <a:solidFill>
                  <a:srgbClr val="0000cc"/>
                </a:solidFill>
                <a:latin typeface="Calibri"/>
                <a:ea typeface="Arial"/>
              </a:rPr>
              <a:t> changes concern  a very detailed specification of:</a:t>
            </a:r>
            <a:endParaRPr b="0" lang="en-US" sz="2000" spc="-1" strike="noStrike">
              <a:solidFill>
                <a:srgbClr val="000000"/>
              </a:solidFill>
              <a:latin typeface="Calibri"/>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alibri"/>
              </a:rPr>
              <a:t>RA obligations;</a:t>
            </a:r>
            <a:endParaRPr b="0" lang="en-US" sz="2000" spc="-1" strike="noStrike">
              <a:solidFill>
                <a:srgbClr val="000000"/>
              </a:solidFill>
              <a:latin typeface="Calibri"/>
            </a:endParaRPr>
          </a:p>
          <a:p>
            <a:pPr marL="343080" indent="-34308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alibri"/>
              </a:rPr>
              <a:t>Subscriber obligations;</a:t>
            </a:r>
            <a:endParaRPr b="0" lang="en-US" sz="2000" spc="-1" strike="noStrike">
              <a:solidFill>
                <a:srgbClr val="000000"/>
              </a:solidFill>
              <a:latin typeface="Calibri"/>
            </a:endParaRPr>
          </a:p>
          <a:p>
            <a:pPr marL="343080" indent="-34308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alibri"/>
              </a:rPr>
              <a:t>Re-keing procedure;</a:t>
            </a:r>
            <a:endParaRPr b="0" lang="en-US" sz="2000" spc="-1" strike="noStrike">
              <a:solidFill>
                <a:srgbClr val="000000"/>
              </a:solidFill>
              <a:latin typeface="Calibri"/>
            </a:endParaRPr>
          </a:p>
          <a:p>
            <a:pPr marL="343080" indent="-343080">
              <a:spcBef>
                <a:spcPts val="4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alibri"/>
              </a:rPr>
              <a:t>Revocation request  procedu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Calibri"/>
                <a:ea typeface="Arial"/>
              </a:rPr>
              <a:t>These changes reflect the experience of our work with Armenian RAs and subscribers.</a:t>
            </a:r>
            <a:endParaRPr b="0" lang="en-US" sz="2000" spc="-1" strike="noStrike">
              <a:solidFill>
                <a:srgbClr val="000000"/>
              </a:solidFill>
              <a:latin typeface="Calibri"/>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6" name="Slide Number Placeholder 5"/>
          <p:cNvSpPr/>
          <p:nvPr/>
        </p:nvSpPr>
        <p:spPr>
          <a:xfrm>
            <a:off x="8253360" y="6421320"/>
            <a:ext cx="7621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9E31-1F9F-41C3-BEBA-024458CB3E6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57" name="TextBox 7"/>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Updates: Next version of CP/CPS </a:t>
            </a:r>
            <a:endParaRPr b="0" lang="en-US" sz="3600" spc="-1" strike="noStrike">
              <a:solidFill>
                <a:srgbClr val="000000"/>
              </a:solidFill>
              <a:latin typeface="Arial"/>
            </a:endParaRPr>
          </a:p>
        </p:txBody>
      </p:sp>
      <p:sp>
        <p:nvSpPr>
          <p:cNvPr id="1058" name="TextBox 5"/>
          <p:cNvSpPr/>
          <p:nvPr/>
        </p:nvSpPr>
        <p:spPr>
          <a:xfrm>
            <a:off x="571680" y="4162320"/>
            <a:ext cx="7429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w CP/CPS is ready, however its publication is pending mainly because of a necessity to prepare and publish simultaneously the corresponding detailed instructions for ArmeSFo CA operators, RAs and subscrib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2"/>
          <p:cNvSpPr/>
          <p:nvPr/>
        </p:nvSpPr>
        <p:spPr>
          <a:xfrm>
            <a:off x="8346960" y="6448320"/>
            <a:ext cx="7621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8929-583F-43F7-8968-1E5FA2532B1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60" name="TextBox 4"/>
          <p:cNvSpPr/>
          <p:nvPr/>
        </p:nvSpPr>
        <p:spPr>
          <a:xfrm>
            <a:off x="500040" y="857160"/>
            <a:ext cx="8286840" cy="506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c00000"/>
                </a:solidFill>
                <a:latin typeface="Calibri"/>
              </a:rPr>
              <a:t>ArmeSFo CA self-audit was done back in December 2007 following to audit guidelines version 1.0-b4 </a:t>
            </a:r>
            <a:r>
              <a:rPr b="0" lang="en-US" sz="1800" spc="-1" strike="noStrike">
                <a:solidFill>
                  <a:srgbClr val="000000"/>
                </a:solidFill>
                <a:latin typeface="Calibri"/>
              </a:rPr>
              <a:t>(</a:t>
            </a:r>
            <a:r>
              <a:rPr b="0" lang="en-US" sz="1600" spc="-1" strike="noStrike">
                <a:solidFill>
                  <a:srgbClr val="000000"/>
                </a:solidFill>
                <a:latin typeface="Calibri"/>
              </a:rPr>
              <a:t>https://forge.gridforum.org/sf/go/doc4858</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b050"/>
                </a:solidFill>
                <a:latin typeface="Calibri"/>
              </a:rPr>
              <a:t>The results were presented at 12th EUGridPMA meeting in Amsterdam in January 2008 </a:t>
            </a:r>
            <a:r>
              <a:rPr b="0" lang="en-US" sz="1800" spc="-1" strike="noStrike">
                <a:solidFill>
                  <a:srgbClr val="000000"/>
                </a:solidFill>
                <a:latin typeface="Calibri"/>
              </a:rPr>
              <a:t>(</a:t>
            </a:r>
            <a:r>
              <a:rPr b="0" lang="en-US" sz="1600" spc="-1" strike="noStrike">
                <a:solidFill>
                  <a:srgbClr val="000000"/>
                </a:solidFill>
                <a:latin typeface="Calibri"/>
              </a:rPr>
              <a:t>https://www.eugridpma.org/agenda/archive-a073/ArmeSFo_CA_updates_and_self-audit.ppt</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In 2008 EUGridPMA appointed David O'Callaghan as a reviewer of ArmeSFo CA audit res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9e7800"/>
                </a:solidFill>
                <a:latin typeface="Calibri"/>
              </a:rPr>
              <a:t>In June 2009, the self-audit results were discussed in length with Jens Jensen who visited Armenia. Before the visit, it was agreed with David Groep that Jens would be a co-reviewer for the self-aud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Comments and suggestions by Jens have been taken into account and Arsen Hayrapetyan presented a status update at 18th EUGridPMA meeting in Dublin in January 2010 via videolink </a:t>
            </a:r>
            <a:r>
              <a:rPr b="0" lang="en-US" sz="1800" spc="-1" strike="noStrike">
                <a:solidFill>
                  <a:srgbClr val="7030a0"/>
                </a:solidFill>
                <a:latin typeface="Calibri"/>
              </a:rPr>
              <a:t>(</a:t>
            </a:r>
            <a:r>
              <a:rPr b="0" lang="en-US" sz="1000" spc="-1" strike="noStrike">
                <a:solidFill>
                  <a:srgbClr val="7030a0"/>
                </a:solidFill>
                <a:latin typeface="Calibri"/>
              </a:rPr>
              <a:t>http://agenda.nikhef.nl/getFile.py/access?contribId=9&amp;resId=1&amp;materialId=slides&amp;confId=914</a:t>
            </a:r>
            <a:r>
              <a:rPr b="0" lang="en-US" sz="1800" spc="-1" strike="noStrike">
                <a:solidFill>
                  <a:srgbClr val="7030a0"/>
                </a:solidFill>
                <a:latin typeface="Calibri"/>
              </a:rPr>
              <a:t>). </a:t>
            </a:r>
            <a:r>
              <a:rPr b="1" lang="en-US" sz="1800" spc="-1" strike="noStrike">
                <a:solidFill>
                  <a:srgbClr val="7030a0"/>
                </a:solidFill>
                <a:latin typeface="Calibri"/>
              </a:rPr>
              <a:t>Jens  commented on the self-audit after the talk and gave (orally) a (positive) short summary of his review.</a:t>
            </a:r>
            <a:endParaRPr b="0" lang="en-US" sz="1800" spc="-1" strike="noStrike">
              <a:solidFill>
                <a:srgbClr val="000000"/>
              </a:solidFill>
              <a:latin typeface="Arial"/>
            </a:endParaRPr>
          </a:p>
        </p:txBody>
      </p:sp>
      <p:sp>
        <p:nvSpPr>
          <p:cNvPr id="1061" name="TextBox 17"/>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Status of self- and external audi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Slide Number Placeholder 2"/>
          <p:cNvSpPr/>
          <p:nvPr/>
        </p:nvSpPr>
        <p:spPr>
          <a:xfrm>
            <a:off x="8273880" y="6377040"/>
            <a:ext cx="76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3FC7-6C72-4C0E-AFFE-FD682ED0661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63" name="Text Box 5"/>
          <p:cNvSpPr/>
          <p:nvPr/>
        </p:nvSpPr>
        <p:spPr>
          <a:xfrm>
            <a:off x="108000" y="1143000"/>
            <a:ext cx="8785080" cy="393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 the CA’s openssl.cnf new section is ad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 v3_OCSP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basicConstraints = CA:FALS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keyUsage = nonRepudiation, digitalSignature, keyEnciphermen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extendedKeyUsage = OCSPSign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The following extension</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authorityInfoAccess</a:t>
            </a:r>
            <a:r>
              <a:rPr b="1" i="1" lang="en-US" sz="1600" spc="-1" strike="noStrike">
                <a:solidFill>
                  <a:srgbClr val="000099"/>
                </a:solidFill>
                <a:latin typeface="Courier New"/>
              </a:rPr>
              <a:t> </a:t>
            </a:r>
            <a:r>
              <a:rPr b="1" i="1" lang="ru-RU" sz="1600" spc="-1" strike="noStrike">
                <a:solidFill>
                  <a:srgbClr val="000099"/>
                </a:solidFill>
                <a:latin typeface="Courier New"/>
              </a:rPr>
              <a:t>=</a:t>
            </a:r>
            <a:r>
              <a:rPr b="1" i="1" lang="en-US" sz="1600" spc="-1" strike="noStrike">
                <a:solidFill>
                  <a:srgbClr val="000099"/>
                </a:solidFill>
                <a:latin typeface="Courier New"/>
              </a:rPr>
              <a:t> </a:t>
            </a:r>
            <a:r>
              <a:rPr b="1" i="1" lang="ru-RU" sz="1600" spc="-1" strike="noStrike">
                <a:solidFill>
                  <a:srgbClr val="000099"/>
                </a:solidFill>
                <a:latin typeface="Courier New"/>
              </a:rPr>
              <a:t>OCSP;URI:http://armgrid3.yerphi.am:8888</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s added to the sections</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 usr_cert ]</a:t>
            </a:r>
            <a:r>
              <a:rPr b="1" i="1" lang="en-US" sz="1600" spc="-1" strike="noStrike">
                <a:solidFill>
                  <a:srgbClr val="000099"/>
                </a:solidFill>
                <a:latin typeface="Courier New"/>
              </a:rPr>
              <a:t>,</a:t>
            </a:r>
            <a:r>
              <a:rPr b="1" i="1" lang="ru-RU" sz="1600" spc="-1" strike="noStrike">
                <a:solidFill>
                  <a:srgbClr val="000099"/>
                </a:solidFill>
                <a:latin typeface="Courier New"/>
              </a:rPr>
              <a:t>[ srv_cert ]</a:t>
            </a:r>
            <a:r>
              <a:rPr b="1" i="1" lang="en-US" sz="1600" spc="-1" strike="noStrike">
                <a:solidFill>
                  <a:srgbClr val="000099"/>
                </a:solidFill>
                <a:latin typeface="Courier New"/>
              </a:rPr>
              <a:t>,</a:t>
            </a:r>
            <a:r>
              <a:rPr b="1" i="1" lang="ru-RU" sz="1600" spc="-1" strike="noStrike">
                <a:solidFill>
                  <a:srgbClr val="000099"/>
                </a:solidFill>
                <a:latin typeface="Courier New"/>
              </a:rPr>
              <a:t>[ service_cert</a:t>
            </a:r>
            <a:r>
              <a:rPr b="1" i="1" lang="ru-RU" sz="1600" spc="-1" strike="noStrike">
                <a:solidFill>
                  <a:srgbClr val="000099"/>
                </a:solidFill>
                <a:latin typeface="Arial"/>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504d"/>
                </a:solidFill>
                <a:uFillTx/>
                <a:latin typeface="Arial"/>
              </a:rPr>
              <a:t>One has the following extension in EE certificates</a:t>
            </a:r>
            <a:r>
              <a:rPr b="0" lang="en-US" sz="1800" spc="-1" strike="noStrike">
                <a:solidFill>
                  <a:srgbClr val="c0504d"/>
                </a:solidFill>
                <a:latin typeface="Arial"/>
              </a:rPr>
              <a:t>:</a:t>
            </a:r>
            <a:r>
              <a:rPr b="0" lang="ru-RU" sz="1800" spc="-1" strike="noStrike">
                <a:solidFill>
                  <a:srgbClr val="c0504d"/>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99"/>
                </a:solidFill>
                <a:latin typeface="Courier New"/>
              </a:rPr>
              <a:t>Authority Information Access:</a:t>
            </a:r>
            <a:br>
              <a:rPr sz="1600"/>
            </a:br>
            <a:r>
              <a:rPr b="1" i="1" lang="ru-RU" sz="1600" spc="-1" strike="noStrike">
                <a:solidFill>
                  <a:srgbClr val="000099"/>
                </a:solidFill>
                <a:latin typeface="Courier New"/>
              </a:rPr>
              <a:t>            </a:t>
            </a:r>
            <a:r>
              <a:rPr b="1" i="1" lang="ru-RU" sz="1800" spc="-1" strike="noStrike">
                <a:solidFill>
                  <a:srgbClr val="000099"/>
                </a:solidFill>
                <a:latin typeface="Courier New"/>
              </a:rPr>
              <a:t>OCSP - URI:http://armgrid3.yerphi.am:8888</a:t>
            </a:r>
            <a:r>
              <a:rPr b="1" i="1" lang="ru-RU" sz="1800" spc="-1" strike="noStrike">
                <a:solidFill>
                  <a:srgbClr val="000099"/>
                </a:solidFill>
                <a:latin typeface="Arial"/>
              </a:rPr>
              <a:t> </a:t>
            </a:r>
            <a:endParaRPr b="0" lang="en-US" sz="1800" spc="-1" strike="noStrike">
              <a:solidFill>
                <a:srgbClr val="000000"/>
              </a:solidFill>
              <a:latin typeface="Arial"/>
            </a:endParaRPr>
          </a:p>
        </p:txBody>
      </p:sp>
      <p:sp>
        <p:nvSpPr>
          <p:cNvPr id="1064" name="TextBox 4"/>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OCSP Configu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6360" y="6308640"/>
            <a:ext cx="8712000" cy="54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Slide Number Placeholder 2"/>
          <p:cNvSpPr/>
          <p:nvPr/>
        </p:nvSpPr>
        <p:spPr>
          <a:xfrm>
            <a:off x="8273880" y="6377040"/>
            <a:ext cx="76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2E3C-0E2D-407B-AAD3-0DAC2447733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67" name="TextBox 5"/>
          <p:cNvSpPr/>
          <p:nvPr/>
        </p:nvSpPr>
        <p:spPr>
          <a:xfrm>
            <a:off x="0" y="111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Test certificate with SHA256 and OCSP</a:t>
            </a:r>
            <a:endParaRPr b="0" lang="en-US" sz="3600" spc="-1" strike="noStrike">
              <a:solidFill>
                <a:srgbClr val="000000"/>
              </a:solidFill>
              <a:latin typeface="Arial"/>
            </a:endParaRPr>
          </a:p>
        </p:txBody>
      </p:sp>
      <p:sp>
        <p:nvSpPr>
          <p:cNvPr id="1068" name="Vertical Scroll 6"/>
          <p:cNvSpPr/>
          <p:nvPr/>
        </p:nvSpPr>
        <p:spPr>
          <a:xfrm>
            <a:off x="1571760" y="642960"/>
            <a:ext cx="5979960" cy="6035760"/>
          </a:xfrm>
          <a:prstGeom prst="verticalScroll">
            <a:avLst>
              <a:gd name="adj" fmla="val 2805"/>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ersion: 3 (0x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erial Number: 181 (0xb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ignature Algorithm</a:t>
            </a:r>
            <a:r>
              <a:rPr b="1" lang="en-US" sz="1400" spc="-1" strike="noStrike">
                <a:solidFill>
                  <a:srgbClr val="c00000"/>
                </a:solidFill>
                <a:latin typeface="Calibri"/>
              </a:rPr>
              <a:t>: </a:t>
            </a:r>
            <a:r>
              <a:rPr b="1" lang="en-US" sz="1600" spc="-1" strike="noStrike">
                <a:solidFill>
                  <a:srgbClr val="c00000"/>
                </a:solidFill>
                <a:latin typeface="Calibri"/>
              </a:rPr>
              <a:t>sha256WithRSAEncryp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ssuer: C=AM, O=ArmeSFo, CN=ArmeSFo C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Valid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Not Before: Jun 14 12:17:43 2012 GM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Not After : Jun 14 12:17:43 2013 GM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ubject: C=AM, O=ArmeSFo, O=YerPhI, OU=Experimental Division, CN=Hakob Hakobya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ubject Public Key Inf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ublic Key Algorithm: rsaEncry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RSA Public Key: (1024 bi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Modulus (1024 bi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Exponent: 65537 (0x1000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extens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Basic Constraints: critica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A:FALS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Key Usage: critica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Digital Signature, Key Encipherment, Data Encipher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Extended Key Usag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LS Web Client Authentication, E-mail Protec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Subject Alternative Nam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email:hakob@gmail.co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Certificate Polic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olicy: 1.3.6.1.4.1.17306.8.1.0.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olicy: 1.2.840.113612.5.2.2.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X509v3 CRL Distribution Poin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URI:http://armesfoca-crl.fzk.de/crl.pe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            </a:t>
            </a:r>
            <a:r>
              <a:rPr b="1" lang="en-US" sz="1600" spc="-1" strike="noStrike">
                <a:solidFill>
                  <a:srgbClr val="002060"/>
                </a:solidFill>
                <a:latin typeface="Calibri"/>
              </a:rPr>
              <a:t>Authority Information Acc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rPr>
              <a:t>                </a:t>
            </a:r>
            <a:r>
              <a:rPr b="1" lang="en-US" sz="1600" spc="-1" strike="noStrike">
                <a:solidFill>
                  <a:srgbClr val="002060"/>
                </a:solidFill>
                <a:latin typeface="Calibri"/>
              </a:rPr>
              <a:t>OCSP - URI:http://armgrid3.yerphi.am:888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ignature Algorithm: sha256WithRSAEncry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5T05:26:32Z</dcterms:created>
  <dc:creator>User</dc:creator>
  <dc:description/>
  <dc:language>en-US</dc:language>
  <cp:lastModifiedBy>AMIN</cp:lastModifiedBy>
  <dcterms:modified xsi:type="dcterms:W3CDTF">2012-09-11T05:55:19Z</dcterms:modified>
  <cp:revision>256</cp:revision>
  <dc:subject/>
  <dc:title>ArmeSFo CA update (including self-audit)</dc:title>
</cp:coreProperties>
</file>