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77E8B-431D-410D-88A6-A93C6B72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C7251-4232-4486-AC0B-18F614216C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E8946-73EB-4F29-8B55-4AE43CF26E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EE46C-4B9D-4A8D-93E8-0AA77E7131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EFBF8-2213-4A27-BC7C-1B31561E17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7843-7CA6-4C91-B5E5-8337B7795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4FD4-D3E8-435B-A23D-20C36E538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0B96-7DDE-45A7-9BD0-F10E7DF60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CC25-F52F-4DBC-BD38-C8A986C3A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3322-0875-412A-85FA-F15333A527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A91D-E7D6-43B1-82D3-B77DE5D6FF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9E12-4715-44EC-883E-57DD42632C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7965-725C-418F-AD8B-2198A5DCF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9E75-C19C-4BDE-AA3A-CEF55BDFF5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10DD-F382-4697-82B8-31342E07C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F684-4822-4734-8E83-9884567F0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B883-979B-4E1E-89EB-105B2544A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E541-FBC5-4555-988B-C12B4CAAB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9923-8E5E-4F66-8BC1-599D98099A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1320-19BA-4863-B45E-D9674422E0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B20D-3E11-4A87-920A-A9946B3979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2AD3-E6F3-47C6-A69F-6519BF2963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F70D-DC00-43B0-AD89-F9A3340173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27EE-2228-4A0D-8A10-53E380D6A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B9D2-5A4E-475A-BBF0-B54283A0F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1B60-4B82-451D-A9B1-A4B1C7FBA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377-542F-46F3-8CF8-44075CF27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914F-3B03-48B4-9410-16368DCCB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85B3-0EBF-4276-82B2-F8A62E2DC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B2D1A-AFB5-4AB2-BFDB-C7942E2E6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3E389-CCCE-462E-873E-78B7D92C0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27</a:t>
            </a:r>
            <a:r>
              <a:rPr b="0" lang="en-GB" sz="26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 EU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Rome, Ita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January 14-16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FFBD5-9465-46D9-B8FB-F72A7E247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2EA2F-275D-4A4C-95D7-A2FCC616A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8B853-9661-415C-A976-8BF2397F9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5360"/>
                <a:gridCol w="1656000"/>
                <a:gridCol w="216036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23A8A-3BEC-41C7-AE1A-AD196B510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03E0D-A81F-48AF-B4C1-A6177F92B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4C412-6E46-4C04-814D-E1CC32EC8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February 13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48040-0875-480F-A12E-53DA920F0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7 – Colorado – May 9-10, 2013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ink to registration page will be posted shortly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3E7F5-51D0-4C26-A68D-FFE72A042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1-14T06:34:40Z</dcterms:modified>
  <cp:revision>11</cp:revision>
  <dc:subject/>
  <dc:title>PowerPoint Presentation</dc:title>
</cp:coreProperties>
</file>