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64F9726-6800-4A83-B8CA-FE9A80D7C39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CA19A88-2627-4A9C-928F-9C3A96F90BE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7FDC2E87-1585-44FB-8FE2-28F7B0AD5C3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2F789098-0A25-4B85-AE07-01867168B95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094EF678-FF15-4C49-9938-4BC68D67EDB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465DA93E-FBAA-4824-9441-FC0711A5742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A54FBC46-FEAA-41C5-8729-2E8C48A87B1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523156E0-AAC6-4273-A032-EC6040CCC87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AF4B64C1-21D3-4C88-A8F4-C800C21DF70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23CDABA7-3A73-47E6-9D82-85B9650E38E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632C23AA-9D74-4129-96AA-62233A36861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8568E0C4-98A7-485F-A983-1AF6E522960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AF234EE7-05EB-4448-9AA7-50BDEDC3DBC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Self-Audit status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14-16, 201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Rome, Italy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Pending audit results &amp; review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838080" y="1295280"/>
          <a:ext cx="8040960" cy="4449960"/>
        </p:xfrm>
        <a:graphic>
          <a:graphicData uri="http://schemas.openxmlformats.org/drawingml/2006/table">
            <a:tbl>
              <a:tblPr/>
              <a:tblGrid>
                <a:gridCol w="2679840"/>
                <a:gridCol w="2681280"/>
                <a:gridCol w="2679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elf-au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evie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altic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2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aveK, Oleksan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rmeS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2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Jens, +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PK-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2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avidG, +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EE-Grid Catch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2-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dgars, David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Y-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2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hijs, Sha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1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Jean-Christophe, +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1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rsula, David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G.AC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1-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dgars, Bo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MAR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1-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mir, David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KeSc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9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Willy, Alex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el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1-01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Reimer, On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Upcoming self audi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838080" y="1231920"/>
          <a:ext cx="8040960" cy="4449600"/>
        </p:xfrm>
        <a:graphic>
          <a:graphicData uri="http://schemas.openxmlformats.org/drawingml/2006/table">
            <a:tbl>
              <a:tblPr/>
              <a:tblGrid>
                <a:gridCol w="2679840"/>
                <a:gridCol w="2681280"/>
                <a:gridCol w="2679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evie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lovak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o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MD-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omorr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NIIF/Hungar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omorr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Nordu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Wedn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Next meeting (‘IIRC’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pkIRIS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LIP-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ustrian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LIP 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Renater/Grid-F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EG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t 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PL-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ES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RAN-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ES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W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RAN-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3-01-10T14:44:12Z</dcterms:modified>
  <cp:revision>606</cp:revision>
  <dc:subject/>
  <dc:title>European Grid Policy Management Authority</dc:title>
</cp:coreProperties>
</file>