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3369B5D-B80E-466E-BEF0-CCC37C182CA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F9FDD34-DCD6-4A0B-8EC5-61A8BB48726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94EA2C6C-0EF1-4A4B-B27A-3B604AE1B6F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E8FAF382-C325-4801-8A11-58AB6F3B1C8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8C84938F-F032-4EE3-8F87-66EF34E06A9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8FE6D48B-1BD2-48D8-BD98-AAEAA7ECE1C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CB465264-28F9-4C57-8835-71E14611B54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A5839496-A5D0-4A43-8FA2-6C4D9805837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098AA86E-B1E4-400A-A89E-4865B0FD224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58D652F6-C90C-4ACC-A916-793DE63ADA8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A018BA2D-6A10-4F25-B900-1892790D1B6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FFEF62C9-7BC6-44F5-A6A6-527BE291F68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87F74B67-3975-4BD1-A324-465865B5605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OCSP Guidelines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January 14-16, 201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Rome, Italy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Why OCSP for Grid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hould be less error-prone than fetch-crl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when supported in softwar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ince many fetch-crl issues come from site config troub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nd CRL downloads are also a ‘DoS’ against CA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Gives support for dynamicly-inserted sub-CA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no advance knowledge needed of all CRL CDP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when used in conjunction with new namespac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hould enable dynamic sub-CA suppor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s more timely than CRL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ached 6-24 hours, which is ‘reasonable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but in many cases (web!) CRL is not retrieved at all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OCSP styl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ull-blown real time OCSP (RFC2560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rovides protection against replay attack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sing nonce supplied by clien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Is computed and signed in real-tim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Lots of inbound data so needs HTTP POS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Light-weight OCSP (RFC5019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im is to be cachable (and stapleable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refer HTTP GE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No-nonces (in reply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acheable, with HTTP headers set according to respons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oes not contain dynamic data, so can be replayed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(and thus needs short ‘life time’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Light-weight OCS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FC5019 leaves some deployment options open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hoices can be ‘good’ or ‘bad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A has to decide on how to generate respons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Mistakes by CA in settings can easily lead to DDoS </a:t>
            </a:r>
            <a:r>
              <a:rPr b="0" lang="en-US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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Mistakes by RPs in settings can easily lead to DDoS </a:t>
            </a:r>
            <a:r>
              <a:rPr b="0" lang="en-US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mplementation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Mixed quality, many implementation miss out on spec: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ome minor (uses GET even for large requests), or major (always use POST, so response cannot be cached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‘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tapling’ RFC 6066 is not widely supported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eemingly apache and nginx onl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Even standard OCSP not fully supported by Griddy MW</a:t>
            </a:r>
            <a:br>
              <a:rPr sz="2000"/>
            </a:b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but it acively worked on, and our guidance appreciat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Impact on CA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now, it adds network load to the CA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ince we do not expect CRL retrieval to stop immediatel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t least one OCSP request will be sent for each service acces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e OCSP load is related to the ‘popularity’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he (subscriber base) of the C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ow ‘active’ the subscribers ar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OCSP request/response is relatively smal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Not that many byt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But a lot of request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OCSP is a critical service (use a HA setup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Progressing with OCS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Guidance for Ca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ome Cas (DigiCert, TCS/Comodo) already have thi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Few others are almost ready, with RFC5019 or 2560, e.g.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ESNE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But a lot are waiting – would profit from guidance: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eployment scenarios, software tooling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Guidance for RPs and develop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‘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roper’ OCSP clients and RFC5019 not really ther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rofile on ‘expected responses’ helps a lot for coding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ractical examples to help interpret RFC5019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eployment scenarios to make sure RPs don’t DoS us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OGF CAOPS-WG &amp; IGTF Documen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opose two documen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CAs: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rofile of RFC5019 and expected response conten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eployment suggestions (pre-computed, no/simple VA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oftware hints for good HTTP head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…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RPs: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oftware development guidance on app-level caching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Fall-back to CRL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ane cache time defaul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eployment guidance on (squid) caching servic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…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3-01-12T18:53:38Z</dcterms:modified>
  <cp:revision>610</cp:revision>
  <dc:subject/>
  <dc:title>European Grid Policy Management Authority</dc:title>
</cp:coreProperties>
</file>