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B97A7E9-1E22-41C2-ACD6-99F05562C0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00877E8-F44F-4575-8C15-17D2454C64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2B01232-77BB-4849-9273-875182551A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AE00B2E5-D4B8-45AD-8E18-999B9C6A5BB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E1DF8E75-C347-432C-8F2A-789E6BA8586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9E00A4CB-7006-4D90-85D5-9C64B9424C3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46673773-1AD8-4960-8A77-311168152AE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F52FC52B-6E95-436C-9A3B-6ABEDE4114A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F580F805-C241-485C-85EC-E396A2D4B9F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05ABC001-E67F-42FD-AACD-BD8248A3427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D887329B-D583-45B4-ABE5-DE453757191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64CA73ED-6E02-434B-9E21-662345BE35F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F2E8E492-06A8-4A25-B2B1-06512E839B6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125BB7DE-16B6-4238-AAA0-EA553E1F482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8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May 13-15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Kyiv, Ukraine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Lucida Sans"/>
              </a:rPr>
              <a:t>NTUU KPI and the UGrid CA</a:t>
            </a:r>
            <a:br>
              <a:rPr sz="4000"/>
            </a:br>
            <a:endParaRPr b="1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7464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LOGISTICS AND INFO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3-05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y and share your application/deskto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dobe connect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Lucida Sans"/>
              </a:rPr>
              <a:t>  https://webconf.vc.dfn.de/r17159825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dyo desktop client has basic screen sharing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990000"/>
                </a:solidFill>
                <a:latin typeface="Lucida Sans"/>
              </a:rPr>
              <a:t>http://vidyoportal.cern.ch/flex.html?roomdirect.html&amp;key=hJyvnjcRuVLC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tretch/>
        </p:blipFill>
        <p:spPr>
          <a:xfrm>
            <a:off x="830160" y="1074600"/>
            <a:ext cx="76471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ues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Upcoming ev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8080" y="1328760"/>
            <a:ext cx="80409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9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eptember 9-11, Bucharest, R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1</a:t>
            </a:r>
            <a:r>
              <a:rPr b="0" lang="en-GB" sz="2400" spc="-1" strike="noStrike" baseline="30000">
                <a:solidFill>
                  <a:srgbClr val="990000"/>
                </a:solidFill>
                <a:latin typeface="Lucida Sans"/>
              </a:rPr>
              <a:t>st</a:t>
            </a: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 week of November: IGTF All Hands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a Plata, A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5-09T01:53:08Z</dcterms:modified>
  <cp:revision>607</cp:revision>
  <dc:subject/>
  <dc:title>European Grid Policy Management Authority</dc:title>
</cp:coreProperties>
</file>