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43F1D-2DD9-43EF-920E-D842F99F8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8E625-09F9-4511-A0F7-369749DFD6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B12DB-9695-4592-B4FE-8955362E4F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02A68-EB47-4DD9-A54F-696806A7AE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CCDA1-B31E-40A8-BF18-B1734ABA9F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8716-B805-4796-AABE-BDE580110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30C4-AF33-4416-A607-71211386B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8DD3-A00E-4725-B109-444A56F61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4641-D0D2-4F70-9331-F442B37D9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B559-99C8-4E16-ABAA-E46320FF07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EA7B-2EA4-4E76-9DD9-70967B7462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D505-80BC-4F15-9806-71C101D9A8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4929-34C3-4A97-83A5-A3C620BFFF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679C-AD79-4588-9D29-F9A204A11B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2CFE-6998-4B67-AA76-FB20A28034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BC80-EF86-414D-8BA6-E88433BA1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8F4B-F5DE-4B35-8970-99D86A745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47C9-F062-41F9-8016-38F28F0170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0376-8FF3-41F8-BE1F-449871B379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3425-5423-498C-A33A-539184DC3D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E904-7882-46CF-B2A4-7E8EC0BE8C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9E04-8D07-404E-A120-360C46E980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B1BD-C052-43BA-8B1F-FDDF002245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D507-F5F8-445B-9E27-9202E410F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908A-0BB3-49FE-946B-531ED2F14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EF11-07E6-43AF-8B5F-AC3F5F1E3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DAD5-D00A-4956-B733-40CA8C62D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621F-13CC-47E4-9E43-67B1CD2CB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7EC6-E941-4531-A4D6-EE14E6D3C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CA280-D764-4ECC-B46B-C85DF0471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7"/>
          <p:cNvGrpSpPr/>
          <p:nvPr/>
        </p:nvGrpSpPr>
        <p:grpSpPr>
          <a:xfrm>
            <a:off x="5403960" y="214200"/>
            <a:ext cx="3527280" cy="1287000"/>
            <a:chOff x="5403960" y="214200"/>
            <a:chExt cx="3527280" cy="1287000"/>
          </a:xfrm>
        </p:grpSpPr>
        <p:sp>
          <p:nvSpPr>
            <p:cNvPr id="42" name="WordArt 5"/>
            <p:cNvSpPr txBox="1"/>
            <p:nvPr/>
          </p:nvSpPr>
          <p:spPr>
            <a:xfrm>
              <a:off x="5457960" y="2142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6"/>
            <p:cNvSpPr/>
            <p:nvPr/>
          </p:nvSpPr>
          <p:spPr>
            <a:xfrm>
              <a:off x="5403960" y="8586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80C10-8050-42A1-9B8A-15E90C51D9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(with few mods by David Kelsey)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APGridPMA Meeting</a:t>
            </a:r>
            <a:br>
              <a:rPr sz="2600"/>
            </a:b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Taipei, Taiw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March 22,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SHA-2 Deployment Timeline discussion</a:t>
            </a:r>
            <a:endParaRPr b="0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members voted and di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pprove the SHA-2 timeline as described in David Groep’s e-mail of September 10, 2012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n alternate SHA-2 deployment timeline, addressing TAGPMA concerns, has been developed and is available for review at</a:t>
            </a:r>
            <a:br>
              <a:rPr sz="32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tagpma.es.net/wiki/bin/view/Main/SHA2Timelin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 and questions are welcom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6BC76-E8AA-463E-9574-173F16144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Lead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TAGPMA Memb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unication Infrastructur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Conference Call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&amp; 18 (IGTF All Hands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HA-2 Deployment Timeline discussion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D442A-E2C4-4218-97A6-55259E103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hair: Derek Simmel (PSC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immel@psc.edu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Vice Chair: Scott Rea (DigiCert + REBC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cott@DigiCert.com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retary: Ale Stolk (ULAGrid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stolk@ula.v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4B704-C89F-43AE-83BB-8FDCF37A0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39680" y="1117440"/>
          <a:ext cx="7066080" cy="538956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5892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overing Canada, US, Mexico, Venezuela, Chile, Peru, Argentina, Brazil, Colombia and Panama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12 Classic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OE Grid accredited by EUGridPMA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7 SL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x 3, FermiLabs, NERSC, PSC, NICS UTK -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– US and CILogon –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8A771-6495-4C41-BFBE-9AEBD3783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TACC retired their membership in TAGPM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As should be removed from IGTF &amp; TACAR distribution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Classic pending (SENAMHI – Peru, InCommon – U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 pending (SDSC, NCAR – US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nCommon CA (Comodo for low-cost host cer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8 Relying Partie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FNAL, OSG, XSEDE, THEgrid, LCG, REBCA, CIDETYS/UTP, redCLARA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nCommon voted in as new prospective AP member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OGF has expressed interest in membership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06791-BCCD-41CA-8241-16BC33074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static, public information &amp; profil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verhaul still way overdue </a:t>
            </a:r>
            <a:r>
              <a:rPr b="0" lang="en-US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in-process TAGPMA documents, notes, tutorials etc.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ontains agenda and minutes from monthly meeting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iling lists have been moved over to Google Apps for Education, also enabling Calendar, Docs &amp; Sit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-mail any issues direct to the Chair (dsimmel@psc.edu)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80058-D1BE-4D6B-B849-CB981B3E7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ext call will be April 10, 2013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Video arrangements: RedCLARA VC Espresso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quest for agenda items goes out ~1 week before the next cal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agenda is usually posted on tagpma-general e-mail list no later than 1 day before the meeting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1BD82-56D3-4A2A-8300-5DEE7C063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17 &amp; 18 (IGTF All Hands)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– Colorado – May 6-8, 2013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osted by the National Center for Atmospheric Research (NCAR, USA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CI meeting also taking place (7-8 May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Link to registration page is now open at </a:t>
            </a:r>
            <a:r>
              <a:rPr b="0" i="1" lang="en-US" sz="1800" spc="-1" strike="noStrike">
                <a:solidFill>
                  <a:srgbClr val="1f497d"/>
                </a:solidFill>
                <a:latin typeface="Calibri"/>
              </a:rPr>
              <a:t>http://indico.rnp.br/conferenceDisplay.py?ovw=True&amp;confId=161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8 – Argentin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dates TBD soon in October ~ November 2013 timeframe - stay tuned for a doodle poll link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18 will be the next IGTF All Hands meeting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D7B20-3770-40B1-A8E7-045005D0F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3-21T14:23:38Z</dcterms:modified>
  <cp:revision>15</cp:revision>
  <dc:subject/>
  <dc:title>PowerPoint Presentation</dc:title>
</cp:coreProperties>
</file>