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3.jpeg" ContentType="image/jpeg"/>
  <Override PartName="/ppt/media/image15.png" ContentType="image/pn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174-1153-4863-A2DF-88C59EBA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CF6-B0B2-47F7-8047-23F1F87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155-B817-4AC6-A6B5-7F8C435D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BECA-EF76-48CA-90A4-F69E06B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64F-0287-40C7-A250-02576024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02D4-0081-42F3-A851-A420132B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4ED-12D9-44B8-972B-15B48AFC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202E-CC99-495F-8592-589BC44A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9038-E0E1-421F-B148-B99B8BEF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8281-E74C-4FD8-915A-982A2965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AA6F-2503-4236-8992-EC1008B3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53D6-2A96-43CC-8D2C-7C8CE6D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BFB-9114-45D2-B43B-EE3F918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3C9-D9AF-49A7-9A1D-16C3E9D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6CB0-6934-436E-B0E0-CC36DFF1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560-A710-44DC-80AC-B4E5C76F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CC55-1CED-4989-8E76-EE32E5E8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99C-1E1D-43F6-B8E9-94A2C9B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2019-2C99-4D34-864B-19955E7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0A5A-C821-47AA-9503-4C54A19D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8E40-E271-44F8-B57A-57512157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1089-A6D6-4CFE-B413-DCDE13F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C31E-C673-4847-AB72-4B111A4B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1ADF-B3F5-405A-B41D-A00BFC27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EBF6-8504-496F-8BAE-EF61399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9871-E679-4F1B-BFB4-45B0762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C0CB-2C42-4326-A431-740EC543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26FC3-BFD4-48E3-8B3E-F10D6708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0F4-FC66-4E30-84F6-0195D1FC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644C-023F-4FAD-9C07-7F4054B0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CE6F-6D41-44BE-85B8-F40EB078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C6E3-997F-413D-9A84-0DA090C1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9839-E185-49B5-BB4B-4510D74C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82DB-13FE-4CB6-87E5-03044595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4140-B650-42B1-9AFB-15A9DFA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4E48-40E7-4AB1-8715-04AA048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91B0-41BF-451F-AAE1-8FF2D8B9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4513-C933-4BD1-9A61-0EE3C8D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F14D-51C8-422E-89B8-EF4FED28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1AA-3907-46E6-A4A0-FD729A6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BA84-5F05-4158-A30F-62831EB6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F265-FEAD-427E-B336-28CA762D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90FA-7F19-4AFD-A41B-4CD5F6F4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B30A-35DA-4E0F-B8C6-246B4825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3097-8AEB-41CD-97C3-2FD31AE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E162-05F0-43B4-8FED-E8DAE06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B2852-1913-44F3-AE0C-DFF0EA1C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64892-92F3-4AE7-850F-9E454BA2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E692-11B0-4C20-ABA2-0EAC0FC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FEA5-01ED-4DD8-BF2E-B6FE560D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B56-0808-4466-9B2A-55F6789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C8D0-B730-4A82-840A-196C30C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5E5DA-5677-4F04-BD69-B390259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4AD7-FF2C-4B98-B2B1-10F64B3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52B19-576F-4935-9909-740BBCFA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4741-81A2-470C-972C-190204F9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38A-3E9D-41EA-84EF-9536E20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841-E04D-4520-851A-B9AA652C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735-AB5F-4358-8451-206663AE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58C-6622-4D25-B995-8863A840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905D9CE9-C737-48F6-8F1B-C19880A37F8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CFDB4C24-741B-4AE1-82CE-F3399BAC74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FF3766FE-2564-4357-817D-FEADACD772F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FD01BFE-2B79-449A-A80E-2B876D68407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26BB7790-83C9-4B92-BF58-99842603A41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AB4A07C-CFB1-43B3-956D-9D2C1AA595A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F66E-6DE1-401D-AA92-471F7F2A2657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F28E5E28-DFC1-41A2-B9B8-4ED75B54530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9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A49A-739F-4440-A595-FF2F2E7F8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1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72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12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6F2-42B7-42FA-BF39-F0D67055106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7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14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C1D-346E-4370-8B57-72624B6CB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95AD-6B76-4F40-B6CB-702E5763DF5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78AA0378-0B11-4C79-BA6C-5C238B1438A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E696790B-B9EB-4F1F-9A24-FD372A4F06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59F6F59C-4A44-4D20-BAAB-76935BC00F9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31D8F2A6-FD42-441F-A9FA-9D0973120D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A3E72BAE-39B4-4EC7-9BFE-5F4FF157A9C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F5D1AE6A-E946-41CB-9735-1501E0130D5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sara, and EGI.eu O-E-15 and EGI-InSPIRE NA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529272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H:\Home\davidg\Template\Logos\EGI-logo-large01.wmf"/>
          <p:cNvPicPr/>
          <p:nvPr/>
        </p:nvPicPr>
        <p:blipFill>
          <a:blip r:embed="rId2"/>
          <a:stretch/>
        </p:blipFill>
        <p:spPr>
          <a:xfrm>
            <a:off x="6551640" y="5950080"/>
            <a:ext cx="1116000" cy="6267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H:\Home\davidg\EUGridPMA\IGTF\IGTF-logos\IGTF-logo-full.wmf"/>
          <p:cNvPicPr/>
          <p:nvPr/>
        </p:nvPicPr>
        <p:blipFill>
          <a:blip r:embed="rId3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3" descr="H:\Home\davidg\EUGridPMA\Meetings\2013-04-TAGPMA-Boulder\8F587723-C9D8-48EF-8C07-EE3053C0EF70[5].png"/>
          <p:cNvPicPr/>
          <p:nvPr/>
        </p:nvPicPr>
        <p:blipFill>
          <a:blip r:embed="rId4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07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1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7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LIVE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quirements to fulfil – mainly for RPs!</a:t>
            </a:r>
            <a:endParaRPr b="1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Date Placeholder 2"/>
          <p:cNvSpPr/>
          <p:nvPr/>
        </p:nvSpPr>
        <p:spPr>
          <a:xfrm>
            <a:off x="61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7"/>
          <p:cNvGrpSpPr/>
          <p:nvPr/>
        </p:nvGrpSpPr>
        <p:grpSpPr>
          <a:xfrm>
            <a:off x="468360" y="4011480"/>
            <a:ext cx="4390920" cy="2071800"/>
            <a:chOff x="468360" y="4011480"/>
            <a:chExt cx="4390920" cy="2071800"/>
          </a:xfrm>
        </p:grpSpPr>
        <p:pic>
          <p:nvPicPr>
            <p:cNvPr id="837" name="Picture 2" descr=""/>
            <p:cNvPicPr/>
            <p:nvPr/>
          </p:nvPicPr>
          <p:blipFill>
            <a:blip r:embed="rId1"/>
            <a:stretch/>
          </p:blipFill>
          <p:spPr>
            <a:xfrm>
              <a:off x="2843640" y="4155480"/>
              <a:ext cx="169776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Box 9"/>
            <p:cNvSpPr/>
            <p:nvPr/>
          </p:nvSpPr>
          <p:spPr>
            <a:xfrm>
              <a:off x="468360" y="4011480"/>
              <a:ext cx="4390920" cy="20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Incident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ong-term* trace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dependent from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hort-lived commun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st be revoc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e with other informatio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ning and containment hand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0"/>
          <p:cNvGrpSpPr/>
          <p:nvPr/>
        </p:nvGrpSpPr>
        <p:grpSpPr>
          <a:xfrm>
            <a:off x="250920" y="1093680"/>
            <a:ext cx="4249800" cy="2102760"/>
            <a:chOff x="250920" y="1093680"/>
            <a:chExt cx="4249800" cy="2102760"/>
          </a:xfrm>
        </p:grpSpPr>
        <p:sp>
          <p:nvSpPr>
            <p:cNvPr id="840" name="TextBox 11"/>
            <p:cNvSpPr/>
            <p:nvPr/>
          </p:nvSpPr>
          <p:spPr>
            <a:xfrm>
              <a:off x="250920" y="1093680"/>
              <a:ext cx="4249800" cy="21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ivacy and data 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ortant ‘unalienabl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ight’ for 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ion of PII amon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ice providers could allow profi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change of PII often fraught with iss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1" name="Picture 3" descr=""/>
            <p:cNvPicPr/>
            <p:nvPr/>
          </p:nvPicPr>
          <p:blipFill>
            <a:blip r:embed="rId2"/>
            <a:stretch/>
          </p:blipFill>
          <p:spPr>
            <a:xfrm>
              <a:off x="3203640" y="1165680"/>
              <a:ext cx="1153080" cy="15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13"/>
          <p:cNvGrpSpPr/>
          <p:nvPr/>
        </p:nvGrpSpPr>
        <p:grpSpPr>
          <a:xfrm>
            <a:off x="5148360" y="2143080"/>
            <a:ext cx="3781440" cy="1616040"/>
            <a:chOff x="5148360" y="2143080"/>
            <a:chExt cx="3781440" cy="1616040"/>
          </a:xfrm>
        </p:grpSpPr>
        <p:pic>
          <p:nvPicPr>
            <p:cNvPr id="843" name="Picture 4" descr=""/>
            <p:cNvPicPr/>
            <p:nvPr/>
          </p:nvPicPr>
          <p:blipFill>
            <a:blip r:embed="rId3"/>
            <a:stretch/>
          </p:blipFill>
          <p:spPr>
            <a:xfrm>
              <a:off x="7129440" y="2287080"/>
              <a:ext cx="1730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TextBox 15"/>
            <p:cNvSpPr/>
            <p:nvPr/>
          </p:nvSpPr>
          <p:spPr>
            <a:xfrm>
              <a:off x="5148360" y="2143080"/>
              <a:ext cx="3781440" cy="16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Measurement and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blication metr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age metering, 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uditing and compliance 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Box 16"/>
          <p:cNvSpPr/>
          <p:nvPr/>
        </p:nvSpPr>
        <p:spPr>
          <a:xfrm>
            <a:off x="5003640" y="4349880"/>
            <a:ext cx="41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dentity lives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n a policy ecosystem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to protect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en-GB" sz="2000" spc="-1" strike="noStrike">
                <a:solidFill>
                  <a:srgbClr val="c00000"/>
                </a:solidFill>
                <a:latin typeface="Arial"/>
              </a:rPr>
              <a:t>commensurate to their risk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7"/>
          <p:cNvGrpSpPr/>
          <p:nvPr/>
        </p:nvGrpSpPr>
        <p:grpSpPr>
          <a:xfrm>
            <a:off x="4859280" y="1093680"/>
            <a:ext cx="4064040" cy="855000"/>
            <a:chOff x="4859280" y="1093680"/>
            <a:chExt cx="4064040" cy="855000"/>
          </a:xfrm>
        </p:grpSpPr>
        <p:sp>
          <p:nvSpPr>
            <p:cNvPr id="847" name="TextBox 18"/>
            <p:cNvSpPr/>
            <p:nvPr/>
          </p:nvSpPr>
          <p:spPr>
            <a:xfrm>
              <a:off x="4859280" y="1093680"/>
              <a:ext cx="4064040" cy="8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ess Control Attribute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ique bi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ver re-assig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Picture 3" descr=""/>
            <p:cNvPicPr/>
            <p:nvPr/>
          </p:nvPicPr>
          <p:blipFill>
            <a:blip r:embed="rId4"/>
            <a:stretch/>
          </p:blipFill>
          <p:spPr>
            <a:xfrm>
              <a:off x="8504640" y="1412640"/>
              <a:ext cx="315720" cy="52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TextBox 21"/>
          <p:cNvSpPr/>
          <p:nvPr/>
        </p:nvSpPr>
        <p:spPr>
          <a:xfrm>
            <a:off x="581040" y="3305160"/>
            <a:ext cx="406224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Regulato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ed to know who you let in before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8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78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79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82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83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84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85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91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5-07T15:26:06Z</dcterms:modified>
  <cp:revision>244</cp:revision>
  <dc:subject/>
  <dc:title>Slide 1</dc:title>
</cp:coreProperties>
</file>