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6BAA2-C7CB-4A57-8087-DBBAD7171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7BF71-4726-4C94-AD3C-746921801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77ABB-5439-4A19-A29E-DDA1B051F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3954A-9294-4886-AE53-E161B3BB0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6178D-AB45-4924-A703-AD8E5394C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42EE7-52B9-403F-A53B-1F4A975F7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68EC0-6BBE-4B07-AE9D-4AE74136F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56861-36AF-4C59-8CC0-E8AA6BD72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46C98-D4A2-4549-BC01-E1CABF430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90FD1-059A-40AC-8ADD-99527BB3F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869B1-9D31-443E-BA3D-D4A574032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2B617-76BD-4686-93F0-5A6C8BA40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86715-EF09-4F4B-8E1D-1BB8AD07D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0AC30-0BF9-4A98-AED8-D0F0F201F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28B0B-A5BF-463C-8FFF-1FA32291A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7FD8-0A49-4054-9F8F-CC25808E2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B717-AAAD-4545-893E-05EEE3B7C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4CAE-0DC6-4273-8F40-6AA94F59C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97CB-B9F3-4F51-8284-17BBCC7C9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2152B-D8A1-4E0F-8DFF-8BCBCE8C30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A9B8D-A21C-497B-8167-F4D88FD300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BE807-CBE1-4622-A19D-389BAAED38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E3534-2FB8-40F2-B41B-C437CED1DD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0B013-D35C-40E8-A8C5-666DC211B0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376E-AB91-4748-99C8-705A4A16BB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2A7FD-20CC-4487-9824-3A33E2A0E0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F348-2D61-476D-BEB8-A9BF6A3D1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10FC-7CC2-4A14-9687-B93E8272CE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15600-2571-4DB8-AE7E-D18090DA74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5D6AD-F473-4F1A-BE17-D54925C2F9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8C15-2A42-4007-872F-A0B32F3C07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0D0E6-A293-428E-A551-DD90DA8717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360E-213F-460D-8D8D-461ED7A78F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A396-D8E0-4BCD-85C8-42F25E555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87C4-1B0D-4AE4-A4FC-9EA45B21F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0673-5F24-403B-905F-306818A76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06FA-3B0D-42CA-AC08-5A13DB8AC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2CE0-ECEF-4F6A-8181-79630D65C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7AB0-6A04-4406-AE43-057A6ACC2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760" y="6307200"/>
            <a:ext cx="657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0BC1F-C607-4F09-9396-0780260B41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2"/>
          <p:cNvGrpSpPr/>
          <p:nvPr/>
        </p:nvGrpSpPr>
        <p:grpSpPr>
          <a:xfrm>
            <a:off x="5403960" y="214200"/>
            <a:ext cx="3522600" cy="1287360"/>
            <a:chOff x="5403960" y="214200"/>
            <a:chExt cx="3522600" cy="1287360"/>
          </a:xfrm>
        </p:grpSpPr>
        <p:sp>
          <p:nvSpPr>
            <p:cNvPr id="42" name="WordArt 3"/>
            <p:cNvSpPr txBox="1"/>
            <p:nvPr/>
          </p:nvSpPr>
          <p:spPr>
            <a:xfrm>
              <a:off x="5457960" y="214200"/>
              <a:ext cx="217620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4"/>
            <p:cNvSpPr/>
            <p:nvPr/>
          </p:nvSpPr>
          <p:spPr>
            <a:xfrm>
              <a:off x="5403960" y="858960"/>
              <a:ext cx="352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760" y="6356160"/>
            <a:ext cx="657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65C8C-B8B2-4DD2-BE62-C37C5EAEBB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ovw=True&amp;confId=17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Derek Simmel &amp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Alejandra Stol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ae00"/>
                </a:solidFill>
                <a:latin typeface="Calibri"/>
              </a:rPr>
              <a:t>EUGridPMA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Buchares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Sep 9th, 201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833480" y="63360"/>
            <a:ext cx="6853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c0504d"/>
                </a:solidFill>
                <a:latin typeface="Calibri"/>
              </a:rPr>
              <a:t>Current wor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731880" y="1317600"/>
            <a:ext cx="795492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9C6AF-1597-45AD-A193-418D65BB1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36440" y="1397160"/>
            <a:ext cx="895356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2) InCommon CA CPS evaluation completed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ote to ACCEPT/DECLINE for accreditation currently under way via e-mail vote (due Sept. 11, 201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3) IGTF All Hands Meeting scheduled for November 6-8, 2013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ed by UNLP in La Plata, Argentina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ference details available 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1560" indent="-2271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ea typeface="ＭＳ Ｐゴシック"/>
                <a:hlinkClick r:id="rId1"/>
              </a:rPr>
              <a:t>http://indico.rnp.br/conferenceDisplay.py?ovw=True&amp;confId=17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raft agenda to be added shortly - suggestions welcom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317600"/>
            <a:ext cx="822960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Lead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TAGPMA Memb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unication Infrastruc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Conference Ca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meeting is TAGPMA 18 (IGTF All Hand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wor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075BC-14D2-4974-9B75-397038F37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457200" y="1317600"/>
            <a:ext cx="82296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air: Derek Simmel (PS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simmel@psc.ed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ce Chair: Scott Rea (DigiCert + REBC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cott@DigiCert.co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retary: Ale Stolk (ULAGri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stolk@ula.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FCD99-F009-496B-9524-816AAF5B4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039680" y="1143000"/>
          <a:ext cx="7067520" cy="5454720"/>
        </p:xfrm>
        <a:graphic>
          <a:graphicData uri="http://schemas.openxmlformats.org/drawingml/2006/table">
            <a:tbl>
              <a:tblPr/>
              <a:tblGrid>
                <a:gridCol w="1667160"/>
                <a:gridCol w="1655640"/>
                <a:gridCol w="2160720"/>
                <a:gridCol w="1584000"/>
              </a:tblGrid>
              <a:tr h="317520"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co Martin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Text Box 106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317600"/>
            <a:ext cx="822960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5 Members from North, Central and South Americ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vering Canada, US, Mexico, Venezuela, Chile, Peru, Argentina, Brazil, Colombia and Panama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1 IGTF Accredited CA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2 Classic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igiCert(2) – US, UFF BrGrid &amp; UFF LACGrid - Brazil, ANSPGrid – Brazil, UNLPGrid - Argentina, REUNA – Chile, ULAGrid – Venezuela, GridCanada, UNAM – Mexico, UNIANDES - Colombia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OE Grid accredited by EUGridP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7 SLC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x 3, FermiLab, NERSC, PSC, NICS UTK - U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– US and CILogon – U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D0120-1EFF-4735-B568-1264A4FD6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1317600"/>
            <a:ext cx="82296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4 CA accreditations in-proces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Classic pending (SENAMHI – Peru, InCommon – U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 pending (SDSC, NCAR – US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CA (Comodo for low-cost host cert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7 Relying Part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CIDETYS/UTP, FNAL, LCG, OSG, REBCA, redCLARA, XSED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ew memb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voted in as new prospective AP memb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GF has expressed interest in membershi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terest expressed (again) by Ecuador and Costa Rica in becoming AP member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EC2C0-ABF4-4358-A3CB-A90787F5B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7200" y="13176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static, public information &amp; profi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verhaul still way overdue </a:t>
            </a:r>
            <a:r>
              <a:rPr b="0" lang="en-US" sz="20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in-process TAGPMA documents, notes, tutorials 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tains agenda and minutes from monthly meet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-mail any issues direct to the Chair (dsimmel@psc.edu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CCA34-4729-41BB-B74C-66ABA25F0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" y="1317600"/>
            <a:ext cx="822960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egular Video Conference Calls are now Monthly, at 12noon Eastern (US) time on the 2nd Wednesday of each month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call will be September 11, 201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deo arrangements: RedCLARA VC Espresso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quest for agenda items goes out ~1 week before the next cal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agenda is usually posted on tagpma-general e-mail list no later than 1 day before the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2B238-CE64-412B-B809-B9BC4F33C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833480" y="63360"/>
            <a:ext cx="6853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c0504d"/>
                </a:solidFill>
                <a:latin typeface="Calibri"/>
              </a:rPr>
              <a:t>Current wor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457200" y="1317600"/>
            <a:ext cx="8229600" cy="58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AEDB6-3BE5-4A4B-98C0-31A824C35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58840" y="1371600"/>
            <a:ext cx="84963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Updated MICS profile to (v.1.3) add the following statement in Section 3.1 </a:t>
            </a:r>
            <a:r>
              <a:rPr b="0" i="1" lang="en-US" sz="2000" spc="-1" strike="noStrike">
                <a:solidFill>
                  <a:srgbClr val="1f497d"/>
                </a:solidFill>
                <a:latin typeface="Calibri"/>
              </a:rPr>
              <a:t>Identity vetting rules for the primary identity management system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"On the Kantara Initiative Identity Assurance Framework Levels of Assurance scale [Kantara2010], Assurance Level 2 and higher are considered sufficient for MICS PKI identity vetting."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with the referenc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Kantara2010]  Glade, B. (Ed.). “Identity Assurance Framework: Assurance Levels” Version 2.0 24 April 2010. Kantara Initiative. http://kantarainitiative.org/confluence/download/attachments/41649275/Kantara+IAF-1200-Levels+of+Assurance.pd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3-01-14T06:34:15Z</cp:lastPrinted>
  <dcterms:modified xsi:type="dcterms:W3CDTF">2013-09-09T02:42:02Z</dcterms:modified>
  <cp:revision>23</cp:revision>
  <dc:subject/>
  <dc:title>PowerPoint Presentation</dc:title>
</cp:coreProperties>
</file>