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4B43B4A3-439F-46E4-B52C-015FCD8705F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000C630B-E5AE-42EB-B898-7415EEE0561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6E578847-94E5-4873-BF32-D7BE15BB5B2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2DA19B35-1754-46BE-BBA3-C90DCC93A5D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A2CB37B7-F529-4929-8900-B65FC3B0F3D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B41D277F-33E6-4B3E-A0CA-769DEA43EB9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D5BCA194-F054-4CC8-9E09-9CED36CC858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22B69BC5-4C9B-47E2-A63C-AF66EDEBF79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207A0047-E2E8-4CA2-B6AF-CA5AE069453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6B3EAC2B-8EBE-49A2-8B9E-019D18B3D7F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2E15882F-9EFB-44C8-8494-B707F2CAA2B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2A809D83-0D38-4B71-A4FC-59CB2F3A0F7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A888CB73-9E3F-4A83-867D-90F27689CCF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IOTA Questions for RPs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Sept 9, 2013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Bucharest, Romania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TechWednesday topic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 certificate renewal guidance (serial number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esting possibilities for production use;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RP questionnaire (cntd);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hiding certificates from end-users and increased use of credential repos;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progress on the IGTF test suite construction;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preparation for the IGTF All Hands;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EGI TF session on identity management requirements;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Basic Premis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Subject names must be globally uniqu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Subject names must be persistent (for the life time of the authority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It’s about people and robo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Naming of IOTA subjects must be different from other profil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IOTA Questions for RP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838080" y="1295280"/>
            <a:ext cx="830592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Do the RPs/RCs need the ‘real name’ of the person the certificate subject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Is it enough to be able to ask another entity to give you the name (e.g. the VO, community, other site or central LDAP)?</a:t>
            </a:r>
            <a:br>
              <a:rPr sz="1800"/>
            </a:b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What assurance level do you expect from this 3</a:t>
            </a:r>
            <a:r>
              <a:rPr b="0" lang="en-GB" sz="1800" spc="-1" strike="noStrike" baseline="30000">
                <a:solidFill>
                  <a:srgbClr val="000066"/>
                </a:solidFill>
                <a:latin typeface="Lucida Sans"/>
              </a:rPr>
              <a:t>rd</a:t>
            </a: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 party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Do you need this information up-front (before or at use time)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Do you need this information at end (e.g. for accounting)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or It is sufficient to be able to ask an entity to contact the user on your behalf (like a privacy service)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Should pseudonyms be clearly identifiable (e.g. if they look like a name they should be the real name)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Lucida Sans"/>
              </a:rPr>
              <a:t>The email use case will not work: since emailAddress must be embedded in the SAN, but the mail will be pseudonymous as well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IOTA AP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Vetting assurance level and responsibilit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Given that the name may be a pseudonym and is weakly verified, do you (RP, community) have the mechanisms in place to strongly identify the real user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hould we enforce obfuscated naming for all subjects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How will you (RP, VO) deal with ‘identity spoofing’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How do you currently enrol users in the community? Do you use or rely on the commonName of the subject for adding people to your databases (or get a ‘warm fuzzy’ feeling in association with e.g. unsigned email)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racability by the VO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re you set up to provide traceability for your users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Do you have means and procedures for incident response and mitigation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Auditability, traceability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ccess to the user information by RP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Do you insist that the collection of this data is verifiable?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Should the chain of processes be documented?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Should the chain of processes be audited periodically (expensive!)?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Should the chain be auditable? Or contract/sanction-based?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A user may and will have many credentials and changing names: does this pose issues?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Do you expect e.g. the community to provide a real name up-front with every access request (e.g. in a VOMS generic attribute)?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Do the RPs (RCs) need to be able to independently trace the user without involving the user community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Can a registration mechanism, retrievable or callable by the RP, satisfy this requirement (e.g. like the EGEE CIC portal having an ability to send email to the owner of a DN)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Do the RPs need to be able to trace without involving the CA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Which are the ‘emergency cases’ where they expect CA involvement in tracing or contacting subscribers?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Incident respons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Do RPs/RCs expect the CA to be involved in incident response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What is an incident where you expect CA involvement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What is the level of involvement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Do you see a classification of incidents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If there are up-stream IdPs, are you ‘happy’ with just the CA response even if upstream does not participate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Do you expect more than pure credential revocation in case of demonstrable credential compromise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Do you see the CA more than a fall back to point to in case LEA comes after you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Do you expect/prefer suspension possibilities? Do you have this capability at the RP level (through authorization)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Can you get by with just your own response capability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3-09-11T08:13:17Z</dcterms:modified>
  <cp:revision>622</cp:revision>
  <dc:subject/>
  <dc:title>European Grid Policy Management Authority</dc:title>
</cp:coreProperties>
</file>