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1BB9006-C0F8-4E64-8939-A56519AF3F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9A2863E-25E2-4AA3-9A72-E18DB6E127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D7524E2C-7AA1-4067-B6A1-C74CB3C9683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831F9079-9440-4113-93A0-55067725F30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AB9F7C58-F870-4F6B-9C15-877EC9C94AA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A3B9EFF3-7627-40DD-BC6D-8C84C69DF79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C7C1A875-C9F3-42F3-9FE6-1F391D71593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CEC2963A-EB2F-4A61-930E-102241FF894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CF8E3FF-D494-4A36-B404-721EA801F22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74C7DA98-1B1D-4D28-B1D2-74E95D9661E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BCC4501-BF49-4EFB-A54C-2BF5A41C5E6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DA34CCEB-3A3B-419C-9EBF-6AAF6F76E35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C7D572FD-2ABE-402B-86F1-266B563CE41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IOTA Questions for RP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9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Bucharest, Roman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TechWednesday topic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 certificate renewal guidance (serial number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esting possibilities for production use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 questionnaire (cntd)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iding certificates from end-users and increased use of credential repo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gress on the IGTF test suite construction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paration for the IGTF All Hand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GI TF session on identity management requirements;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Basic Premis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globally uniqu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persistent (for the life time of the authorit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t’s about people and robo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Naming of IOTA subjects must be different from other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Questions for RP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/RCs need the ‘real name’ of the person the certificate subjec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s it enough to be able to ask another entity to give you the name (e.g. the VO, community, other site or central LDAP)?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assurance level do you expect from this 3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party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up-front (before or at use ti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at end (e.g. for accounting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or It is sufficient to be able to ask an entity to contact the user on your behalf (like a privacy servic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Should pseudonyms be clearly identifiable (e.g. if they look like a name they should be the real na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Lucida Sans"/>
              </a:rPr>
              <a:t>The email use case will not work: since emailAddress must be embedded in the SAN, but the mail will be pseudonymous as wel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Vetting assurance level and responsibil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iven that the name may be a pseudonym and is weakly verified, do you (RP, community) have the mechanisms in place to strongly identify the real user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enforce obfuscated naming for all subject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will you (RP, VO) deal with ‘identity spoofing’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do you currently enrol users in the community? Do you use or rely on the commonName of the subject for adding people to your databases (or get a ‘warm fuzzy’ feeling in association with e.g. unsigned email)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racability by the V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re you set up to provide traceability for your user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you have means and procedures for incident response and mitigation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uditability, traceabil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ccess to the user information by R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insist that the collection of this data is verifiable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document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audited periodically (expensive!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be auditable? Or contract/sanction-bas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A user may and will have many credentials and changing names: does this pose issue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expect e.g. the community to provide a real name up-front with every access request (e.g. in a VOMS generic attribute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(RCs) need to be able to independently trace the user without involving the user commun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n a registration mechanism, retrievable or callable by the RP, satisfy this requirement (e.g. like the EGEE CIC portal having an ability to send email to the owner of a DN)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need to be able to trace without involving the CA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Which are the ‘emergency cases’ where they expect CA involvement in tracing or contacting subscriber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ncident respons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RPs/RCs expect the CA to be involved in incident respons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an incident where you expect CA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the level of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a classification of incidents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f there are up-stream IdPs, are you ‘happy’ with just the CA response even if upstream does not participat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 more than pure credential revocation in case of demonstrable credential compromis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the CA more than a fall back to point to in case LEA comes after you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/prefer suspension possibilities? Do you have this capability at the RP level (through authorization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Can you get by with just your own response capabil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9-11T08:13:17Z</dcterms:modified>
  <cp:revision>622</cp:revision>
  <dc:subject/>
  <dc:title>European Grid Policy Management Authority</dc:title>
</cp:coreProperties>
</file>