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0BD00-42A0-43A2-891F-30BF353B0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8E6E6-DDBF-4B04-A882-EF78254E3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5C76F-6F56-4B54-844B-24EFCA22D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F498F-B7EB-4F29-9F4A-86CA8B5AF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AE83C-B5FD-49C6-BDB5-87B1341CF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F4A81-0CA8-4A32-B89F-33CE9A4A9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792F0-E7D5-4C64-A11F-3AE83898B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5EFDF-3139-4CA8-A496-55C25B32C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854BA-2FB3-4EBB-97F1-0157AC929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7686C-2314-43DC-8025-91FC1BAB3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2520A-942E-4F57-91EA-8C6C683FF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994A3-056D-4554-AF54-E524FF03A2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BF3F5-5E85-4030-946F-E0A8DBF32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688EB-F3D4-43BC-A29D-F753F4150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7BE97-1108-4DCE-A13A-3134B4C011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4BAA-AA0F-48F4-ADBE-AD23A7720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A978-7DC5-4605-85D6-C47323CDA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85D37-6EA2-43CB-8C39-2E4A032E77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87DC1-4DB1-4919-A078-C608F2F56D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74618-5882-4DC2-A7A5-9001088323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5FE1C-70A0-4E60-91A7-CA8DD42EF2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46EE6-94C3-42E3-A828-914B372590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4839F-BC69-477C-BB32-6ECEC4E61B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3FB86-52FA-49D7-9083-B71D45DA43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7E8D8-B485-4F35-BA5C-A0968E9AFD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23DE-25FC-410C-9BCD-0403D0D63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83F00-B84C-460D-9823-1770EF788E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A4F9E-8188-4B9A-8A1B-10769DC914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2A7DF-22E3-4677-BA66-2CBED4B7F9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E7BE3-BB8E-4B22-92A9-7FD6BFC2B3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61830-13A4-4C89-874D-554BFFA8263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3DF57-25EF-42FC-BAFF-5A22C13AF5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93EAE-3E4D-43EE-9C18-ABF446C62F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17E5F-80CF-4CA1-B2CE-C97C693B6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3B1C9-7CEE-4F7C-9FF5-51A0F41AE6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B9DAF-54D2-4D0B-97E8-F45ABB47E9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4BF75-E1A1-4BFB-B045-01C3C8ED9F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1F6B1-249A-4A76-B30F-990E8FA69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24760" y="6307200"/>
            <a:ext cx="657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77544-B123-41F1-A2E2-5478102780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grpSp>
        <p:nvGrpSpPr>
          <p:cNvPr id="41" name="Group 2"/>
          <p:cNvGrpSpPr/>
          <p:nvPr/>
        </p:nvGrpSpPr>
        <p:grpSpPr>
          <a:xfrm>
            <a:off x="5403960" y="214200"/>
            <a:ext cx="3522600" cy="1287360"/>
            <a:chOff x="5403960" y="214200"/>
            <a:chExt cx="3522600" cy="1287360"/>
          </a:xfrm>
        </p:grpSpPr>
        <p:sp>
          <p:nvSpPr>
            <p:cNvPr id="42" name="WordArt 3"/>
            <p:cNvSpPr txBox="1"/>
            <p:nvPr/>
          </p:nvSpPr>
          <p:spPr>
            <a:xfrm>
              <a:off x="5457960" y="214200"/>
              <a:ext cx="2176200" cy="64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" name="Text Box 4"/>
            <p:cNvSpPr/>
            <p:nvPr/>
          </p:nvSpPr>
          <p:spPr>
            <a:xfrm>
              <a:off x="5403960" y="858960"/>
              <a:ext cx="352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he Americas Grid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024760" y="6356160"/>
            <a:ext cx="657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0B4966-2A37-419B-95C9-2ED19A8309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898989"/>
                </a:solidFill>
                <a:latin typeface="Calibri"/>
              </a:rPr>
              <a:t>Derek Simmel</a:t>
            </a:r>
            <a:br>
              <a:rPr sz="3200"/>
            </a:br>
            <a:r>
              <a:rPr b="0" lang="es-VE" sz="3200" spc="-1" strike="noStrike">
                <a:solidFill>
                  <a:srgbClr val="898989"/>
                </a:solidFill>
                <a:latin typeface="Calibri"/>
              </a:rPr>
              <a:t>(delivered by David [Groep|Kelsey]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250920" y="4941720"/>
            <a:ext cx="871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ae00"/>
                </a:solidFill>
                <a:latin typeface="Calibri"/>
              </a:rPr>
              <a:t>31</a:t>
            </a:r>
            <a:r>
              <a:rPr b="0" lang="en-GB" sz="2200" spc="-1" strike="noStrike" baseline="30000">
                <a:solidFill>
                  <a:srgbClr val="00ae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ae00"/>
                </a:solidFill>
                <a:latin typeface="Calibri"/>
              </a:rPr>
              <a:t> EUGridPMA Meet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Tartu, Estoni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May 14, 2014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Upcoming TAGPMA F2F Meetings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19 (Lehi, Utah)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June 4-6, 2014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hosted by DigiCert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http://indico.rnp.br/conferenceDisplay.py?confId=190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20 (Valparaiso, Chile)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October 20-22, 2014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o-located with CARLA conference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http://indico.rnp.br/conferenceDisplay.py?confId=191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http://carla2014.hpclatam.org/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457200" y="1317600"/>
            <a:ext cx="822960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Overview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GPMA Leadershi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urrent TAGPMA Membershi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ws and Current wor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mmunication Infrastruc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GPMA Conference Cal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pcoming Face to face meetings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GPMA 19 (Lehi, Utah) June 4-6, 2014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ttp://indico.rnp.br/conferenceDisplay.py?confId=19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GPMA 20 (Valparaiso, Chile) Oct. 20-22, 2014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ttp://indico.rnp.br/conferenceDisplay.py?confId=19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located with CARLA confere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ttp://carla2014.hpclatam.org/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C2482-FE8B-46E4-B266-C6938796C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Lead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457200" y="1317600"/>
            <a:ext cx="82296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urrent Offic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hair: Derek Simmel (PS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simmel@psc.edu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* Chair for Latin America: Ale Stolk (ULAGrid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stolk@ula.v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ordinates activities with Spanish-speaking partners and members and leads TAGPMA </a:t>
            </a:r>
            <a:r>
              <a:rPr b="0" i="1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spañol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meeting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ice Chair: Scott Rea (DigiCert + REBC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cott@DigiCert.co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ecretary: TBD - Ale Stolk (ULAGrid) in interi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* Webmaster: TB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*new posi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0DFAE-E435-4B40-A441-AE9D5F92B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039680" y="990720"/>
          <a:ext cx="7067520" cy="5659200"/>
        </p:xfrm>
        <a:graphic>
          <a:graphicData uri="http://schemas.openxmlformats.org/drawingml/2006/table">
            <a:tbl>
              <a:tblPr/>
              <a:tblGrid>
                <a:gridCol w="1667160"/>
                <a:gridCol w="1655640"/>
                <a:gridCol w="2160720"/>
                <a:gridCol w="1584000"/>
              </a:tblGrid>
              <a:tr h="316440">
                <a:tc>
                  <a:txBody>
                    <a:bodyPr lIns="90000" rIns="90000" tIns="72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resentat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/R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Ce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idCanad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d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ger Imp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628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BDS ANS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gio Liett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omm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628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A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ve Bea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R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reyas Choli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 Wynkoo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ek Simme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dra Jaqu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Saka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AMH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rardo Jaco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od Rebell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AGri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jandra Stol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xic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el Quinter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AND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res Holgui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L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ula Venos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DETYS / UT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a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rube Urrio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N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hiva Murugananth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win Gain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G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an Sil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B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CLA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/LA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is A. Núñez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92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LC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tzerl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ve Kels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SE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Marstell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2" name="Text Box 106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317600"/>
            <a:ext cx="8229600" cy="57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26 Members from North, Central and South Americ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vering Argentina, Brazil, Canada, Chile, Colombia, Mexico, Panama, Peru, U.S.A. and Venezuela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22 IGTF Accredited C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3 Classic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rgentina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LPGri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Brazil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FF BrGrid &amp; UFF LACGrid, ANSPGri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anada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ridCanad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hile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U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lombia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IANDE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exico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A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.S.A.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igiCert(2), DOEGrid (EUGridPMA), InComm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enezuela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LAGrid UNA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7 SLC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.S.A.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CSA (3), FermiLab, NERSC, PSC, NICS UTK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MIC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.S.A.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CSA, InComm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9865A-CD2C-47F9-9035-A15CE165A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5 CA accreditations in-proces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 Classic pending CP/CPS (SENAMHI – Peru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MICS pending CP/CPS (SDSC, NCAR – US)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Common CA – Operational Review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ILogon BASIC CA – (IOTA) – Operational Review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9 Relying Parti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(CIDETYS/UTP, ESNet, FNAL, LCG, OGF, OSG, REBCA, redCLARA, XSEDE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SNet moved from AP to RP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Prospective member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cuador and Costa Rica in becoming AP member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hio Supercomputer Center CA for State of Ohio K-12/Univ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6CA4B-821E-4471-89AD-60062A154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457200" y="1317600"/>
            <a:ext cx="822960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05E26-323A-4D19-BB3B-EF1546654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58840" y="1371600"/>
            <a:ext cx="84963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News and Current Work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OTA Profile 1.1 approved by TAGPMA members for use in accreditation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8139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ILogon BASIC CA is first candidat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434160" indent="-43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AGPMA </a:t>
            </a:r>
            <a:r>
              <a:rPr b="0" i="1" lang="en-US" sz="2400" spc="-1" strike="noStrike">
                <a:solidFill>
                  <a:srgbClr val="1f497d"/>
                </a:solidFill>
                <a:latin typeface="Calibri"/>
              </a:rPr>
              <a:t>Español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meetings launched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8139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panish language monthly cal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8139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0" lang="en-US" sz="2000" spc="-1" strike="noStrike" baseline="30000">
                <a:solidFill>
                  <a:srgbClr val="1f497d"/>
                </a:solidFill>
                <a:latin typeface="Calibri"/>
              </a:rPr>
              <a:t>st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Tuesday each Month, 14:00 UTC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8139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http://dev1.redclara.net/sivicv2/8/23982 web conferenc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8139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Ale Stolk (new Chair for Latin America) leading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434160" indent="-43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o-do List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8139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Nominations accepted for TAGPMA officers (next 2-year term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8139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Ongoing Accreditations, Membership renewals, website overhaul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8139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Drafting guidance documentation for developers and sysadmin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94480" indent="-434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opics include SHA-2 compliance and profile updat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ommunication Infrastructu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457200" y="1317600"/>
            <a:ext cx="8229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GTF Website http://www.igtf.n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AGPMA Website http://www.tagpma.or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sts static, public information &amp; profil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verhaul still way overdue </a:t>
            </a:r>
            <a:r>
              <a:rPr b="0" lang="en-US" sz="2000" spc="-1" strike="noStrike">
                <a:solidFill>
                  <a:srgbClr val="1f497d"/>
                </a:solidFill>
                <a:latin typeface="Wingdings"/>
                <a:ea typeface="Wingdings"/>
              </a:rPr>
              <a:t>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AGPMA twiki 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ttp(s)://tagpma.es.net/wiki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sts in-process TAGPMA documents, notes, tutorials etc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ntains agenda and minutes from monthly meeting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Mailing lists tagpma-general, tagpma-privat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ailing lists have been moved over to Google Apps for Education, also enabling Calendar, Docs &amp; Sit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-mail any issues direct to the Chair (dsimmel@psc.edu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16CAD-A65F-4A4E-BEFC-B2D43B5F4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Conference Cal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457200" y="1317600"/>
            <a:ext cx="822960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English Video Conference Calls are Monthly, at 12:00 noon Eastern (US) time on the 2</a:t>
            </a:r>
            <a:r>
              <a:rPr b="0" lang="en-US" sz="2400" spc="-1" strike="noStrike" baseline="30000">
                <a:solidFill>
                  <a:srgbClr val="1f497d"/>
                </a:solidFill>
                <a:latin typeface="Calibri"/>
              </a:rPr>
              <a:t>nd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Wednesday of each month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xt call after June TAGPMA 19 F2F will be July 9, 2014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ideo arrangements: RedCLARA VC Espress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quest for agenda items goes out ~1 week before the next cal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he agenda is usually posted on tagpma-general e-mail list no later than 1 day before the meet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Spanish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Video Conference Calls are Monthly, at 14:00 UTC time on the 1</a:t>
            </a:r>
            <a:r>
              <a:rPr b="0" lang="en-US" sz="2400" spc="-1" strike="noStrike" baseline="30000">
                <a:solidFill>
                  <a:srgbClr val="1f497d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Tuesday of each month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xt call after June TAGPMA 19 F2F will be July 1, 2014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ideo arrangements: RedCLARA VC Espress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quest for agenda items goes out ~1 week before the next cal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he agenda is usually posted on tagpma-general e-mail list no later than 1 day before the meet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ll IGTF members and prospective TAGPMA members are welcome to attend our TAGPMA meetings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B34FA-19EF-462F-B0A2-4C7082186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04:52:24Z</dcterms:created>
  <dc:creator>Derek Simmel</dc:creator>
  <dc:description/>
  <dc:language>en-US</dc:language>
  <cp:lastModifiedBy>Derek Simmel</cp:lastModifiedBy>
  <cp:lastPrinted>2014-05-13T19:53:09Z</cp:lastPrinted>
  <dcterms:modified xsi:type="dcterms:W3CDTF">2014-05-13T19:54:21Z</dcterms:modified>
  <cp:revision>39</cp:revision>
  <dc:subject/>
  <dc:title>PowerPoint Presentation</dc:title>
</cp:coreProperties>
</file>