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A6C2C1-F748-4D50-8874-8B8BA2DCC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9070E1-D178-41ED-A93A-F8D2E039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29E8AA7B-FCCB-48B8-A5CF-9DF272864CE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9BA60884-2216-4C18-B783-66917D8BB61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C28C363C-85D5-41BE-AAA6-5BD2C1B529C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1F7AF5D4-D246-4CB7-9F4F-2D974D9D8F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FA24B2D0-A4E8-42B2-9E42-92E7EDFF53F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F091BD7-01C9-4155-9F20-84CDDBBBF68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36E2CF96-07A6-4E60-8790-CEB3F183057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78181FFB-0321-4B3B-B28E-02DCF75282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622B9326-9DAB-460F-AB4D-6D9C0718E00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2AA4E26-C860-45C3-9135-48CBE1CC0793}"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0650E32-0941-4221-BCFA-A67DCD44E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87157190-6F98-4C57-969E-835810AB4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8ED5E75-938F-476B-A48B-342251240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8B97391F-0BB3-402D-B4BC-F579FE36A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CBE3D027-4671-48BA-B74D-4AB16C17C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F8422EF5-774C-42FE-882A-0960FB4644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3C9711DB-9E86-4B06-B740-32442C214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7983B1BF-923B-484A-9894-2614D09E8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74439C4A-D703-4FA9-81A0-97F5ADF52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ED318EB3-9DE2-4702-9DC8-9A6E15B2E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3D4E1401-DB46-48BD-BDBF-60CAF35E4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678DC3-4C2D-4B21-80B5-4DDEF18C9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B4D1873B-F463-41D2-AD84-6EDE48AAFDD2}"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4636B3-3193-4C33-87A3-7DD20A413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19B229-C45D-4E6C-9329-4343368C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70D486-F600-4333-AF86-5EFD2F18E42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BBEAE01-2CA4-481A-84B2-8FD06D105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BF4083B-FD48-476D-BAFE-1D1E45043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413221-E85B-4BB2-8DC4-5869A28A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AA20F80-02C7-408B-912C-B8FDD63D7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510C9C0-527F-495A-9205-97E4A18A3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36493A9-A6B1-4B9A-9C2C-102B5838E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41CFFB7-990F-43E6-8E50-FF411EA0D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9374329-5D0A-49A3-95F6-AF8FEA71D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07CA966-4618-4752-BE7E-7EEC8DBB2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E97DE77-A39A-4F69-9F1E-0F093ED3F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E3894935-D341-4899-9ED7-C675941B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572EB84-6185-4B0C-A17B-1AF0AA8207E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FCE881-C793-455C-94EB-82448FDBC42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C9AF21-A802-4E99-9812-EAC314F3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33B6693C-8893-4139-A9C7-B300786947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A3502371-F63E-4F63-AC6B-0289351990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D34E9C58-40AA-44A6-BAF5-7E01698FF0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B6FE0DD7-6AB7-4158-A770-7B6213972F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DE8F1949-5B77-4EF0-AB97-66679ADF63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42F79BC9-D4B4-4704-9A58-7A994A050C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9A145842-B8F1-4663-BB94-E2B2EF6514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1DC9F12-05DA-4ACF-B494-DDDF659774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4BCC8B4D-0788-42C1-9D93-D29CEA31D3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9AB374EB-4532-424B-B05E-83E7D5D916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8C4499-3A34-466E-AD1B-EA0BBA7E1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2E5FD96A-6D5A-4979-A91B-59EE38DECCC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0269BA-590F-4E9A-BFB1-9FBBB837E85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C9DEA1A-C9D0-4613-8AEE-5A3E67CC491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2CECCE2-173F-4084-9650-655123E6755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74DA4E68-E90E-4EF3-9AEA-B0C168FAEBE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8EA7C7A4-5424-45CD-9224-FACCE5C399C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338E4FAF-1BB1-493D-A153-8747C6CC442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E267743C-6733-40E4-BFB6-0F695B7EBA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3BFA4BA-285C-463B-8FB2-CAE2ADDFFC1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468C70DC-20E6-42EE-AFE0-186D6335B93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18F2E4-9C17-40BB-BD78-DA1588EB7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F6C174A3-7AC9-4994-AAFB-A493DF1D921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DB229A8A-EDAF-4A56-90E7-F5E1494C70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B39E0F1E-9EBC-46A7-B573-B0514875C02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8B49B0A-D699-45DE-9771-AA43D7003E3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C97BDF9A-9624-4030-B7A5-BD054F88D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825CE05F-C8B5-43A2-8D60-B75285661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67CF91E2-3AF3-4F0E-BA2B-D9F44962F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D85A0E5E-0597-4AC3-BF1E-ABEC0D562D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F0BB6A4B-069F-47B0-9715-7A1D71FF7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E3B90CB9-B6B7-44D4-B11F-3805DB49D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AA72CF-189A-4FEA-BBF4-7710C0CB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04815B6C-C932-49EC-AB42-8E4348368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3E8833A8-9117-43E0-9E62-04628477F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014365DE-18F6-4F7A-BFE6-A5870D681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BE9FB0FD-3D8B-4663-B075-82C35A959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C30F893B-498D-4063-9CFA-D50F2271AA7F}"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E85CFF-9957-44DF-81BE-340E717F2268}"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99A2B189-EBA6-46EE-8A1C-7414640BDB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4BB108DD-31FB-49AD-89C1-9A494F55EB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1B4AB490-FDF4-42CB-91DC-3622093F96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3"/>
          </p:nvPr>
        </p:nvSpPr>
        <p:spPr/>
        <p:txBody>
          <a:bodyPr/>
          <a:p>
            <a:fld id="{DA5CAA97-246F-4119-BB87-9C6A7514A5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29379F-BCE1-4376-923C-09E09140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4E3B2CE4-9556-4284-B37D-317E77BEC68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51547DE0-9F5D-47FC-92DC-0AF663A7FB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4CF51771-C525-4C9A-A455-015C772A93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BB5FF737-F6FD-4C6A-B0F7-54B66A65B2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5624DAA8-262B-4880-A191-54B17BAF21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97A6B2F9-6386-43FF-B79D-D8DFECE47E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6050B7F0-A1B3-48EA-8F0E-20C1DC0D8480}"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B02C91B-4CD5-47CE-B404-816744EFDBBA}"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FE8A8CC0-CD9B-4348-A4CC-8D71ACFE089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88FD308D-7562-45FF-B0EF-FDBACC2A7E50}" type="slidenum">
              <a:t>&lt;#&gt;</a:t>
            </a:fld>
          </a:p>
        </p:txBody>
      </p:sp>
      <p:sp>
        <p:nvSpPr>
          <p:cNvPr id="5" name="PlaceHolder 4"/>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A80DE-2096-4597-90FF-C275C63DD1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7" descr="Slide Master Background - Content Page.jp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6"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DD99D-DB71-43EB-98CE-179741DC76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Slide-Master-Background---Title-Page.jpg"/>
          <p:cNvPicPr/>
          <p:nvPr/>
        </p:nvPicPr>
        <p:blipFill>
          <a:blip r:embed="rId2"/>
          <a:stretch/>
        </p:blipFill>
        <p:spPr>
          <a:xfrm>
            <a:off x="0" y="0"/>
            <a:ext cx="9144000" cy="6858000"/>
          </a:xfrm>
          <a:prstGeom prst="rect">
            <a:avLst/>
          </a:prstGeom>
          <a:ln w="0">
            <a:noFill/>
          </a:ln>
        </p:spPr>
      </p:pic>
      <p:sp>
        <p:nvSpPr>
          <p:cNvPr id="42" name="TextBox 4"/>
          <p:cNvSpPr/>
          <p:nvPr/>
        </p:nvSpPr>
        <p:spPr>
          <a:xfrm>
            <a:off x="1676520" y="6545160"/>
            <a:ext cx="58165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Arial"/>
              </a:rPr>
              <a:t>sales@digicert.com                 www.digicert.com                 +1 (801) 877-2100</a:t>
            </a:r>
            <a:endParaRPr b="0" lang="en-US" sz="11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5" name="" descr=""/>
          <p:cNvPicPr/>
          <p:nvPr/>
        </p:nvPicPr>
        <p:blipFill>
          <a:blip r:embed="rId3"/>
          <a:stretch/>
        </p:blipFill>
        <p:spPr>
          <a:xfrm>
            <a:off x="1509840" y="5902200"/>
            <a:ext cx="6135480" cy="642960"/>
          </a:xfrm>
          <a:prstGeom prst="rect">
            <a:avLst/>
          </a:prstGeom>
          <a:ln w="0">
            <a:noFill/>
          </a:ln>
        </p:spPr>
      </p:pic>
      <p:pic>
        <p:nvPicPr>
          <p:cNvPr id="46" name="" descr=""/>
          <p:cNvPicPr/>
          <p:nvPr/>
        </p:nvPicPr>
        <p:blipFill>
          <a:blip r:embed="rId4"/>
          <a:stretch/>
        </p:blipFill>
        <p:spPr>
          <a:xfrm>
            <a:off x="1141560" y="6321600"/>
            <a:ext cx="259236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Slide Master Background - Content Page.jp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7" descr="Slide Master Background - Content Page.jpg"/>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6C40A-C788-4444-9E70-5FD7888877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7" descr="Slide Master Background - Content Page.jpg"/>
          <p:cNvPicPr/>
          <p:nvPr/>
        </p:nvPicPr>
        <p:blipFill>
          <a:blip r:embed="rId2"/>
          <a:stretch/>
        </p:blipFill>
        <p:spPr>
          <a:xfrm>
            <a:off x="0" y="0"/>
            <a:ext cx="9144000" cy="6858000"/>
          </a:xfrm>
          <a:prstGeom prst="rect">
            <a:avLst/>
          </a:prstGeom>
          <a:ln w="0">
            <a:noFill/>
          </a:ln>
        </p:spPr>
      </p:pic>
      <p:sp>
        <p:nvSpPr>
          <p:cNvPr id="164"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05366-A67E-413E-B2FC-A6061F839E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lide Master Background - Content Page.jpg"/>
          <p:cNvPicPr/>
          <p:nvPr/>
        </p:nvPicPr>
        <p:blipFill>
          <a:blip r:embed="rId2"/>
          <a:stretch/>
        </p:blipFill>
        <p:spPr>
          <a:xfrm>
            <a:off x="0" y="0"/>
            <a:ext cx="9144000" cy="6858000"/>
          </a:xfrm>
          <a:prstGeom prst="rect">
            <a:avLst/>
          </a:prstGeom>
          <a:ln w="0">
            <a:noFill/>
          </a:ln>
        </p:spPr>
      </p:pic>
      <p:sp>
        <p:nvSpPr>
          <p:cNvPr id="206"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FA77E-1E57-4545-A8BD-292A7EDB4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Slide Master Background - Content Page.jpg"/>
          <p:cNvPicPr/>
          <p:nvPr/>
        </p:nvPicPr>
        <p:blipFill>
          <a:blip r:embed="rId2"/>
          <a:stretch/>
        </p:blipFill>
        <p:spPr>
          <a:xfrm>
            <a:off x="0" y="0"/>
            <a:ext cx="9144000" cy="6858000"/>
          </a:xfrm>
          <a:prstGeom prst="rect">
            <a:avLst/>
          </a:prstGeom>
          <a:ln w="0">
            <a:noFill/>
          </a:ln>
        </p:spPr>
      </p:pic>
      <p:sp>
        <p:nvSpPr>
          <p:cNvPr id="248"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06993-8C09-432D-858C-DFF8EC3753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Slide Master Background - Content Page.jp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D050C-4FF8-4943-B49C-57FB29F262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7" descr="Slide Master Background - Content Page.jpg"/>
          <p:cNvPicPr/>
          <p:nvPr/>
        </p:nvPicPr>
        <p:blipFill>
          <a:blip r:embed="rId2"/>
          <a:stretch/>
        </p:blipFill>
        <p:spPr>
          <a:xfrm>
            <a:off x="0" y="0"/>
            <a:ext cx="9144000" cy="6858000"/>
          </a:xfrm>
          <a:prstGeom prst="rect">
            <a:avLst/>
          </a:prstGeom>
          <a:ln w="0">
            <a:noFill/>
          </a:ln>
        </p:spPr>
      </p:pic>
      <p:sp>
        <p:nvSpPr>
          <p:cNvPr id="331"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5"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C7FAC-368D-4EC8-B2F4-0514091CAF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http://www.digicert.com/" TargetMode="External"/><Relationship Id="rId2" Type="http://schemas.openxmlformats.org/officeDocument/2006/relationships/hyperlink" Target="mailto:support@DigiCert.com" TargetMode="External"/><Relationship Id="rId3" Type="http://schemas.openxmlformats.org/officeDocument/2006/relationships/hyperlink" Target="mailto:Scott@DigiCert.com"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606480" y="3327480"/>
            <a:ext cx="5429160" cy="799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tandards for Registration Practices Statements</a:t>
            </a:r>
            <a:endParaRPr b="0" lang="en-US" sz="3200" spc="-1" strike="noStrike">
              <a:solidFill>
                <a:srgbClr val="000000"/>
              </a:solidFill>
              <a:latin typeface="Arial"/>
            </a:endParaRPr>
          </a:p>
        </p:txBody>
      </p:sp>
      <p:sp>
        <p:nvSpPr>
          <p:cNvPr id="414" name="PlaceHolder 2"/>
          <p:cNvSpPr>
            <a:spLocks noGrp="1"/>
          </p:cNvSpPr>
          <p:nvPr>
            <p:ph type="subTitle"/>
          </p:nvPr>
        </p:nvSpPr>
        <p:spPr>
          <a:xfrm>
            <a:off x="3606480" y="4184280"/>
            <a:ext cx="5429160" cy="79380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a6a6a6"/>
                </a:solidFill>
                <a:latin typeface="Arial"/>
              </a:rPr>
              <a:t>IGTF Consid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4.  CERTIFICATE LIFE-CYCLE OPERATIONAL REQUIREMENTS </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1  Who can submit a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2  Enrollment process and responsibil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 Certificate application process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1 Performing identification and authentication fun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2 Approval or rejection of certificate applica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3  Time to process certificate application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4.9  Certificate revocation and suspens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1  Circumstances fo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2  Who can request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3  Procedure for revocation reques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4  Revocation request grace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5  Time within which RA must process the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2  Procedural control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1  Trusted rol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2  Number of persons required per task</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3  Identification and authentication for each rol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4  Roles requiring separation of duties</a:t>
            </a:r>
            <a:endParaRPr b="0" lang="en-US" sz="1000" spc="-1" strike="noStrike">
              <a:solidFill>
                <a:srgbClr val="000000"/>
              </a:solidFill>
              <a:latin typeface="Arial"/>
            </a:endParaRPr>
          </a:p>
          <a:p>
            <a:pPr lvl="1" marL="74304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3  Personnel control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1  Qualifications, experience, and clearance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2  Background check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3  Training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4  Retraining frequency and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5  Job rotation frequency and sequenc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6  Sanctions for unauthorized action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7  Independent contractor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8  Documentation supplied to personne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  Audit logging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1  Types of events record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2  Frequency of processing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3  Retention period for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4  Protection of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5  Audit log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6  Audit collection system (internal vs.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7  Notification to event-causing subjec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8  Vulnerability assess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  Records archiv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1  Types of records archiv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2  Retention period for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3  Protection of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4  Archive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5  Requirements for time-stamping of record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6  Archive collection system (internal or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7  Procedures to obtain and verify archive information</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7  Compromise and disaster recover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1  Incident and compromise handling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2  Computing resources, software, and/or data are corrupted</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3  Entity private key compromise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4  Business continuity capabilities after a disast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8  CA or RA termination</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2  Private key delivery to subscrib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3  Public key delivery to certificate issuer</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5.1  Specific computer security technical requirements</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1  System develop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2  Security manage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3  Life cycle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7  Network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8  Time-stamping</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8 COMPLIANCE AUDIT AND OTHER ASSESSMEN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1  Frequency or circumstances of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2  Identity/qualifications of assesso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3  Assessor's relationship to assessed ent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4  Topics covered by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5  Actions taken as a result of deficien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6  Communication of resul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9.  OTHER BUSINESS AND LEGAL MATTER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Certificate issuance or renewal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Certificate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Revocation or status information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Fees for other servi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Refund poli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  Financial responsibil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1  Insurance coverag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2  Other asse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3  Insurance or warranty coverage for end-entiti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  Confidentiality of business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1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2  Information not within the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3  Responsibility to protect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  Privacy of person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1  Privacy pla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2  Information treated as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3  Information not deemed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4  Responsibility to protect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5  Notice and consent to use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6   Disclosure pursuant to judicial or administrative proces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7  Other information disclosure circumstan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5  Intellectual property righ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  Representations and warranti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2  RA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3  Subscriber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4  Relying party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5  Representations and warranties of other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7  Disclaimers of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8  Limitations of liabil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9  Indemn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  Term and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1  Term</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2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3  Effect of termination and surviva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Individual notices and communications with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Amendme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1  Procedure for amendmen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2  Notification mechanism and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3  Circumstances under which OID must be change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Dispute resolution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Governing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Compliance with applicable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  Miscellaneous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1  Entire agreemen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can be considered as a subordinate document to the C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should use the RFC 3647 Framework of 9 defined areas that mirrors the structure of a CP and/or CPS docu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is allows easy comparisons of the relative policy and practice docu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Ensures completeness of the material cove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n-applicable areas of RFC 3647 for an RPS can be designated as such</a:t>
            </a:r>
            <a:endParaRPr b="0" lang="en-US" sz="2400" spc="-1" strike="noStrike">
              <a:solidFill>
                <a:srgbClr val="000000"/>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DigiCert Contacts</a:t>
            </a:r>
            <a:endParaRPr b="0" lang="en-US" sz="4000" spc="-1" strike="noStrike">
              <a:solidFill>
                <a:srgbClr val="000000"/>
              </a:solidFill>
              <a:latin typeface="Arial"/>
            </a:endParaRPr>
          </a:p>
        </p:txBody>
      </p:sp>
      <p:sp>
        <p:nvSpPr>
          <p:cNvPr id="446" name="PlaceHolder 2"/>
          <p:cNvSpPr>
            <a:spLocks noGrp="1"/>
          </p:cNvSpPr>
          <p:nvPr>
            <p:ph/>
          </p:nvPr>
        </p:nvSpPr>
        <p:spPr>
          <a:xfrm>
            <a:off x="739800" y="2661840"/>
            <a:ext cx="7781760" cy="3027240"/>
          </a:xfrm>
          <a:prstGeom prst="rect">
            <a:avLst/>
          </a:prstGeom>
          <a:noFill/>
          <a:ln w="0">
            <a:noFill/>
          </a:ln>
        </p:spPr>
        <p:txBody>
          <a:bodyPr anchor="ctr">
            <a:norm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Website: </a:t>
            </a:r>
            <a:r>
              <a:rPr b="0" lang="en-US" sz="2200" spc="-1" strike="noStrike" u="sng">
                <a:solidFill>
                  <a:srgbClr val="0e7ec3"/>
                </a:solidFill>
                <a:uFillTx/>
                <a:latin typeface="Arial"/>
                <a:hlinkClick r:id="rId1"/>
              </a:rPr>
              <a:t>http://www.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mail: </a:t>
            </a:r>
            <a:r>
              <a:rPr b="0" lang="en-US" sz="2200" spc="-1" strike="noStrike" u="sng">
                <a:solidFill>
                  <a:srgbClr val="0e7ec3"/>
                </a:solidFill>
                <a:uFillTx/>
                <a:latin typeface="Arial"/>
                <a:hlinkClick r:id="rId2"/>
              </a:rPr>
              <a:t>suppor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cott Rea: (801) 701-9636, </a:t>
            </a:r>
            <a:r>
              <a:rPr b="0" lang="en-US" sz="2200" spc="-1" strike="noStrike" u="sng">
                <a:solidFill>
                  <a:srgbClr val="0e7ec3"/>
                </a:solidFill>
                <a:uFillTx/>
                <a:latin typeface="Arial"/>
                <a:hlinkClick r:id="rId3"/>
              </a:rPr>
              <a:t>Scot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47" name="Straight Connector 4"/>
          <p:cNvSpPr/>
          <p:nvPr/>
        </p:nvSpPr>
        <p:spPr>
          <a:xfrm>
            <a:off x="542880" y="2247840"/>
            <a:ext cx="7978680" cy="0"/>
          </a:xfrm>
          <a:prstGeom prst="line">
            <a:avLst/>
          </a:prstGeom>
          <a:ln w="25560">
            <a:solidFill>
              <a:srgbClr val="0e7e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IGTF RPS Standard</a:t>
            </a:r>
            <a:endParaRPr b="0" lang="en-US" sz="4000" spc="-1" strike="noStrike">
              <a:solidFill>
                <a:srgbClr val="000000"/>
              </a:solidFill>
              <a:latin typeface="Arial"/>
            </a:endParaRPr>
          </a:p>
        </p:txBody>
      </p:sp>
      <p:sp>
        <p:nvSpPr>
          <p:cNvPr id="416" name=""/>
          <p:cNvSpPr txBox="1"/>
          <p:nvPr/>
        </p:nvSpPr>
        <p:spPr>
          <a:xfrm>
            <a:off x="1895040" y="1885680"/>
            <a:ext cx="6791400" cy="373356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u="sng">
                <a:solidFill>
                  <a:srgbClr val="000000"/>
                </a:solidFill>
                <a:uFillTx/>
                <a:latin typeface="Arial"/>
              </a:rPr>
              <a:t>Slide</a:t>
            </a:r>
            <a:r>
              <a:rPr b="1" lang="en-US" sz="2000" spc="-1" strike="noStrike">
                <a:solidFill>
                  <a:srgbClr val="000000"/>
                </a:solidFill>
                <a:latin typeface="Arial"/>
              </a:rPr>
              <a:t>     </a:t>
            </a:r>
            <a:r>
              <a:rPr b="1" lang="en-US" sz="2000" spc="-1" strike="noStrike" u="sng">
                <a:solidFill>
                  <a:srgbClr val="000000"/>
                </a:solidFill>
                <a:uFillTx/>
                <a:latin typeface="Arial"/>
              </a:rPr>
              <a:t>Title</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PKI Policy Structure</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5       CP vs CP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       Framework</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       Recommendation</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5       Summary</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6       Contacts</a:t>
            </a:r>
            <a:endParaRPr b="0" lang="en-US" sz="1800" spc="-1" strike="noStrike">
              <a:solidFill>
                <a:srgbClr val="000000"/>
              </a:solidFill>
              <a:latin typeface="Arial"/>
            </a:endParaRPr>
          </a:p>
        </p:txBody>
      </p:sp>
      <p:sp>
        <p:nvSpPr>
          <p:cNvPr id="417" name="PlaceHolder 2"/>
          <p:cNvSpPr>
            <a:spLocks noGrp="1"/>
          </p:cNvSpPr>
          <p:nvPr>
            <p:ph/>
          </p:nvPr>
        </p:nvSpPr>
        <p:spPr>
          <a:xfrm>
            <a:off x="905040" y="757080"/>
            <a:ext cx="7781760" cy="276480"/>
          </a:xfrm>
          <a:prstGeom prst="rect">
            <a:avLst/>
          </a:prstGeom>
          <a:noFill/>
          <a:ln w="0">
            <a:noFill/>
          </a:ln>
        </p:spPr>
        <p:txBody>
          <a:bodyPr anchor="ctr">
            <a:normAutofit fontScale="55000"/>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Table of Contents</a:t>
            </a:r>
            <a:endParaRPr b="0" lang="en-US" sz="2200" spc="-1" strike="noStrike">
              <a:solidFill>
                <a:srgbClr val="000000"/>
              </a:solidFill>
              <a:latin typeface="Arial"/>
            </a:endParaRPr>
          </a:p>
        </p:txBody>
      </p:sp>
      <p:sp>
        <p:nvSpPr>
          <p:cNvPr id="418" name="Straight Connector 5"/>
          <p:cNvSpPr/>
          <p:nvPr/>
        </p:nvSpPr>
        <p:spPr>
          <a:xfrm>
            <a:off x="3000240" y="2262240"/>
            <a:ext cx="0" cy="3357360"/>
          </a:xfrm>
          <a:prstGeom prst="line">
            <a:avLst/>
          </a:prstGeom>
          <a:ln w="50760">
            <a:solidFill>
              <a:srgbClr val="0e7e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Internet X.509 Public Key Infrastructure Certificate Policy and Certification Practices Frame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shed in 2003, as an update to 252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Ps and CPSs play a central role in documenting the requirements and practices of a PK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s is how a CA conveys to a Relying Party what it does to bind identities to keys and how it protects the infrastructure that facilitates that process</a:t>
            </a:r>
            <a:endParaRPr b="0" lang="en-US" sz="2800" spc="-1" strike="noStrike">
              <a:solidFill>
                <a:srgbClr val="000000"/>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named set of rules that indicates the applicability of a certificate to a particular community and/or class of application with common security requiremen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S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statement of the practices which a certification authority employs in issuing certifica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
            </a:r>
            <a:r>
              <a:rPr b="0" lang="en-US" sz="2400" spc="-1" strike="noStrike">
                <a:solidFill>
                  <a:srgbClr val="000000"/>
                </a:solidFill>
                <a:latin typeface="Arial"/>
              </a:rPr>
              <a:t>A more detailed description of the practices followed by a CA in issuing and otherwise managing certificates may be contained in a certification practice statement (CPS) published by or referenced by the 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P vs CPS</a:t>
            </a:r>
            <a:endParaRPr b="0" lang="en-US" sz="28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lationship Between Certificate Policy and Certification</a:t>
            </a:r>
            <a:r>
              <a:rPr b="1" lang="en-US" sz="2800" spc="-1" strike="noStrike">
                <a:solidFill>
                  <a:srgbClr val="000000"/>
                </a:solidFill>
                <a:latin typeface="Arial"/>
              </a:rPr>
              <a:t> </a:t>
            </a:r>
            <a:r>
              <a:rPr b="0" lang="en-US" sz="2800" spc="-1" strike="noStrike">
                <a:solidFill>
                  <a:srgbClr val="000000"/>
                </a:solidFill>
                <a:latin typeface="Arial"/>
              </a:rPr>
              <a:t>Practice State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CP and CPS address the same set of topics that are of interest to the relying party in terms of the degree to and purpose for which a public key certificate should be trus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ir primary difference is in the focus of their provision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 is to establish what participants must do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S is to disclose how the participants perform their functions and implement contro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defines a Framework of 9 areas that a CP/CPS should addr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 Introduc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2. Publication and Reposito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3. Identification and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4. Certificate Life-Cycle Operational Requireme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5. Facilities, Management, and Operational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6. Technical Security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7. Certificate, CRL, and OCSP Profil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8. Compliance audi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9. Other Business and Legal Matt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PKIs can use this simple framework of nine primary components to write a simple CP or CPS. Moreover, a CA can use this same framework to write a subscriber agreement, relying party agreement, or agreement containing subscriber and relying party terms.”</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This simple framework may also be useful for agreements other than subscriber agreements and relying party agreements. For instance, a CA wishing to outsource certain services to an RA or certificate manufacturing authority (CMA) may find it useful to use this framework as a checklist to write a registration authority agreement or outsourcing agreem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t>
            </a:r>
            <a:r>
              <a:rPr b="0" lang="en-US" sz="2400" spc="-1" strike="noStrike">
                <a:solidFill>
                  <a:srgbClr val="000000"/>
                </a:solidFill>
                <a:latin typeface="Arial"/>
              </a:rPr>
              <a:t>a PKI can establish a set of core documents (with a CP, CPS, subscriber agreement, and relying party agreement) all having the same structure and ordering of topics, thereby facilitating comparisons and mappings among these documents and among the corresponding documents of other PK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RPS can be considered as a subordinate document to the C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1.2.  DOCUMENT NAME AND IDENTIFICATION</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2.</a:t>
            </a:r>
            <a:r>
              <a:rPr b="0" lang="en-US" sz="1000" spc="-1" strike="noStrike">
                <a:solidFill>
                  <a:srgbClr val="000000"/>
                </a:solidFill>
                <a:latin typeface="Arial"/>
              </a:rPr>
              <a:t>	</a:t>
            </a:r>
            <a:r>
              <a:rPr b="0" lang="en-US" sz="1000" spc="-1" strike="noStrike">
                <a:solidFill>
                  <a:srgbClr val="000000"/>
                </a:solidFill>
                <a:latin typeface="Arial"/>
              </a:rPr>
              <a:t>Registration Author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3.</a:t>
            </a:r>
            <a:r>
              <a:rPr b="0" lang="en-US" sz="1000" spc="-1" strike="noStrike">
                <a:solidFill>
                  <a:srgbClr val="000000"/>
                </a:solidFill>
                <a:latin typeface="Arial"/>
              </a:rPr>
              <a:t>	</a:t>
            </a:r>
            <a:r>
              <a:rPr b="0" lang="en-US" sz="1000" spc="-1" strike="noStrike">
                <a:solidFill>
                  <a:srgbClr val="000000"/>
                </a:solidFill>
                <a:latin typeface="Arial"/>
              </a:rPr>
              <a:t>Subscriber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  IDENTIFICATION AND AUTHENT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1  Nam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1  Type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2  Need for names to be meaningfu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3  Anonymity or pseudonymity of subscriber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4  Rules for interpreting various name form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5  Uniquenes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6  Recognition, authentication, and role of trademark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2  Initial identity valid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1  Method to prove possession of private 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2  Authentication of organization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3  Authentication of individual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4  Non-verified subscriber inform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5 Validation of author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6  Criteria for interoper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  Identification and authentication for re-key reques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1  Identification and authentication for routine re-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2  Identification and authentication for re-key afte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4 Identification and authentication for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6:50:58Z</dcterms:created>
  <dc:creator>Travis Tidball</dc:creator>
  <dc:description/>
  <dc:language>en-US</dc:language>
  <cp:lastModifiedBy>Scott</cp:lastModifiedBy>
  <dcterms:modified xsi:type="dcterms:W3CDTF">2012-02-10T15:02:24Z</dcterms:modified>
  <cp:revision>71</cp:revision>
  <dc:subject/>
  <dc:title>Slide 1</dc:title>
</cp:coreProperties>
</file>